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0A85-D3DB-428B-A6EB-31459A05A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425B-D2CC-4159-817E-1FCFE3AC7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D6DF-74BA-47FF-AFBB-DB4565EB8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E188-1A74-4A94-8912-243FF6754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81A50-8D7B-4D12-B64C-1AB83637B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2E48B-8DC7-49D8-B7E6-CC9B95706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30DD6-2A45-4B3B-9BF2-4EBE83609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FB069-294C-486B-8D3A-0EBDAB78F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A7B0C-D72E-435D-A5B3-21986824B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012B7-8ECD-4B1F-80F0-047BDC52E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E708F-D745-4EB4-ABBC-5E60388E6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44D9-AD31-4D15-86E7-68EDC0CE8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A249B-DFED-4894-9F39-D0709DE36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F8AB4-3B74-4C9E-B9F9-65EE9FA5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919BB-CE37-4F0E-A7F8-8449E9FA0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1A2D3-FFEA-4F6B-8657-B895F8D63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A3A7B-6F25-4FFF-BB56-7C1F2A7C6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D7DA-C4DE-45F6-B941-BB59A1FD9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C9F6-9285-4E5B-B372-498E26D9B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E596-148F-4938-8FD0-DA03D3CFA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B0E9-C03A-48E7-896C-626FB79B3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24C5-26C5-4807-9927-68DEA57C9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CE40-9096-4F9C-9A91-60AC1BED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EC97-C866-444B-B4B8-B265B7614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253AC-0A5A-453F-97D3-B6C3BBAC6CB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81D01-39C6-469B-B437-077E1D8B70E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685800" y="304560"/>
            <a:ext cx="6858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ec. 12 Warm-up: Solve the Multiplication Equ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) 12y = 8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) 3.5n = 10.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) 36 = 6j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1428840" y="1490760"/>
            <a:ext cx="1733400" cy="3295440"/>
          </a:xfrm>
          <a:custGeom>
            <a:avLst/>
            <a:gdLst/>
            <a:ahLst/>
            <a:rect l="l" t="t" r="r" b="b"/>
            <a:pathLst>
              <a:path w="4813" h="9154">
                <a:moveTo>
                  <a:pt x="4242" y="5705"/>
                </a:moveTo>
                <a:cubicBezTo>
                  <a:pt x="4293" y="5812"/>
                  <a:pt x="4371" y="5912"/>
                  <a:pt x="4390" y="6028"/>
                </a:cubicBezTo>
              </a:path>
              <a:path w="4813" h="9154">
                <a:moveTo>
                  <a:pt x="8781" y="4142"/>
                </a:moveTo>
                <a:cubicBezTo>
                  <a:pt x="8746" y="4341"/>
                  <a:pt x="8737" y="4541"/>
                  <a:pt x="8706" y="4738"/>
                </a:cubicBezTo>
              </a:path>
              <a:path w="4813" h="9154">
                <a:moveTo>
                  <a:pt x="4167" y="8161"/>
                </a:moveTo>
                <a:cubicBezTo>
                  <a:pt x="4167" y="8169"/>
                  <a:pt x="4167" y="8178"/>
                  <a:pt x="4167" y="8186"/>
                </a:cubicBezTo>
              </a:path>
              <a:path w="4813" h="9154">
                <a:moveTo>
                  <a:pt x="6921" y="8409"/>
                </a:moveTo>
                <a:cubicBezTo>
                  <a:pt x="6921" y="8417"/>
                  <a:pt x="6921" y="8426"/>
                  <a:pt x="6921" y="8434"/>
                </a:cubicBezTo>
              </a:path>
              <a:path w="4813" h="9154">
                <a:moveTo>
                  <a:pt x="3969" y="12874"/>
                </a:moveTo>
                <a:lnTo>
                  <a:pt x="3969" y="12874"/>
                </a:lnTo>
              </a:path>
              <a:path w="4813" h="9154">
                <a:moveTo>
                  <a:pt x="3969" y="12898"/>
                </a:moveTo>
                <a:lnTo>
                  <a:pt x="3969" y="12898"/>
                </a:lnTo>
              </a:path>
              <a:path w="4813" h="9154">
                <a:moveTo>
                  <a:pt x="3969" y="12898"/>
                </a:moveTo>
                <a:cubicBezTo>
                  <a:pt x="3969" y="12906"/>
                  <a:pt x="3969" y="12915"/>
                  <a:pt x="3969" y="12923"/>
                </a:cubicBezTo>
              </a:path>
              <a:path w="4813" h="9154">
                <a:moveTo>
                  <a:pt x="3969" y="12923"/>
                </a:moveTo>
                <a:lnTo>
                  <a:pt x="3969" y="12923"/>
                </a:lnTo>
              </a:path>
              <a:path w="4813" h="9154">
                <a:moveTo>
                  <a:pt x="4738" y="13295"/>
                </a:moveTo>
                <a:cubicBezTo>
                  <a:pt x="4813" y="13242"/>
                  <a:pt x="4873" y="13224"/>
                  <a:pt x="4961" y="131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1200" y="1231920"/>
            <a:ext cx="2438640" cy="4118040"/>
          </a:xfrm>
          <a:custGeom>
            <a:avLst/>
            <a:gdLst/>
            <a:ahLst/>
            <a:rect l="l" t="t" r="r" b="b"/>
            <a:pathLst>
              <a:path w="6772" h="11436">
                <a:moveTo>
                  <a:pt x="3299" y="4440"/>
                </a:moveTo>
                <a:cubicBezTo>
                  <a:pt x="3312" y="4401"/>
                  <a:pt x="3426" y="4393"/>
                  <a:pt x="3473" y="4390"/>
                </a:cubicBezTo>
                <a:cubicBezTo>
                  <a:pt x="3730" y="4375"/>
                  <a:pt x="3987" y="4375"/>
                  <a:pt x="4242" y="4341"/>
                </a:cubicBezTo>
                <a:cubicBezTo>
                  <a:pt x="4356" y="4326"/>
                  <a:pt x="4511" y="4366"/>
                  <a:pt x="4614" y="4341"/>
                </a:cubicBezTo>
                <a:cubicBezTo>
                  <a:pt x="4654" y="4331"/>
                  <a:pt x="4645" y="4286"/>
                  <a:pt x="4663" y="4341"/>
                </a:cubicBezTo>
              </a:path>
              <a:path w="6772" h="11436">
                <a:moveTo>
                  <a:pt x="3522" y="4638"/>
                </a:moveTo>
                <a:cubicBezTo>
                  <a:pt x="3522" y="4774"/>
                  <a:pt x="3519" y="4905"/>
                  <a:pt x="3473" y="5035"/>
                </a:cubicBezTo>
                <a:cubicBezTo>
                  <a:pt x="3473" y="5027"/>
                  <a:pt x="3473" y="5019"/>
                  <a:pt x="3473" y="5011"/>
                </a:cubicBezTo>
              </a:path>
              <a:path w="6772" h="11436">
                <a:moveTo>
                  <a:pt x="3746" y="4614"/>
                </a:moveTo>
                <a:cubicBezTo>
                  <a:pt x="3759" y="4574"/>
                  <a:pt x="3793" y="4566"/>
                  <a:pt x="3845" y="4564"/>
                </a:cubicBezTo>
                <a:cubicBezTo>
                  <a:pt x="3982" y="4558"/>
                  <a:pt x="4039" y="4685"/>
                  <a:pt x="4018" y="4812"/>
                </a:cubicBezTo>
                <a:cubicBezTo>
                  <a:pt x="4002" y="4907"/>
                  <a:pt x="3882" y="5205"/>
                  <a:pt x="3746" y="5035"/>
                </a:cubicBezTo>
                <a:cubicBezTo>
                  <a:pt x="3714" y="4995"/>
                  <a:pt x="3773" y="4878"/>
                  <a:pt x="3795" y="4862"/>
                </a:cubicBezTo>
                <a:cubicBezTo>
                  <a:pt x="3903" y="4785"/>
                  <a:pt x="4009" y="4869"/>
                  <a:pt x="4068" y="4961"/>
                </a:cubicBezTo>
                <a:cubicBezTo>
                  <a:pt x="4068" y="4986"/>
                  <a:pt x="4068" y="4994"/>
                  <a:pt x="4068" y="5011"/>
                </a:cubicBezTo>
              </a:path>
              <a:path w="6772" h="11436">
                <a:moveTo>
                  <a:pt x="3820" y="3646"/>
                </a:moveTo>
                <a:cubicBezTo>
                  <a:pt x="3785" y="3832"/>
                  <a:pt x="3805" y="3993"/>
                  <a:pt x="3820" y="4192"/>
                </a:cubicBezTo>
                <a:cubicBezTo>
                  <a:pt x="3843" y="4498"/>
                  <a:pt x="3860" y="4805"/>
                  <a:pt x="3870" y="5110"/>
                </a:cubicBezTo>
                <a:cubicBezTo>
                  <a:pt x="3873" y="5212"/>
                  <a:pt x="3850" y="5098"/>
                  <a:pt x="3845" y="5060"/>
                </a:cubicBezTo>
                <a:cubicBezTo>
                  <a:pt x="3801" y="4713"/>
                  <a:pt x="3795" y="4391"/>
                  <a:pt x="3820" y="4043"/>
                </a:cubicBezTo>
                <a:cubicBezTo>
                  <a:pt x="3821" y="4038"/>
                  <a:pt x="3845" y="3698"/>
                  <a:pt x="3845" y="3770"/>
                </a:cubicBezTo>
                <a:cubicBezTo>
                  <a:pt x="3845" y="4143"/>
                  <a:pt x="3825" y="4515"/>
                  <a:pt x="3795" y="4887"/>
                </a:cubicBezTo>
                <a:cubicBezTo>
                  <a:pt x="3783" y="5036"/>
                  <a:pt x="3768" y="5109"/>
                  <a:pt x="3746" y="5234"/>
                </a:cubicBezTo>
                <a:cubicBezTo>
                  <a:pt x="3746" y="4938"/>
                  <a:pt x="3762" y="4663"/>
                  <a:pt x="3795" y="4366"/>
                </a:cubicBezTo>
                <a:cubicBezTo>
                  <a:pt x="3830" y="4052"/>
                  <a:pt x="3871" y="3738"/>
                  <a:pt x="3894" y="3423"/>
                </a:cubicBezTo>
                <a:cubicBezTo>
                  <a:pt x="3883" y="3729"/>
                  <a:pt x="3864" y="4035"/>
                  <a:pt x="3845" y="4341"/>
                </a:cubicBezTo>
                <a:cubicBezTo>
                  <a:pt x="3844" y="4351"/>
                  <a:pt x="3770" y="5456"/>
                  <a:pt x="3770" y="4936"/>
                </a:cubicBezTo>
                <a:cubicBezTo>
                  <a:pt x="3770" y="4589"/>
                  <a:pt x="3770" y="4241"/>
                  <a:pt x="3770" y="3894"/>
                </a:cubicBezTo>
                <a:cubicBezTo>
                  <a:pt x="3757" y="3761"/>
                  <a:pt x="3764" y="3562"/>
                  <a:pt x="3770" y="3696"/>
                </a:cubicBezTo>
                <a:cubicBezTo>
                  <a:pt x="3784" y="4009"/>
                  <a:pt x="3770" y="4325"/>
                  <a:pt x="3770" y="4638"/>
                </a:cubicBezTo>
              </a:path>
              <a:path w="6772" h="11436">
                <a:moveTo>
                  <a:pt x="4514" y="5581"/>
                </a:moveTo>
                <a:cubicBezTo>
                  <a:pt x="4491" y="5772"/>
                  <a:pt x="4443" y="5961"/>
                  <a:pt x="4415" y="6152"/>
                </a:cubicBezTo>
                <a:cubicBezTo>
                  <a:pt x="4395" y="6285"/>
                  <a:pt x="4366" y="6414"/>
                  <a:pt x="4366" y="6548"/>
                </a:cubicBezTo>
              </a:path>
              <a:path w="6772" h="11436">
                <a:moveTo>
                  <a:pt x="4986" y="5804"/>
                </a:moveTo>
                <a:cubicBezTo>
                  <a:pt x="5018" y="5804"/>
                  <a:pt x="5094" y="5766"/>
                  <a:pt x="5110" y="5779"/>
                </a:cubicBezTo>
                <a:cubicBezTo>
                  <a:pt x="5110" y="5787"/>
                  <a:pt x="5110" y="5796"/>
                  <a:pt x="5110" y="5804"/>
                </a:cubicBezTo>
              </a:path>
              <a:path w="6772" h="11436">
                <a:moveTo>
                  <a:pt x="4961" y="5978"/>
                </a:moveTo>
                <a:cubicBezTo>
                  <a:pt x="5022" y="5978"/>
                  <a:pt x="5060" y="5946"/>
                  <a:pt x="5110" y="5928"/>
                </a:cubicBezTo>
                <a:cubicBezTo>
                  <a:pt x="5118" y="5928"/>
                  <a:pt x="5127" y="5928"/>
                  <a:pt x="5135" y="5928"/>
                </a:cubicBezTo>
              </a:path>
              <a:path w="6772" h="11436">
                <a:moveTo>
                  <a:pt x="5606" y="4514"/>
                </a:moveTo>
                <a:cubicBezTo>
                  <a:pt x="5592" y="4473"/>
                  <a:pt x="5860" y="4427"/>
                  <a:pt x="5928" y="4415"/>
                </a:cubicBezTo>
                <a:cubicBezTo>
                  <a:pt x="6109" y="4383"/>
                  <a:pt x="6268" y="4415"/>
                  <a:pt x="6449" y="4415"/>
                </a:cubicBezTo>
                <a:cubicBezTo>
                  <a:pt x="6457" y="4415"/>
                  <a:pt x="6466" y="4415"/>
                  <a:pt x="6474" y="4415"/>
                </a:cubicBezTo>
              </a:path>
              <a:path w="6772" h="11436">
                <a:moveTo>
                  <a:pt x="5904" y="4564"/>
                </a:moveTo>
                <a:cubicBezTo>
                  <a:pt x="5877" y="4697"/>
                  <a:pt x="5866" y="4845"/>
                  <a:pt x="5854" y="4986"/>
                </a:cubicBezTo>
                <a:cubicBezTo>
                  <a:pt x="5854" y="5027"/>
                  <a:pt x="5854" y="5051"/>
                  <a:pt x="5854" y="5011"/>
                </a:cubicBezTo>
              </a:path>
              <a:path w="6772" h="11436">
                <a:moveTo>
                  <a:pt x="6052" y="4614"/>
                </a:moveTo>
                <a:cubicBezTo>
                  <a:pt x="6085" y="4603"/>
                  <a:pt x="6104" y="4530"/>
                  <a:pt x="6152" y="4490"/>
                </a:cubicBezTo>
                <a:cubicBezTo>
                  <a:pt x="6270" y="4391"/>
                  <a:pt x="6428" y="4471"/>
                  <a:pt x="6424" y="4638"/>
                </a:cubicBezTo>
                <a:cubicBezTo>
                  <a:pt x="6420" y="4805"/>
                  <a:pt x="6262" y="4903"/>
                  <a:pt x="6127" y="4936"/>
                </a:cubicBezTo>
                <a:cubicBezTo>
                  <a:pt x="6103" y="4816"/>
                  <a:pt x="6134" y="4680"/>
                  <a:pt x="6300" y="4713"/>
                </a:cubicBezTo>
                <a:cubicBezTo>
                  <a:pt x="6396" y="4732"/>
                  <a:pt x="6418" y="4818"/>
                  <a:pt x="6474" y="4837"/>
                </a:cubicBezTo>
              </a:path>
              <a:path w="6772" h="11436">
                <a:moveTo>
                  <a:pt x="5879" y="5581"/>
                </a:moveTo>
                <a:cubicBezTo>
                  <a:pt x="5879" y="5658"/>
                  <a:pt x="5923" y="5834"/>
                  <a:pt x="5879" y="5755"/>
                </a:cubicBezTo>
                <a:cubicBezTo>
                  <a:pt x="5856" y="5714"/>
                  <a:pt x="5838" y="5681"/>
                  <a:pt x="5829" y="5631"/>
                </a:cubicBezTo>
                <a:cubicBezTo>
                  <a:pt x="5917" y="5604"/>
                  <a:pt x="6011" y="5564"/>
                  <a:pt x="6102" y="5556"/>
                </a:cubicBezTo>
                <a:cubicBezTo>
                  <a:pt x="6127" y="5556"/>
                  <a:pt x="6135" y="5556"/>
                  <a:pt x="6152" y="5556"/>
                </a:cubicBezTo>
                <a:cubicBezTo>
                  <a:pt x="6121" y="5835"/>
                  <a:pt x="6089" y="6125"/>
                  <a:pt x="6028" y="6400"/>
                </a:cubicBezTo>
                <a:cubicBezTo>
                  <a:pt x="5989" y="6514"/>
                  <a:pt x="5973" y="6528"/>
                  <a:pt x="5978" y="6598"/>
                </a:cubicBezTo>
              </a:path>
              <a:path w="6772" h="11436">
                <a:moveTo>
                  <a:pt x="6672" y="6524"/>
                </a:moveTo>
                <a:cubicBezTo>
                  <a:pt x="6664" y="6398"/>
                  <a:pt x="6661" y="6247"/>
                  <a:pt x="6672" y="6102"/>
                </a:cubicBezTo>
                <a:cubicBezTo>
                  <a:pt x="6693" y="5823"/>
                  <a:pt x="6761" y="5531"/>
                  <a:pt x="6772" y="5259"/>
                </a:cubicBezTo>
                <a:cubicBezTo>
                  <a:pt x="6772" y="5231"/>
                  <a:pt x="6770" y="5220"/>
                  <a:pt x="6747" y="5209"/>
                </a:cubicBezTo>
                <a:cubicBezTo>
                  <a:pt x="6637" y="5202"/>
                  <a:pt x="6539" y="5184"/>
                  <a:pt x="6424" y="5184"/>
                </a:cubicBezTo>
                <a:cubicBezTo>
                  <a:pt x="6108" y="5184"/>
                  <a:pt x="5796" y="5191"/>
                  <a:pt x="5482" y="5209"/>
                </a:cubicBezTo>
                <a:cubicBezTo>
                  <a:pt x="5256" y="5222"/>
                  <a:pt x="5040" y="5259"/>
                  <a:pt x="4812" y="5259"/>
                </a:cubicBezTo>
                <a:cubicBezTo>
                  <a:pt x="4651" y="5259"/>
                  <a:pt x="4499" y="5280"/>
                  <a:pt x="4341" y="5283"/>
                </a:cubicBezTo>
                <a:cubicBezTo>
                  <a:pt x="4164" y="5287"/>
                  <a:pt x="3967" y="5342"/>
                  <a:pt x="3795" y="5333"/>
                </a:cubicBezTo>
                <a:cubicBezTo>
                  <a:pt x="3755" y="5331"/>
                  <a:pt x="3725" y="5312"/>
                  <a:pt x="3696" y="5308"/>
                </a:cubicBezTo>
                <a:cubicBezTo>
                  <a:pt x="3688" y="5499"/>
                  <a:pt x="3673" y="5687"/>
                  <a:pt x="3671" y="5879"/>
                </a:cubicBezTo>
                <a:cubicBezTo>
                  <a:pt x="3669" y="6056"/>
                  <a:pt x="3638" y="6251"/>
                  <a:pt x="3646" y="6424"/>
                </a:cubicBezTo>
                <a:cubicBezTo>
                  <a:pt x="3650" y="6508"/>
                  <a:pt x="3691" y="6595"/>
                  <a:pt x="3721" y="6672"/>
                </a:cubicBezTo>
                <a:cubicBezTo>
                  <a:pt x="3752" y="6752"/>
                  <a:pt x="3701" y="6713"/>
                  <a:pt x="3845" y="6722"/>
                </a:cubicBezTo>
                <a:cubicBezTo>
                  <a:pt x="4022" y="6733"/>
                  <a:pt x="4172" y="6777"/>
                  <a:pt x="4341" y="6821"/>
                </a:cubicBezTo>
                <a:cubicBezTo>
                  <a:pt x="4586" y="6885"/>
                  <a:pt x="4838" y="6908"/>
                  <a:pt x="5085" y="6945"/>
                </a:cubicBezTo>
                <a:cubicBezTo>
                  <a:pt x="5219" y="6965"/>
                  <a:pt x="5347" y="7009"/>
                  <a:pt x="5482" y="7020"/>
                </a:cubicBezTo>
                <a:cubicBezTo>
                  <a:pt x="5615" y="7031"/>
                  <a:pt x="5753" y="6989"/>
                  <a:pt x="5879" y="6995"/>
                </a:cubicBezTo>
                <a:cubicBezTo>
                  <a:pt x="6036" y="7003"/>
                  <a:pt x="6195" y="6982"/>
                  <a:pt x="6350" y="6995"/>
                </a:cubicBezTo>
                <a:cubicBezTo>
                  <a:pt x="6436" y="7002"/>
                  <a:pt x="6511" y="7017"/>
                  <a:pt x="6598" y="7020"/>
                </a:cubicBezTo>
                <a:cubicBezTo>
                  <a:pt x="6623" y="7021"/>
                  <a:pt x="6647" y="7019"/>
                  <a:pt x="6672" y="7020"/>
                </a:cubicBezTo>
                <a:cubicBezTo>
                  <a:pt x="6692" y="6909"/>
                  <a:pt x="6697" y="6649"/>
                  <a:pt x="6697" y="6623"/>
                </a:cubicBezTo>
              </a:path>
              <a:path w="6772" h="11436">
                <a:moveTo>
                  <a:pt x="3349" y="7888"/>
                </a:moveTo>
                <a:cubicBezTo>
                  <a:pt x="3488" y="7845"/>
                  <a:pt x="3743" y="7777"/>
                  <a:pt x="3919" y="7764"/>
                </a:cubicBezTo>
                <a:cubicBezTo>
                  <a:pt x="4179" y="7745"/>
                  <a:pt x="4434" y="7803"/>
                  <a:pt x="4688" y="7789"/>
                </a:cubicBezTo>
                <a:cubicBezTo>
                  <a:pt x="4768" y="7784"/>
                  <a:pt x="4774" y="7806"/>
                  <a:pt x="4837" y="7813"/>
                </a:cubicBezTo>
                <a:cubicBezTo>
                  <a:pt x="4885" y="7819"/>
                  <a:pt x="4937" y="7813"/>
                  <a:pt x="4986" y="7813"/>
                </a:cubicBezTo>
              </a:path>
              <a:path w="6772" h="11436">
                <a:moveTo>
                  <a:pt x="3646" y="8062"/>
                </a:moveTo>
                <a:cubicBezTo>
                  <a:pt x="3664" y="7991"/>
                  <a:pt x="3716" y="7978"/>
                  <a:pt x="3770" y="7987"/>
                </a:cubicBezTo>
                <a:cubicBezTo>
                  <a:pt x="3802" y="8094"/>
                  <a:pt x="3783" y="8110"/>
                  <a:pt x="3746" y="8186"/>
                </a:cubicBezTo>
                <a:cubicBezTo>
                  <a:pt x="3762" y="8136"/>
                  <a:pt x="3814" y="8146"/>
                  <a:pt x="3820" y="8210"/>
                </a:cubicBezTo>
                <a:cubicBezTo>
                  <a:pt x="3828" y="8292"/>
                  <a:pt x="3740" y="8498"/>
                  <a:pt x="3621" y="8409"/>
                </a:cubicBezTo>
                <a:cubicBezTo>
                  <a:pt x="3621" y="8349"/>
                  <a:pt x="3630" y="8330"/>
                  <a:pt x="3696" y="8334"/>
                </a:cubicBezTo>
              </a:path>
              <a:path w="6772" h="11436">
                <a:moveTo>
                  <a:pt x="4589" y="7888"/>
                </a:moveTo>
                <a:cubicBezTo>
                  <a:pt x="4518" y="7912"/>
                  <a:pt x="4386" y="7924"/>
                  <a:pt x="4366" y="8012"/>
                </a:cubicBezTo>
                <a:cubicBezTo>
                  <a:pt x="4366" y="8070"/>
                  <a:pt x="4366" y="8078"/>
                  <a:pt x="4366" y="8111"/>
                </a:cubicBezTo>
                <a:cubicBezTo>
                  <a:pt x="4410" y="8100"/>
                  <a:pt x="4570" y="8044"/>
                  <a:pt x="4589" y="8136"/>
                </a:cubicBezTo>
                <a:cubicBezTo>
                  <a:pt x="4617" y="8270"/>
                  <a:pt x="4449" y="8409"/>
                  <a:pt x="4316" y="8359"/>
                </a:cubicBezTo>
                <a:cubicBezTo>
                  <a:pt x="4308" y="8343"/>
                  <a:pt x="4299" y="8326"/>
                  <a:pt x="4291" y="8310"/>
                </a:cubicBezTo>
              </a:path>
              <a:path w="6772" h="11436">
                <a:moveTo>
                  <a:pt x="4093" y="6921"/>
                </a:moveTo>
                <a:cubicBezTo>
                  <a:pt x="4086" y="7015"/>
                  <a:pt x="4174" y="7425"/>
                  <a:pt x="4192" y="7541"/>
                </a:cubicBezTo>
                <a:cubicBezTo>
                  <a:pt x="4206" y="7631"/>
                  <a:pt x="4214" y="8311"/>
                  <a:pt x="4316" y="8409"/>
                </a:cubicBezTo>
                <a:cubicBezTo>
                  <a:pt x="4316" y="8384"/>
                  <a:pt x="4316" y="8376"/>
                  <a:pt x="4316" y="8359"/>
                </a:cubicBezTo>
                <a:cubicBezTo>
                  <a:pt x="4205" y="8055"/>
                  <a:pt x="4179" y="7758"/>
                  <a:pt x="4118" y="7441"/>
                </a:cubicBezTo>
                <a:cubicBezTo>
                  <a:pt x="4089" y="7289"/>
                  <a:pt x="4068" y="7194"/>
                  <a:pt x="4068" y="7045"/>
                </a:cubicBezTo>
                <a:cubicBezTo>
                  <a:pt x="4068" y="7053"/>
                  <a:pt x="4068" y="7061"/>
                  <a:pt x="4068" y="7069"/>
                </a:cubicBezTo>
                <a:cubicBezTo>
                  <a:pt x="4175" y="7419"/>
                  <a:pt x="4182" y="7815"/>
                  <a:pt x="4167" y="8186"/>
                </a:cubicBezTo>
                <a:cubicBezTo>
                  <a:pt x="4163" y="8278"/>
                  <a:pt x="4147" y="8386"/>
                  <a:pt x="4142" y="8483"/>
                </a:cubicBezTo>
                <a:cubicBezTo>
                  <a:pt x="4142" y="8178"/>
                  <a:pt x="4113" y="7868"/>
                  <a:pt x="4118" y="7565"/>
                </a:cubicBezTo>
                <a:cubicBezTo>
                  <a:pt x="4120" y="7424"/>
                  <a:pt x="4137" y="7265"/>
                  <a:pt x="4142" y="7119"/>
                </a:cubicBezTo>
              </a:path>
              <a:path w="6772" h="11436">
                <a:moveTo>
                  <a:pt x="6052" y="7863"/>
                </a:moveTo>
                <a:cubicBezTo>
                  <a:pt x="5974" y="7863"/>
                  <a:pt x="6148" y="7866"/>
                  <a:pt x="6226" y="7863"/>
                </a:cubicBezTo>
                <a:cubicBezTo>
                  <a:pt x="6558" y="7852"/>
                  <a:pt x="6887" y="7808"/>
                  <a:pt x="7218" y="7789"/>
                </a:cubicBezTo>
                <a:cubicBezTo>
                  <a:pt x="7291" y="7785"/>
                  <a:pt x="7367" y="7789"/>
                  <a:pt x="7441" y="7789"/>
                </a:cubicBezTo>
              </a:path>
              <a:path w="6772" h="11436">
                <a:moveTo>
                  <a:pt x="6598" y="8037"/>
                </a:moveTo>
                <a:cubicBezTo>
                  <a:pt x="6650" y="7975"/>
                  <a:pt x="6662" y="7971"/>
                  <a:pt x="6747" y="7962"/>
                </a:cubicBezTo>
                <a:cubicBezTo>
                  <a:pt x="6788" y="8124"/>
                  <a:pt x="6740" y="8142"/>
                  <a:pt x="6623" y="8260"/>
                </a:cubicBezTo>
                <a:cubicBezTo>
                  <a:pt x="6666" y="8195"/>
                  <a:pt x="6732" y="8261"/>
                  <a:pt x="6747" y="8334"/>
                </a:cubicBezTo>
                <a:cubicBezTo>
                  <a:pt x="6774" y="8470"/>
                  <a:pt x="6600" y="8552"/>
                  <a:pt x="6499" y="8582"/>
                </a:cubicBezTo>
                <a:cubicBezTo>
                  <a:pt x="6428" y="8603"/>
                  <a:pt x="6468" y="8530"/>
                  <a:pt x="6474" y="8508"/>
                </a:cubicBezTo>
              </a:path>
              <a:path w="6772" h="11436">
                <a:moveTo>
                  <a:pt x="7342" y="8012"/>
                </a:moveTo>
                <a:cubicBezTo>
                  <a:pt x="7298" y="8012"/>
                  <a:pt x="7229" y="8020"/>
                  <a:pt x="7193" y="8037"/>
                </a:cubicBezTo>
                <a:cubicBezTo>
                  <a:pt x="7133" y="8065"/>
                  <a:pt x="7149" y="8157"/>
                  <a:pt x="7144" y="8210"/>
                </a:cubicBezTo>
                <a:cubicBezTo>
                  <a:pt x="7237" y="8210"/>
                  <a:pt x="7412" y="8170"/>
                  <a:pt x="7417" y="8310"/>
                </a:cubicBezTo>
                <a:cubicBezTo>
                  <a:pt x="7421" y="8427"/>
                  <a:pt x="7283" y="8563"/>
                  <a:pt x="7169" y="8483"/>
                </a:cubicBezTo>
                <a:cubicBezTo>
                  <a:pt x="7161" y="8467"/>
                  <a:pt x="7152" y="8450"/>
                  <a:pt x="7144" y="8434"/>
                </a:cubicBezTo>
              </a:path>
              <a:path w="6772" h="11436">
                <a:moveTo>
                  <a:pt x="4787" y="9277"/>
                </a:moveTo>
                <a:cubicBezTo>
                  <a:pt x="4787" y="9434"/>
                  <a:pt x="4787" y="9591"/>
                  <a:pt x="4787" y="9748"/>
                </a:cubicBezTo>
                <a:cubicBezTo>
                  <a:pt x="4767" y="9609"/>
                  <a:pt x="4710" y="9517"/>
                  <a:pt x="4762" y="9351"/>
                </a:cubicBezTo>
                <a:cubicBezTo>
                  <a:pt x="4830" y="9238"/>
                  <a:pt x="4846" y="9207"/>
                  <a:pt x="4911" y="9153"/>
                </a:cubicBezTo>
                <a:cubicBezTo>
                  <a:pt x="5150" y="9227"/>
                  <a:pt x="5148" y="9385"/>
                  <a:pt x="5209" y="9624"/>
                </a:cubicBezTo>
                <a:cubicBezTo>
                  <a:pt x="5238" y="9736"/>
                  <a:pt x="5224" y="9753"/>
                  <a:pt x="5259" y="9624"/>
                </a:cubicBezTo>
              </a:path>
              <a:path w="6772" h="11436">
                <a:moveTo>
                  <a:pt x="5407" y="9351"/>
                </a:moveTo>
                <a:cubicBezTo>
                  <a:pt x="5473" y="9351"/>
                  <a:pt x="5632" y="9336"/>
                  <a:pt x="5655" y="9351"/>
                </a:cubicBezTo>
              </a:path>
              <a:path w="6772" h="11436">
                <a:moveTo>
                  <a:pt x="5457" y="9550"/>
                </a:moveTo>
                <a:cubicBezTo>
                  <a:pt x="5533" y="9537"/>
                  <a:pt x="5607" y="9487"/>
                  <a:pt x="5680" y="9475"/>
                </a:cubicBezTo>
                <a:cubicBezTo>
                  <a:pt x="5705" y="9475"/>
                  <a:pt x="5730" y="9475"/>
                  <a:pt x="5755" y="9475"/>
                </a:cubicBezTo>
              </a:path>
              <a:path w="6772" h="11436">
                <a:moveTo>
                  <a:pt x="5953" y="9227"/>
                </a:moveTo>
                <a:cubicBezTo>
                  <a:pt x="6008" y="9101"/>
                  <a:pt x="6018" y="9130"/>
                  <a:pt x="6127" y="9079"/>
                </a:cubicBezTo>
                <a:cubicBezTo>
                  <a:pt x="6192" y="9211"/>
                  <a:pt x="6180" y="9305"/>
                  <a:pt x="6127" y="9451"/>
                </a:cubicBezTo>
                <a:cubicBezTo>
                  <a:pt x="6046" y="9397"/>
                  <a:pt x="6189" y="9349"/>
                  <a:pt x="6251" y="9351"/>
                </a:cubicBezTo>
                <a:cubicBezTo>
                  <a:pt x="6511" y="9360"/>
                  <a:pt x="6291" y="9690"/>
                  <a:pt x="6176" y="9748"/>
                </a:cubicBezTo>
                <a:cubicBezTo>
                  <a:pt x="6048" y="9770"/>
                  <a:pt x="6015" y="9789"/>
                  <a:pt x="5953" y="9723"/>
                </a:cubicBezTo>
                <a:cubicBezTo>
                  <a:pt x="5980" y="9643"/>
                  <a:pt x="6075" y="9655"/>
                  <a:pt x="6176" y="9649"/>
                </a:cubicBezTo>
                <a:cubicBezTo>
                  <a:pt x="6216" y="9647"/>
                  <a:pt x="6201" y="9696"/>
                  <a:pt x="6201" y="9649"/>
                </a:cubicBezTo>
              </a:path>
              <a:path w="6772" h="11436">
                <a:moveTo>
                  <a:pt x="4390" y="10021"/>
                </a:moveTo>
                <a:cubicBezTo>
                  <a:pt x="4649" y="9938"/>
                  <a:pt x="4908" y="9909"/>
                  <a:pt x="5184" y="9922"/>
                </a:cubicBezTo>
                <a:cubicBezTo>
                  <a:pt x="5640" y="9943"/>
                  <a:pt x="6090" y="10039"/>
                  <a:pt x="6548" y="10046"/>
                </a:cubicBezTo>
                <a:cubicBezTo>
                  <a:pt x="6687" y="10048"/>
                  <a:pt x="6812" y="10058"/>
                  <a:pt x="6945" y="10071"/>
                </a:cubicBezTo>
                <a:cubicBezTo>
                  <a:pt x="6970" y="10073"/>
                  <a:pt x="6995" y="10069"/>
                  <a:pt x="7020" y="10071"/>
                </a:cubicBezTo>
                <a:cubicBezTo>
                  <a:pt x="6964" y="9881"/>
                  <a:pt x="6894" y="9675"/>
                  <a:pt x="6871" y="9475"/>
                </a:cubicBezTo>
                <a:cubicBezTo>
                  <a:pt x="6855" y="9331"/>
                  <a:pt x="6871" y="9175"/>
                  <a:pt x="6871" y="9029"/>
                </a:cubicBezTo>
                <a:cubicBezTo>
                  <a:pt x="6825" y="9026"/>
                  <a:pt x="6789" y="9009"/>
                  <a:pt x="6747" y="9004"/>
                </a:cubicBezTo>
                <a:cubicBezTo>
                  <a:pt x="6445" y="8969"/>
                  <a:pt x="6129" y="9009"/>
                  <a:pt x="5829" y="8979"/>
                </a:cubicBezTo>
                <a:cubicBezTo>
                  <a:pt x="5738" y="8970"/>
                  <a:pt x="5647" y="8956"/>
                  <a:pt x="5556" y="8954"/>
                </a:cubicBezTo>
                <a:cubicBezTo>
                  <a:pt x="5388" y="8950"/>
                  <a:pt x="5252" y="8940"/>
                  <a:pt x="5085" y="8954"/>
                </a:cubicBezTo>
                <a:cubicBezTo>
                  <a:pt x="4916" y="8968"/>
                  <a:pt x="4725" y="8967"/>
                  <a:pt x="4564" y="8930"/>
                </a:cubicBezTo>
                <a:cubicBezTo>
                  <a:pt x="4511" y="8918"/>
                  <a:pt x="4459" y="8893"/>
                  <a:pt x="4415" y="8880"/>
                </a:cubicBezTo>
                <a:cubicBezTo>
                  <a:pt x="4407" y="8880"/>
                  <a:pt x="4398" y="8880"/>
                  <a:pt x="4390" y="8880"/>
                </a:cubicBezTo>
                <a:cubicBezTo>
                  <a:pt x="4384" y="9061"/>
                  <a:pt x="4356" y="9245"/>
                  <a:pt x="4366" y="9426"/>
                </a:cubicBezTo>
                <a:cubicBezTo>
                  <a:pt x="4376" y="9606"/>
                  <a:pt x="4359" y="9818"/>
                  <a:pt x="4390" y="9996"/>
                </a:cubicBezTo>
                <a:cubicBezTo>
                  <a:pt x="4398" y="10043"/>
                  <a:pt x="4404" y="10055"/>
                  <a:pt x="4415" y="10096"/>
                </a:cubicBezTo>
              </a:path>
              <a:path w="6772" h="11436">
                <a:moveTo>
                  <a:pt x="5259" y="11286"/>
                </a:moveTo>
                <a:cubicBezTo>
                  <a:pt x="5279" y="11224"/>
                  <a:pt x="5525" y="11220"/>
                  <a:pt x="5581" y="11212"/>
                </a:cubicBezTo>
                <a:cubicBezTo>
                  <a:pt x="5846" y="11176"/>
                  <a:pt x="6112" y="11164"/>
                  <a:pt x="6375" y="11137"/>
                </a:cubicBezTo>
                <a:cubicBezTo>
                  <a:pt x="6400" y="11137"/>
                  <a:pt x="6408" y="11137"/>
                  <a:pt x="6424" y="11137"/>
                </a:cubicBezTo>
              </a:path>
              <a:path w="6772" h="11436">
                <a:moveTo>
                  <a:pt x="5655" y="11485"/>
                </a:moveTo>
                <a:cubicBezTo>
                  <a:pt x="5612" y="11499"/>
                  <a:pt x="5608" y="11643"/>
                  <a:pt x="5606" y="11683"/>
                </a:cubicBezTo>
                <a:cubicBezTo>
                  <a:pt x="5601" y="11759"/>
                  <a:pt x="5565" y="11987"/>
                  <a:pt x="5631" y="12055"/>
                </a:cubicBezTo>
                <a:cubicBezTo>
                  <a:pt x="5683" y="12108"/>
                  <a:pt x="5825" y="11988"/>
                  <a:pt x="5854" y="11956"/>
                </a:cubicBezTo>
                <a:cubicBezTo>
                  <a:pt x="5915" y="11890"/>
                  <a:pt x="5953" y="11821"/>
                  <a:pt x="5953" y="11733"/>
                </a:cubicBezTo>
                <a:cubicBezTo>
                  <a:pt x="5865" y="11715"/>
                  <a:pt x="5833" y="11696"/>
                  <a:pt x="5804" y="11832"/>
                </a:cubicBezTo>
                <a:cubicBezTo>
                  <a:pt x="5796" y="11868"/>
                  <a:pt x="5804" y="11937"/>
                  <a:pt x="5804" y="11981"/>
                </a:cubicBezTo>
              </a:path>
              <a:path w="6772" h="11436">
                <a:moveTo>
                  <a:pt x="3522" y="11286"/>
                </a:moveTo>
                <a:cubicBezTo>
                  <a:pt x="3514" y="11286"/>
                  <a:pt x="3505" y="11286"/>
                  <a:pt x="3497" y="11286"/>
                </a:cubicBezTo>
                <a:cubicBezTo>
                  <a:pt x="3478" y="11226"/>
                  <a:pt x="3677" y="11254"/>
                  <a:pt x="3770" y="11237"/>
                </a:cubicBezTo>
                <a:cubicBezTo>
                  <a:pt x="3986" y="11197"/>
                  <a:pt x="4206" y="11199"/>
                  <a:pt x="4415" y="11162"/>
                </a:cubicBezTo>
                <a:cubicBezTo>
                  <a:pt x="4440" y="11162"/>
                  <a:pt x="4448" y="11162"/>
                  <a:pt x="4465" y="11162"/>
                </a:cubicBezTo>
              </a:path>
              <a:path w="6772" h="11436">
                <a:moveTo>
                  <a:pt x="3820" y="11410"/>
                </a:moveTo>
                <a:cubicBezTo>
                  <a:pt x="3820" y="11504"/>
                  <a:pt x="3798" y="11589"/>
                  <a:pt x="3795" y="11683"/>
                </a:cubicBezTo>
                <a:cubicBezTo>
                  <a:pt x="3792" y="11783"/>
                  <a:pt x="3822" y="11872"/>
                  <a:pt x="3845" y="11956"/>
                </a:cubicBezTo>
                <a:cubicBezTo>
                  <a:pt x="3858" y="12003"/>
                  <a:pt x="3886" y="12021"/>
                  <a:pt x="3944" y="12005"/>
                </a:cubicBezTo>
                <a:cubicBezTo>
                  <a:pt x="4036" y="11979"/>
                  <a:pt x="4089" y="11875"/>
                  <a:pt x="4142" y="11807"/>
                </a:cubicBezTo>
                <a:cubicBezTo>
                  <a:pt x="4172" y="11777"/>
                  <a:pt x="4183" y="11763"/>
                  <a:pt x="4192" y="11733"/>
                </a:cubicBezTo>
                <a:cubicBezTo>
                  <a:pt x="4138" y="11689"/>
                  <a:pt x="4102" y="11660"/>
                  <a:pt x="4043" y="11708"/>
                </a:cubicBezTo>
                <a:cubicBezTo>
                  <a:pt x="3985" y="11755"/>
                  <a:pt x="3994" y="11813"/>
                  <a:pt x="3994" y="11881"/>
                </a:cubicBezTo>
                <a:cubicBezTo>
                  <a:pt x="3994" y="11933"/>
                  <a:pt x="4008" y="11938"/>
                  <a:pt x="4018" y="11981"/>
                </a:cubicBezTo>
              </a:path>
              <a:path w="6772" h="11436">
                <a:moveTo>
                  <a:pt x="1339" y="12303"/>
                </a:moveTo>
                <a:cubicBezTo>
                  <a:pt x="1363" y="12351"/>
                  <a:pt x="1371" y="12365"/>
                  <a:pt x="1364" y="12402"/>
                </a:cubicBezTo>
                <a:cubicBezTo>
                  <a:pt x="1380" y="12354"/>
                  <a:pt x="1439" y="12225"/>
                  <a:pt x="1488" y="12353"/>
                </a:cubicBezTo>
                <a:cubicBezTo>
                  <a:pt x="1511" y="12469"/>
                  <a:pt x="1522" y="12502"/>
                  <a:pt x="1488" y="12576"/>
                </a:cubicBezTo>
                <a:cubicBezTo>
                  <a:pt x="1628" y="12576"/>
                  <a:pt x="1707" y="12606"/>
                  <a:pt x="1637" y="12774"/>
                </a:cubicBezTo>
                <a:cubicBezTo>
                  <a:pt x="1557" y="12965"/>
                  <a:pt x="1421" y="12916"/>
                  <a:pt x="1389" y="12774"/>
                </a:cubicBezTo>
              </a:path>
              <a:path w="6772" h="11436">
                <a:moveTo>
                  <a:pt x="1662" y="12229"/>
                </a:moveTo>
                <a:cubicBezTo>
                  <a:pt x="1662" y="12331"/>
                  <a:pt x="1687" y="12436"/>
                  <a:pt x="1736" y="12526"/>
                </a:cubicBezTo>
                <a:cubicBezTo>
                  <a:pt x="1789" y="12622"/>
                  <a:pt x="1845" y="12670"/>
                  <a:pt x="1935" y="12700"/>
                </a:cubicBezTo>
                <a:cubicBezTo>
                  <a:pt x="1985" y="12557"/>
                  <a:pt x="2031" y="12451"/>
                  <a:pt x="1885" y="12378"/>
                </a:cubicBezTo>
                <a:cubicBezTo>
                  <a:pt x="1870" y="12478"/>
                  <a:pt x="1860" y="12548"/>
                  <a:pt x="1860" y="12650"/>
                </a:cubicBezTo>
              </a:path>
              <a:path w="6772" h="11436">
                <a:moveTo>
                  <a:pt x="1339" y="13072"/>
                </a:moveTo>
                <a:cubicBezTo>
                  <a:pt x="1280" y="12953"/>
                  <a:pt x="1182" y="12847"/>
                  <a:pt x="1116" y="12725"/>
                </a:cubicBezTo>
                <a:cubicBezTo>
                  <a:pt x="1040" y="12585"/>
                  <a:pt x="1066" y="12491"/>
                  <a:pt x="1116" y="12353"/>
                </a:cubicBezTo>
                <a:cubicBezTo>
                  <a:pt x="1188" y="12152"/>
                  <a:pt x="1410" y="12115"/>
                  <a:pt x="1588" y="12030"/>
                </a:cubicBezTo>
                <a:cubicBezTo>
                  <a:pt x="1748" y="11954"/>
                  <a:pt x="1909" y="11872"/>
                  <a:pt x="2059" y="11782"/>
                </a:cubicBezTo>
                <a:cubicBezTo>
                  <a:pt x="2075" y="11774"/>
                  <a:pt x="2092" y="11765"/>
                  <a:pt x="2108" y="11757"/>
                </a:cubicBezTo>
              </a:path>
              <a:path w="6772" h="11436">
                <a:moveTo>
                  <a:pt x="670" y="12774"/>
                </a:moveTo>
                <a:cubicBezTo>
                  <a:pt x="698" y="12901"/>
                  <a:pt x="706" y="13106"/>
                  <a:pt x="868" y="13146"/>
                </a:cubicBezTo>
                <a:cubicBezTo>
                  <a:pt x="976" y="13173"/>
                  <a:pt x="1029" y="12987"/>
                  <a:pt x="1017" y="12898"/>
                </a:cubicBezTo>
                <a:cubicBezTo>
                  <a:pt x="1009" y="12882"/>
                  <a:pt x="1000" y="12865"/>
                  <a:pt x="992" y="12849"/>
                </a:cubicBezTo>
                <a:cubicBezTo>
                  <a:pt x="918" y="12868"/>
                  <a:pt x="897" y="12955"/>
                  <a:pt x="943" y="13022"/>
                </a:cubicBezTo>
                <a:cubicBezTo>
                  <a:pt x="982" y="13022"/>
                  <a:pt x="1001" y="13011"/>
                  <a:pt x="1017" y="12973"/>
                </a:cubicBezTo>
              </a:path>
              <a:path w="6772" h="11436">
                <a:moveTo>
                  <a:pt x="1042" y="11857"/>
                </a:moveTo>
                <a:cubicBezTo>
                  <a:pt x="988" y="11892"/>
                  <a:pt x="1017" y="12009"/>
                  <a:pt x="1042" y="12080"/>
                </a:cubicBezTo>
                <a:cubicBezTo>
                  <a:pt x="1066" y="12127"/>
                  <a:pt x="1072" y="12144"/>
                  <a:pt x="1116" y="12129"/>
                </a:cubicBezTo>
                <a:cubicBezTo>
                  <a:pt x="1147" y="12024"/>
                  <a:pt x="1210" y="11951"/>
                  <a:pt x="1091" y="11881"/>
                </a:cubicBezTo>
                <a:cubicBezTo>
                  <a:pt x="1067" y="11881"/>
                  <a:pt x="1058" y="11881"/>
                  <a:pt x="1042" y="11881"/>
                </a:cubicBezTo>
              </a:path>
              <a:path w="6772" h="11436">
                <a:moveTo>
                  <a:pt x="1240" y="11509"/>
                </a:moveTo>
                <a:cubicBezTo>
                  <a:pt x="1258" y="11619"/>
                  <a:pt x="1317" y="11731"/>
                  <a:pt x="1364" y="11832"/>
                </a:cubicBezTo>
                <a:cubicBezTo>
                  <a:pt x="1391" y="11890"/>
                  <a:pt x="1452" y="12001"/>
                  <a:pt x="1538" y="11981"/>
                </a:cubicBezTo>
                <a:cubicBezTo>
                  <a:pt x="1648" y="11955"/>
                  <a:pt x="1575" y="11813"/>
                  <a:pt x="1538" y="11782"/>
                </a:cubicBezTo>
                <a:cubicBezTo>
                  <a:pt x="1501" y="11869"/>
                  <a:pt x="1508" y="11925"/>
                  <a:pt x="1563" y="12005"/>
                </a:cubicBezTo>
              </a:path>
              <a:path w="6772" h="11436">
                <a:moveTo>
                  <a:pt x="1637" y="13171"/>
                </a:moveTo>
                <a:cubicBezTo>
                  <a:pt x="1661" y="13107"/>
                  <a:pt x="1660" y="13073"/>
                  <a:pt x="1712" y="13047"/>
                </a:cubicBezTo>
                <a:cubicBezTo>
                  <a:pt x="1744" y="13128"/>
                  <a:pt x="1752" y="13165"/>
                  <a:pt x="1736" y="13246"/>
                </a:cubicBezTo>
                <a:cubicBezTo>
                  <a:pt x="1749" y="13228"/>
                  <a:pt x="1788" y="13149"/>
                  <a:pt x="1811" y="13221"/>
                </a:cubicBezTo>
                <a:cubicBezTo>
                  <a:pt x="1857" y="13362"/>
                  <a:pt x="1814" y="13412"/>
                  <a:pt x="1736" y="13519"/>
                </a:cubicBezTo>
                <a:cubicBezTo>
                  <a:pt x="1657" y="13439"/>
                  <a:pt x="1634" y="13407"/>
                  <a:pt x="1687" y="13320"/>
                </a:cubicBezTo>
              </a:path>
              <a:path w="6772" h="11436">
                <a:moveTo>
                  <a:pt x="1910" y="12948"/>
                </a:moveTo>
                <a:cubicBezTo>
                  <a:pt x="1924" y="13076"/>
                  <a:pt x="1990" y="13163"/>
                  <a:pt x="2059" y="13271"/>
                </a:cubicBezTo>
                <a:cubicBezTo>
                  <a:pt x="2161" y="13232"/>
                  <a:pt x="2182" y="13179"/>
                  <a:pt x="2158" y="13072"/>
                </a:cubicBezTo>
                <a:cubicBezTo>
                  <a:pt x="2088" y="13124"/>
                  <a:pt x="2105" y="13188"/>
                  <a:pt x="2133" y="13271"/>
                </a:cubicBezTo>
              </a:path>
              <a:path w="6772" h="11436">
                <a:moveTo>
                  <a:pt x="4018" y="12923"/>
                </a:moveTo>
                <a:cubicBezTo>
                  <a:pt x="3966" y="12923"/>
                  <a:pt x="3969" y="12921"/>
                  <a:pt x="3969" y="12973"/>
                </a:cubicBezTo>
                <a:cubicBezTo>
                  <a:pt x="3969" y="13234"/>
                  <a:pt x="3924" y="13482"/>
                  <a:pt x="3969" y="13742"/>
                </a:cubicBezTo>
                <a:cubicBezTo>
                  <a:pt x="3989" y="13860"/>
                  <a:pt x="3997" y="13833"/>
                  <a:pt x="4093" y="13891"/>
                </a:cubicBezTo>
                <a:cubicBezTo>
                  <a:pt x="4237" y="13818"/>
                  <a:pt x="4310" y="13726"/>
                  <a:pt x="4366" y="13568"/>
                </a:cubicBezTo>
                <a:cubicBezTo>
                  <a:pt x="4404" y="13460"/>
                  <a:pt x="4388" y="13377"/>
                  <a:pt x="4366" y="13271"/>
                </a:cubicBezTo>
                <a:cubicBezTo>
                  <a:pt x="4199" y="13229"/>
                  <a:pt x="4222" y="13412"/>
                  <a:pt x="4217" y="13543"/>
                </a:cubicBezTo>
                <a:cubicBezTo>
                  <a:pt x="4212" y="13653"/>
                  <a:pt x="4244" y="13724"/>
                  <a:pt x="4266" y="13816"/>
                </a:cubicBezTo>
              </a:path>
              <a:path w="6772" h="11436">
                <a:moveTo>
                  <a:pt x="4787" y="13593"/>
                </a:moveTo>
                <a:cubicBezTo>
                  <a:pt x="4871" y="13601"/>
                  <a:pt x="4949" y="13618"/>
                  <a:pt x="5035" y="13618"/>
                </a:cubicBezTo>
                <a:cubicBezTo>
                  <a:pt x="5043" y="13618"/>
                  <a:pt x="5052" y="13618"/>
                  <a:pt x="5060" y="13618"/>
                </a:cubicBezTo>
              </a:path>
              <a:path w="6772" h="11436">
                <a:moveTo>
                  <a:pt x="5631" y="10368"/>
                </a:moveTo>
                <a:cubicBezTo>
                  <a:pt x="5590" y="10429"/>
                  <a:pt x="5573" y="10501"/>
                  <a:pt x="5581" y="10616"/>
                </a:cubicBezTo>
                <a:cubicBezTo>
                  <a:pt x="5596" y="10820"/>
                  <a:pt x="5616" y="11062"/>
                  <a:pt x="5655" y="11261"/>
                </a:cubicBezTo>
                <a:cubicBezTo>
                  <a:pt x="5692" y="11454"/>
                  <a:pt x="5727" y="11639"/>
                  <a:pt x="5755" y="11832"/>
                </a:cubicBezTo>
                <a:cubicBezTo>
                  <a:pt x="5769" y="11930"/>
                  <a:pt x="5805" y="12053"/>
                  <a:pt x="5779" y="12154"/>
                </a:cubicBezTo>
                <a:cubicBezTo>
                  <a:pt x="5759" y="12195"/>
                  <a:pt x="5751" y="12201"/>
                  <a:pt x="5755" y="12229"/>
                </a:cubicBezTo>
                <a:cubicBezTo>
                  <a:pt x="5755" y="11987"/>
                  <a:pt x="5739" y="11750"/>
                  <a:pt x="5730" y="11509"/>
                </a:cubicBezTo>
                <a:cubicBezTo>
                  <a:pt x="5720" y="11251"/>
                  <a:pt x="5725" y="10995"/>
                  <a:pt x="5705" y="10740"/>
                </a:cubicBezTo>
                <a:cubicBezTo>
                  <a:pt x="5697" y="10639"/>
                  <a:pt x="5721" y="10504"/>
                  <a:pt x="5680" y="10443"/>
                </a:cubicBezTo>
                <a:cubicBezTo>
                  <a:pt x="5680" y="10418"/>
                  <a:pt x="5680" y="10410"/>
                  <a:pt x="5655" y="10418"/>
                </a:cubicBezTo>
                <a:cubicBezTo>
                  <a:pt x="5684" y="10714"/>
                  <a:pt x="5718" y="11013"/>
                  <a:pt x="5730" y="11311"/>
                </a:cubicBezTo>
                <a:cubicBezTo>
                  <a:pt x="5735" y="11450"/>
                  <a:pt x="5730" y="11594"/>
                  <a:pt x="5730" y="11733"/>
                </a:cubicBezTo>
              </a:path>
              <a:path w="6772" h="11436">
                <a:moveTo>
                  <a:pt x="5631" y="13419"/>
                </a:moveTo>
                <a:cubicBezTo>
                  <a:pt x="5631" y="13515"/>
                  <a:pt x="5686" y="13619"/>
                  <a:pt x="5705" y="13717"/>
                </a:cubicBezTo>
                <a:cubicBezTo>
                  <a:pt x="5741" y="13901"/>
                  <a:pt x="5743" y="14129"/>
                  <a:pt x="5705" y="14312"/>
                </a:cubicBezTo>
                <a:cubicBezTo>
                  <a:pt x="5689" y="14389"/>
                  <a:pt x="5555" y="14362"/>
                  <a:pt x="5507" y="14362"/>
                </a:cubicBezTo>
                <a:cubicBezTo>
                  <a:pt x="5482" y="14362"/>
                  <a:pt x="5474" y="14362"/>
                  <a:pt x="5457" y="14362"/>
                </a:cubicBezTo>
              </a:path>
              <a:path w="6772" h="11436">
                <a:moveTo>
                  <a:pt x="5581" y="12898"/>
                </a:moveTo>
                <a:cubicBezTo>
                  <a:pt x="5581" y="12857"/>
                  <a:pt x="5581" y="12932"/>
                  <a:pt x="5581" y="12973"/>
                </a:cubicBezTo>
                <a:cubicBezTo>
                  <a:pt x="5617" y="12961"/>
                  <a:pt x="5662" y="12866"/>
                  <a:pt x="5606" y="12824"/>
                </a:cubicBezTo>
                <a:cubicBezTo>
                  <a:pt x="5545" y="12779"/>
                  <a:pt x="5515" y="12938"/>
                  <a:pt x="5531" y="12973"/>
                </a:cubicBezTo>
                <a:cubicBezTo>
                  <a:pt x="5539" y="12973"/>
                  <a:pt x="5548" y="12973"/>
                  <a:pt x="5556" y="12973"/>
                </a:cubicBezTo>
                <a:cubicBezTo>
                  <a:pt x="5591" y="12955"/>
                  <a:pt x="5650" y="12829"/>
                  <a:pt x="5556" y="12874"/>
                </a:cubicBezTo>
                <a:cubicBezTo>
                  <a:pt x="5519" y="12892"/>
                  <a:pt x="5574" y="12914"/>
                  <a:pt x="5581" y="12874"/>
                </a:cubicBezTo>
              </a:path>
              <a:path w="6772" h="11436">
                <a:moveTo>
                  <a:pt x="6276" y="14064"/>
                </a:moveTo>
                <a:cubicBezTo>
                  <a:pt x="6294" y="13846"/>
                  <a:pt x="6287" y="13619"/>
                  <a:pt x="6276" y="13395"/>
                </a:cubicBezTo>
                <a:cubicBezTo>
                  <a:pt x="6263" y="13136"/>
                  <a:pt x="6254" y="12859"/>
                  <a:pt x="6226" y="12601"/>
                </a:cubicBezTo>
                <a:cubicBezTo>
                  <a:pt x="6220" y="12542"/>
                  <a:pt x="6222" y="12480"/>
                  <a:pt x="6201" y="12427"/>
                </a:cubicBezTo>
                <a:cubicBezTo>
                  <a:pt x="6170" y="12348"/>
                  <a:pt x="6172" y="12346"/>
                  <a:pt x="6077" y="12328"/>
                </a:cubicBezTo>
                <a:cubicBezTo>
                  <a:pt x="5908" y="12296"/>
                  <a:pt x="5720" y="12341"/>
                  <a:pt x="5556" y="12353"/>
                </a:cubicBezTo>
                <a:cubicBezTo>
                  <a:pt x="5326" y="12369"/>
                  <a:pt x="5091" y="12363"/>
                  <a:pt x="4862" y="12378"/>
                </a:cubicBezTo>
                <a:cubicBezTo>
                  <a:pt x="4680" y="12390"/>
                  <a:pt x="4497" y="12380"/>
                  <a:pt x="4316" y="12402"/>
                </a:cubicBezTo>
                <a:cubicBezTo>
                  <a:pt x="4197" y="12417"/>
                  <a:pt x="3496" y="12514"/>
                  <a:pt x="3473" y="12601"/>
                </a:cubicBezTo>
                <a:cubicBezTo>
                  <a:pt x="3426" y="12779"/>
                  <a:pt x="3538" y="13064"/>
                  <a:pt x="3547" y="13246"/>
                </a:cubicBezTo>
                <a:cubicBezTo>
                  <a:pt x="3560" y="13497"/>
                  <a:pt x="3536" y="13742"/>
                  <a:pt x="3522" y="13990"/>
                </a:cubicBezTo>
                <a:cubicBezTo>
                  <a:pt x="3515" y="14116"/>
                  <a:pt x="3500" y="14237"/>
                  <a:pt x="3497" y="14362"/>
                </a:cubicBezTo>
                <a:cubicBezTo>
                  <a:pt x="3495" y="14441"/>
                  <a:pt x="3482" y="14511"/>
                  <a:pt x="3473" y="14585"/>
                </a:cubicBezTo>
                <a:cubicBezTo>
                  <a:pt x="3546" y="14597"/>
                  <a:pt x="3620" y="14599"/>
                  <a:pt x="3696" y="14610"/>
                </a:cubicBezTo>
                <a:cubicBezTo>
                  <a:pt x="3852" y="14633"/>
                  <a:pt x="4010" y="14650"/>
                  <a:pt x="4167" y="14660"/>
                </a:cubicBezTo>
                <a:cubicBezTo>
                  <a:pt x="4318" y="14669"/>
                  <a:pt x="4461" y="14684"/>
                  <a:pt x="4614" y="14684"/>
                </a:cubicBezTo>
                <a:cubicBezTo>
                  <a:pt x="4774" y="14684"/>
                  <a:pt x="4925" y="14709"/>
                  <a:pt x="5085" y="14709"/>
                </a:cubicBezTo>
                <a:cubicBezTo>
                  <a:pt x="5214" y="14709"/>
                  <a:pt x="5330" y="14731"/>
                  <a:pt x="5457" y="14734"/>
                </a:cubicBezTo>
                <a:cubicBezTo>
                  <a:pt x="5595" y="14738"/>
                  <a:pt x="5743" y="14763"/>
                  <a:pt x="5879" y="14784"/>
                </a:cubicBezTo>
                <a:cubicBezTo>
                  <a:pt x="6001" y="14803"/>
                  <a:pt x="6101" y="14830"/>
                  <a:pt x="6226" y="14833"/>
                </a:cubicBezTo>
                <a:cubicBezTo>
                  <a:pt x="6290" y="14834"/>
                  <a:pt x="6304" y="14841"/>
                  <a:pt x="6375" y="14833"/>
                </a:cubicBezTo>
                <a:cubicBezTo>
                  <a:pt x="6351" y="14714"/>
                  <a:pt x="6310" y="14584"/>
                  <a:pt x="6300" y="14461"/>
                </a:cubicBezTo>
                <a:cubicBezTo>
                  <a:pt x="6289" y="14319"/>
                  <a:pt x="6304" y="14177"/>
                  <a:pt x="6325" y="14039"/>
                </a:cubicBezTo>
                <a:cubicBezTo>
                  <a:pt x="6338" y="13953"/>
                  <a:pt x="6346" y="13879"/>
                  <a:pt x="6350" y="13791"/>
                </a:cubicBezTo>
                <a:cubicBezTo>
                  <a:pt x="6350" y="13783"/>
                  <a:pt x="6350" y="13775"/>
                  <a:pt x="6350" y="137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178080" y="1143000"/>
            <a:ext cx="831960" cy="1081080"/>
          </a:xfrm>
          <a:custGeom>
            <a:avLst/>
            <a:gdLst/>
            <a:ahLst/>
            <a:rect l="l" t="t" r="r" b="b"/>
            <a:pathLst>
              <a:path w="2308" h="3002">
                <a:moveTo>
                  <a:pt x="10071" y="3870"/>
                </a:moveTo>
                <a:cubicBezTo>
                  <a:pt x="9964" y="3982"/>
                  <a:pt x="9878" y="4085"/>
                  <a:pt x="9798" y="4217"/>
                </a:cubicBezTo>
                <a:cubicBezTo>
                  <a:pt x="9900" y="4329"/>
                  <a:pt x="10117" y="4422"/>
                  <a:pt x="10021" y="4614"/>
                </a:cubicBezTo>
                <a:cubicBezTo>
                  <a:pt x="9996" y="4630"/>
                  <a:pt x="9972" y="4647"/>
                  <a:pt x="9947" y="4663"/>
                </a:cubicBezTo>
                <a:cubicBezTo>
                  <a:pt x="9823" y="4480"/>
                  <a:pt x="9957" y="4347"/>
                  <a:pt x="10096" y="4167"/>
                </a:cubicBezTo>
                <a:cubicBezTo>
                  <a:pt x="10104" y="4159"/>
                  <a:pt x="10112" y="4150"/>
                  <a:pt x="10120" y="4142"/>
                </a:cubicBezTo>
              </a:path>
              <a:path w="2308" h="3002">
                <a:moveTo>
                  <a:pt x="10269" y="4093"/>
                </a:moveTo>
                <a:cubicBezTo>
                  <a:pt x="10269" y="4202"/>
                  <a:pt x="10211" y="4345"/>
                  <a:pt x="10368" y="4341"/>
                </a:cubicBezTo>
                <a:cubicBezTo>
                  <a:pt x="10491" y="4316"/>
                  <a:pt x="10532" y="4308"/>
                  <a:pt x="10567" y="4217"/>
                </a:cubicBezTo>
              </a:path>
              <a:path w="2308" h="3002">
                <a:moveTo>
                  <a:pt x="10542" y="3944"/>
                </a:moveTo>
                <a:cubicBezTo>
                  <a:pt x="10487" y="4176"/>
                  <a:pt x="10492" y="4400"/>
                  <a:pt x="10492" y="4638"/>
                </a:cubicBezTo>
                <a:cubicBezTo>
                  <a:pt x="10492" y="4646"/>
                  <a:pt x="10492" y="4655"/>
                  <a:pt x="10492" y="4663"/>
                </a:cubicBezTo>
              </a:path>
              <a:path w="2308" h="3002">
                <a:moveTo>
                  <a:pt x="9599" y="4961"/>
                </a:moveTo>
                <a:cubicBezTo>
                  <a:pt x="9637" y="4774"/>
                  <a:pt x="9667" y="4592"/>
                  <a:pt x="9674" y="4390"/>
                </a:cubicBezTo>
                <a:cubicBezTo>
                  <a:pt x="9680" y="4220"/>
                  <a:pt x="9655" y="4062"/>
                  <a:pt x="9649" y="3894"/>
                </a:cubicBezTo>
                <a:cubicBezTo>
                  <a:pt x="9646" y="3812"/>
                  <a:pt x="9708" y="3809"/>
                  <a:pt x="9798" y="3770"/>
                </a:cubicBezTo>
                <a:cubicBezTo>
                  <a:pt x="10047" y="3662"/>
                  <a:pt x="10226" y="3685"/>
                  <a:pt x="10492" y="3671"/>
                </a:cubicBezTo>
                <a:cubicBezTo>
                  <a:pt x="10710" y="3659"/>
                  <a:pt x="10919" y="3646"/>
                  <a:pt x="11137" y="3646"/>
                </a:cubicBezTo>
              </a:path>
              <a:path w="2308" h="3002">
                <a:moveTo>
                  <a:pt x="8855" y="4118"/>
                </a:moveTo>
                <a:cubicBezTo>
                  <a:pt x="8924" y="4061"/>
                  <a:pt x="8945" y="4057"/>
                  <a:pt x="9029" y="4043"/>
                </a:cubicBezTo>
                <a:cubicBezTo>
                  <a:pt x="9121" y="4214"/>
                  <a:pt x="9103" y="4326"/>
                  <a:pt x="8979" y="4490"/>
                </a:cubicBezTo>
                <a:cubicBezTo>
                  <a:pt x="8923" y="4564"/>
                  <a:pt x="8877" y="4625"/>
                  <a:pt x="8830" y="4614"/>
                </a:cubicBezTo>
                <a:cubicBezTo>
                  <a:pt x="8840" y="4472"/>
                  <a:pt x="8861" y="4417"/>
                  <a:pt x="9029" y="4440"/>
                </a:cubicBezTo>
                <a:cubicBezTo>
                  <a:pt x="9102" y="4450"/>
                  <a:pt x="9164" y="4504"/>
                  <a:pt x="9227" y="4539"/>
                </a:cubicBezTo>
              </a:path>
              <a:path w="2308" h="3002">
                <a:moveTo>
                  <a:pt x="10418" y="3200"/>
                </a:moveTo>
                <a:cubicBezTo>
                  <a:pt x="10393" y="3200"/>
                  <a:pt x="10385" y="3200"/>
                  <a:pt x="10368" y="3200"/>
                </a:cubicBezTo>
                <a:cubicBezTo>
                  <a:pt x="10437" y="3186"/>
                  <a:pt x="10493" y="3175"/>
                  <a:pt x="10567" y="3175"/>
                </a:cubicBezTo>
                <a:cubicBezTo>
                  <a:pt x="10553" y="3299"/>
                  <a:pt x="10524" y="3422"/>
                  <a:pt x="10517" y="3547"/>
                </a:cubicBezTo>
                <a:cubicBezTo>
                  <a:pt x="10517" y="3555"/>
                  <a:pt x="10517" y="3564"/>
                  <a:pt x="10517" y="3572"/>
                </a:cubicBezTo>
              </a:path>
              <a:path w="2308" h="3002">
                <a:moveTo>
                  <a:pt x="10443" y="4986"/>
                </a:moveTo>
                <a:cubicBezTo>
                  <a:pt x="10407" y="5057"/>
                  <a:pt x="10401" y="5151"/>
                  <a:pt x="10368" y="5234"/>
                </a:cubicBezTo>
                <a:cubicBezTo>
                  <a:pt x="10438" y="5220"/>
                  <a:pt x="10496" y="5171"/>
                  <a:pt x="10567" y="5159"/>
                </a:cubicBezTo>
                <a:cubicBezTo>
                  <a:pt x="10575" y="5159"/>
                  <a:pt x="10584" y="5159"/>
                  <a:pt x="10592" y="5159"/>
                </a:cubicBezTo>
              </a:path>
              <a:path w="2308" h="3002">
                <a:moveTo>
                  <a:pt x="10542" y="4936"/>
                </a:moveTo>
                <a:cubicBezTo>
                  <a:pt x="10542" y="5070"/>
                  <a:pt x="10533" y="5226"/>
                  <a:pt x="10517" y="5358"/>
                </a:cubicBezTo>
                <a:cubicBezTo>
                  <a:pt x="10509" y="5391"/>
                  <a:pt x="10500" y="5424"/>
                  <a:pt x="10492" y="5457"/>
                </a:cubicBezTo>
              </a:path>
              <a:path w="2308" h="3002">
                <a:moveTo>
                  <a:pt x="10046" y="5011"/>
                </a:moveTo>
                <a:cubicBezTo>
                  <a:pt x="10046" y="4937"/>
                  <a:pt x="9885" y="4956"/>
                  <a:pt x="9798" y="5011"/>
                </a:cubicBezTo>
                <a:cubicBezTo>
                  <a:pt x="9773" y="5036"/>
                  <a:pt x="9748" y="5060"/>
                  <a:pt x="9723" y="5085"/>
                </a:cubicBezTo>
                <a:cubicBezTo>
                  <a:pt x="9781" y="5229"/>
                  <a:pt x="9956" y="5145"/>
                  <a:pt x="10046" y="5283"/>
                </a:cubicBezTo>
                <a:cubicBezTo>
                  <a:pt x="10097" y="5362"/>
                  <a:pt x="9991" y="5404"/>
                  <a:pt x="9947" y="5432"/>
                </a:cubicBezTo>
                <a:cubicBezTo>
                  <a:pt x="9925" y="5279"/>
                  <a:pt x="9959" y="5178"/>
                  <a:pt x="10021" y="5035"/>
                </a:cubicBezTo>
              </a:path>
              <a:path w="2308" h="3002">
                <a:moveTo>
                  <a:pt x="9500" y="5259"/>
                </a:moveTo>
                <a:cubicBezTo>
                  <a:pt x="9552" y="5220"/>
                  <a:pt x="9607" y="5234"/>
                  <a:pt x="9674" y="5234"/>
                </a:cubicBezTo>
              </a:path>
              <a:path w="2308" h="3002">
                <a:moveTo>
                  <a:pt x="9550" y="5606"/>
                </a:moveTo>
                <a:cubicBezTo>
                  <a:pt x="9830" y="5532"/>
                  <a:pt x="10124" y="5535"/>
                  <a:pt x="10418" y="5531"/>
                </a:cubicBezTo>
                <a:cubicBezTo>
                  <a:pt x="10559" y="5531"/>
                  <a:pt x="10583" y="5531"/>
                  <a:pt x="10666" y="5531"/>
                </a:cubicBezTo>
              </a:path>
              <a:path w="2308" h="3002">
                <a:moveTo>
                  <a:pt x="10468" y="5854"/>
                </a:moveTo>
                <a:cubicBezTo>
                  <a:pt x="10424" y="5967"/>
                  <a:pt x="10401" y="6053"/>
                  <a:pt x="10393" y="6176"/>
                </a:cubicBezTo>
                <a:cubicBezTo>
                  <a:pt x="10519" y="6148"/>
                  <a:pt x="10619" y="6097"/>
                  <a:pt x="10616" y="5953"/>
                </a:cubicBezTo>
                <a:cubicBezTo>
                  <a:pt x="10613" y="5814"/>
                  <a:pt x="10584" y="5836"/>
                  <a:pt x="10492" y="58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537160" y="1197000"/>
            <a:ext cx="534960" cy="919080"/>
          </a:xfrm>
          <a:custGeom>
            <a:avLst/>
            <a:gdLst/>
            <a:ahLst/>
            <a:rect l="l" t="t" r="r" b="b"/>
            <a:pathLst>
              <a:path w="1489" h="2556">
                <a:moveTo>
                  <a:pt x="16148" y="3621"/>
                </a:moveTo>
                <a:cubicBezTo>
                  <a:pt x="16148" y="3711"/>
                  <a:pt x="16114" y="4088"/>
                  <a:pt x="16173" y="4068"/>
                </a:cubicBezTo>
              </a:path>
              <a:path w="1489" h="2556">
                <a:moveTo>
                  <a:pt x="16421" y="3522"/>
                </a:moveTo>
                <a:cubicBezTo>
                  <a:pt x="16598" y="3600"/>
                  <a:pt x="16764" y="3737"/>
                  <a:pt x="16594" y="3944"/>
                </a:cubicBezTo>
                <a:cubicBezTo>
                  <a:pt x="16502" y="4056"/>
                  <a:pt x="16436" y="4034"/>
                  <a:pt x="16371" y="3969"/>
                </a:cubicBezTo>
                <a:cubicBezTo>
                  <a:pt x="16483" y="3919"/>
                  <a:pt x="16558" y="3906"/>
                  <a:pt x="16644" y="4018"/>
                </a:cubicBezTo>
                <a:cubicBezTo>
                  <a:pt x="16644" y="4058"/>
                  <a:pt x="16633" y="4077"/>
                  <a:pt x="16594" y="4093"/>
                </a:cubicBezTo>
              </a:path>
              <a:path w="1489" h="2556">
                <a:moveTo>
                  <a:pt x="15726" y="4242"/>
                </a:moveTo>
                <a:cubicBezTo>
                  <a:pt x="15784" y="4326"/>
                  <a:pt x="15830" y="4399"/>
                  <a:pt x="15875" y="4490"/>
                </a:cubicBezTo>
              </a:path>
              <a:path w="1489" h="2556">
                <a:moveTo>
                  <a:pt x="16396" y="4316"/>
                </a:moveTo>
                <a:cubicBezTo>
                  <a:pt x="16469" y="4316"/>
                  <a:pt x="16577" y="4310"/>
                  <a:pt x="16644" y="4291"/>
                </a:cubicBezTo>
                <a:cubicBezTo>
                  <a:pt x="16667" y="4268"/>
                  <a:pt x="16671" y="4260"/>
                  <a:pt x="16694" y="4266"/>
                </a:cubicBezTo>
                <a:cubicBezTo>
                  <a:pt x="16694" y="4381"/>
                  <a:pt x="16676" y="4503"/>
                  <a:pt x="16644" y="4614"/>
                </a:cubicBezTo>
                <a:cubicBezTo>
                  <a:pt x="16624" y="4654"/>
                  <a:pt x="16615" y="4660"/>
                  <a:pt x="16619" y="4688"/>
                </a:cubicBezTo>
              </a:path>
              <a:path w="1489" h="2556">
                <a:moveTo>
                  <a:pt x="15379" y="4936"/>
                </a:moveTo>
                <a:cubicBezTo>
                  <a:pt x="15774" y="4883"/>
                  <a:pt x="16149" y="4883"/>
                  <a:pt x="16545" y="4862"/>
                </a:cubicBezTo>
                <a:cubicBezTo>
                  <a:pt x="16662" y="4856"/>
                  <a:pt x="16755" y="4837"/>
                  <a:pt x="16867" y="4837"/>
                </a:cubicBezTo>
              </a:path>
              <a:path w="1489" h="2556">
                <a:moveTo>
                  <a:pt x="16545" y="5209"/>
                </a:moveTo>
                <a:cubicBezTo>
                  <a:pt x="16545" y="5274"/>
                  <a:pt x="16541" y="5322"/>
                  <a:pt x="16520" y="5383"/>
                </a:cubicBezTo>
                <a:cubicBezTo>
                  <a:pt x="16613" y="5383"/>
                  <a:pt x="16708" y="5373"/>
                  <a:pt x="16793" y="5333"/>
                </a:cubicBezTo>
                <a:cubicBezTo>
                  <a:pt x="16801" y="5325"/>
                  <a:pt x="16810" y="5316"/>
                  <a:pt x="16818" y="5308"/>
                </a:cubicBezTo>
              </a:path>
              <a:path w="1489" h="2556">
                <a:moveTo>
                  <a:pt x="16768" y="5110"/>
                </a:moveTo>
                <a:cubicBezTo>
                  <a:pt x="16756" y="5292"/>
                  <a:pt x="16732" y="5473"/>
                  <a:pt x="16718" y="5655"/>
                </a:cubicBezTo>
                <a:cubicBezTo>
                  <a:pt x="16703" y="5847"/>
                  <a:pt x="16675" y="5584"/>
                  <a:pt x="16669" y="5556"/>
                </a:cubicBezTo>
              </a:path>
              <a:path w="1489" h="2556">
                <a:moveTo>
                  <a:pt x="15974" y="3349"/>
                </a:moveTo>
                <a:cubicBezTo>
                  <a:pt x="15974" y="3341"/>
                  <a:pt x="15974" y="3332"/>
                  <a:pt x="15974" y="3324"/>
                </a:cubicBezTo>
                <a:cubicBezTo>
                  <a:pt x="15974" y="3373"/>
                  <a:pt x="15994" y="3435"/>
                  <a:pt x="15999" y="3448"/>
                </a:cubicBezTo>
                <a:cubicBezTo>
                  <a:pt x="15999" y="3456"/>
                  <a:pt x="15999" y="3465"/>
                  <a:pt x="15999" y="3473"/>
                </a:cubicBezTo>
              </a:path>
              <a:path w="1489" h="2556">
                <a:moveTo>
                  <a:pt x="16148" y="5333"/>
                </a:moveTo>
                <a:cubicBezTo>
                  <a:pt x="16243" y="5301"/>
                  <a:pt x="16060" y="5329"/>
                  <a:pt x="16049" y="5333"/>
                </a:cubicBezTo>
                <a:cubicBezTo>
                  <a:pt x="15949" y="5373"/>
                  <a:pt x="15920" y="5366"/>
                  <a:pt x="15900" y="5432"/>
                </a:cubicBezTo>
                <a:cubicBezTo>
                  <a:pt x="15989" y="5530"/>
                  <a:pt x="16198" y="5610"/>
                  <a:pt x="16222" y="5755"/>
                </a:cubicBezTo>
                <a:cubicBezTo>
                  <a:pt x="16196" y="5833"/>
                  <a:pt x="16184" y="5859"/>
                  <a:pt x="16123" y="5879"/>
                </a:cubicBezTo>
                <a:cubicBezTo>
                  <a:pt x="16012" y="5751"/>
                  <a:pt x="16120" y="5524"/>
                  <a:pt x="16173" y="5358"/>
                </a:cubicBezTo>
                <a:cubicBezTo>
                  <a:pt x="16181" y="5341"/>
                  <a:pt x="16189" y="5325"/>
                  <a:pt x="16197" y="53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3040" y="1544760"/>
            <a:ext cx="5224320" cy="3616200"/>
          </a:xfrm>
          <a:custGeom>
            <a:avLst/>
            <a:gdLst/>
            <a:ahLst/>
            <a:rect l="l" t="t" r="r" b="b"/>
            <a:pathLst>
              <a:path w="14511" h="10047">
                <a:moveTo>
                  <a:pt x="15825" y="4291"/>
                </a:moveTo>
                <a:cubicBezTo>
                  <a:pt x="15781" y="4396"/>
                  <a:pt x="15728" y="4505"/>
                  <a:pt x="15701" y="4614"/>
                </a:cubicBezTo>
              </a:path>
              <a:path w="14511" h="10047">
                <a:moveTo>
                  <a:pt x="11112" y="7565"/>
                </a:moveTo>
                <a:cubicBezTo>
                  <a:pt x="11112" y="7600"/>
                  <a:pt x="11117" y="7599"/>
                  <a:pt x="11137" y="7541"/>
                </a:cubicBezTo>
              </a:path>
              <a:path w="14511" h="10047">
                <a:moveTo>
                  <a:pt x="9327" y="7640"/>
                </a:moveTo>
                <a:lnTo>
                  <a:pt x="9327" y="7640"/>
                </a:lnTo>
              </a:path>
              <a:path w="14511" h="10047">
                <a:moveTo>
                  <a:pt x="15503" y="8285"/>
                </a:moveTo>
                <a:cubicBezTo>
                  <a:pt x="15589" y="8429"/>
                  <a:pt x="15651" y="8546"/>
                  <a:pt x="15701" y="8706"/>
                </a:cubicBezTo>
              </a:path>
              <a:path w="14511" h="10047">
                <a:moveTo>
                  <a:pt x="1315" y="13444"/>
                </a:moveTo>
                <a:cubicBezTo>
                  <a:pt x="1392" y="13341"/>
                  <a:pt x="1421" y="13304"/>
                  <a:pt x="1488" y="13246"/>
                </a:cubicBezTo>
              </a:path>
              <a:path w="14511" h="10047">
                <a:moveTo>
                  <a:pt x="1637" y="13965"/>
                </a:moveTo>
                <a:cubicBezTo>
                  <a:pt x="1867" y="13797"/>
                  <a:pt x="2084" y="13621"/>
                  <a:pt x="2307" y="13444"/>
                </a:cubicBezTo>
              </a:path>
              <a:path w="14511" h="10047">
                <a:moveTo>
                  <a:pt x="2208" y="14015"/>
                </a:moveTo>
                <a:cubicBezTo>
                  <a:pt x="2214" y="14157"/>
                  <a:pt x="2203" y="14235"/>
                  <a:pt x="2282" y="14337"/>
                </a:cubicBezTo>
                <a:cubicBezTo>
                  <a:pt x="2375" y="14201"/>
                  <a:pt x="2502" y="13978"/>
                  <a:pt x="2356" y="13816"/>
                </a:cubicBezTo>
                <a:cubicBezTo>
                  <a:pt x="2280" y="13778"/>
                  <a:pt x="2265" y="13744"/>
                  <a:pt x="2232" y="137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60800" y="2197080"/>
            <a:ext cx="1197000" cy="1062000"/>
          </a:xfrm>
          <a:custGeom>
            <a:avLst/>
            <a:gdLst/>
            <a:ahLst/>
            <a:rect l="l" t="t" r="r" b="b"/>
            <a:pathLst>
              <a:path w="3325" h="2953">
                <a:moveTo>
                  <a:pt x="10418" y="7144"/>
                </a:moveTo>
                <a:cubicBezTo>
                  <a:pt x="10407" y="7314"/>
                  <a:pt x="10318" y="7503"/>
                  <a:pt x="10319" y="7665"/>
                </a:cubicBezTo>
                <a:cubicBezTo>
                  <a:pt x="10327" y="7648"/>
                  <a:pt x="10336" y="7632"/>
                  <a:pt x="10344" y="7615"/>
                </a:cubicBezTo>
              </a:path>
              <a:path w="3325" h="2953">
                <a:moveTo>
                  <a:pt x="10666" y="7169"/>
                </a:moveTo>
                <a:cubicBezTo>
                  <a:pt x="10607" y="7324"/>
                  <a:pt x="10607" y="7429"/>
                  <a:pt x="10666" y="7590"/>
                </a:cubicBezTo>
                <a:cubicBezTo>
                  <a:pt x="10786" y="7496"/>
                  <a:pt x="10858" y="7379"/>
                  <a:pt x="10790" y="7218"/>
                </a:cubicBezTo>
                <a:cubicBezTo>
                  <a:pt x="10778" y="7190"/>
                  <a:pt x="10613" y="7015"/>
                  <a:pt x="10716" y="7169"/>
                </a:cubicBezTo>
              </a:path>
              <a:path w="3325" h="2953">
                <a:moveTo>
                  <a:pt x="11410" y="7243"/>
                </a:moveTo>
                <a:cubicBezTo>
                  <a:pt x="11390" y="7283"/>
                  <a:pt x="11392" y="7300"/>
                  <a:pt x="11361" y="7293"/>
                </a:cubicBezTo>
                <a:cubicBezTo>
                  <a:pt x="11469" y="7370"/>
                  <a:pt x="11524" y="7396"/>
                  <a:pt x="11584" y="7516"/>
                </a:cubicBezTo>
                <a:cubicBezTo>
                  <a:pt x="11454" y="7574"/>
                  <a:pt x="11494" y="7562"/>
                  <a:pt x="11361" y="7491"/>
                </a:cubicBezTo>
              </a:path>
              <a:path w="3325" h="2953">
                <a:moveTo>
                  <a:pt x="11460" y="7218"/>
                </a:moveTo>
                <a:cubicBezTo>
                  <a:pt x="11558" y="7163"/>
                  <a:pt x="11836" y="7048"/>
                  <a:pt x="11733" y="7094"/>
                </a:cubicBezTo>
                <a:cubicBezTo>
                  <a:pt x="11683" y="7111"/>
                  <a:pt x="11634" y="7127"/>
                  <a:pt x="11584" y="7144"/>
                </a:cubicBezTo>
              </a:path>
              <a:path w="3325" h="2953">
                <a:moveTo>
                  <a:pt x="10244" y="7863"/>
                </a:moveTo>
                <a:cubicBezTo>
                  <a:pt x="10194" y="7705"/>
                  <a:pt x="10136" y="7467"/>
                  <a:pt x="10120" y="7268"/>
                </a:cubicBezTo>
                <a:cubicBezTo>
                  <a:pt x="10112" y="7171"/>
                  <a:pt x="10099" y="7106"/>
                  <a:pt x="10170" y="7045"/>
                </a:cubicBezTo>
                <a:cubicBezTo>
                  <a:pt x="10321" y="6915"/>
                  <a:pt x="10636" y="6928"/>
                  <a:pt x="10815" y="6921"/>
                </a:cubicBezTo>
                <a:cubicBezTo>
                  <a:pt x="11160" y="6908"/>
                  <a:pt x="11811" y="6823"/>
                  <a:pt x="12105" y="6945"/>
                </a:cubicBezTo>
              </a:path>
              <a:path w="3325" h="2953">
                <a:moveTo>
                  <a:pt x="8954" y="7268"/>
                </a:moveTo>
                <a:cubicBezTo>
                  <a:pt x="8911" y="7224"/>
                  <a:pt x="9023" y="7157"/>
                  <a:pt x="9079" y="7193"/>
                </a:cubicBezTo>
                <a:cubicBezTo>
                  <a:pt x="9172" y="7253"/>
                  <a:pt x="9047" y="7374"/>
                  <a:pt x="9004" y="7417"/>
                </a:cubicBezTo>
                <a:cubicBezTo>
                  <a:pt x="9147" y="7452"/>
                  <a:pt x="9121" y="7565"/>
                  <a:pt x="9054" y="7689"/>
                </a:cubicBezTo>
                <a:cubicBezTo>
                  <a:pt x="8989" y="7810"/>
                  <a:pt x="8696" y="7839"/>
                  <a:pt x="8781" y="7714"/>
                </a:cubicBezTo>
                <a:cubicBezTo>
                  <a:pt x="8814" y="7689"/>
                  <a:pt x="8847" y="7665"/>
                  <a:pt x="8880" y="7640"/>
                </a:cubicBezTo>
              </a:path>
              <a:path w="3325" h="2953">
                <a:moveTo>
                  <a:pt x="9475" y="7367"/>
                </a:moveTo>
                <a:cubicBezTo>
                  <a:pt x="9445" y="7462"/>
                  <a:pt x="9563" y="7436"/>
                  <a:pt x="9624" y="7541"/>
                </a:cubicBezTo>
                <a:cubicBezTo>
                  <a:pt x="9732" y="7727"/>
                  <a:pt x="9550" y="7714"/>
                  <a:pt x="9451" y="7640"/>
                </a:cubicBezTo>
              </a:path>
              <a:path w="3325" h="2953">
                <a:moveTo>
                  <a:pt x="9500" y="7293"/>
                </a:moveTo>
                <a:cubicBezTo>
                  <a:pt x="9578" y="7243"/>
                  <a:pt x="9608" y="7218"/>
                  <a:pt x="9699" y="7218"/>
                </a:cubicBezTo>
              </a:path>
              <a:path w="3325" h="2953">
                <a:moveTo>
                  <a:pt x="9277" y="7689"/>
                </a:moveTo>
                <a:cubicBezTo>
                  <a:pt x="9277" y="7626"/>
                  <a:pt x="9282" y="7764"/>
                  <a:pt x="9327" y="7764"/>
                </a:cubicBezTo>
                <a:cubicBezTo>
                  <a:pt x="9340" y="7764"/>
                  <a:pt x="9328" y="7667"/>
                  <a:pt x="9327" y="7665"/>
                </a:cubicBezTo>
                <a:cubicBezTo>
                  <a:pt x="9298" y="7693"/>
                  <a:pt x="9290" y="7706"/>
                  <a:pt x="9302" y="7739"/>
                </a:cubicBezTo>
              </a:path>
              <a:path w="3325" h="2953">
                <a:moveTo>
                  <a:pt x="9327" y="7714"/>
                </a:moveTo>
                <a:cubicBezTo>
                  <a:pt x="9288" y="7727"/>
                  <a:pt x="9280" y="7761"/>
                  <a:pt x="9277" y="7813"/>
                </a:cubicBezTo>
                <a:cubicBezTo>
                  <a:pt x="9272" y="7893"/>
                  <a:pt x="9314" y="7905"/>
                  <a:pt x="9351" y="7962"/>
                </a:cubicBezTo>
                <a:cubicBezTo>
                  <a:pt x="9411" y="8055"/>
                  <a:pt x="9388" y="7976"/>
                  <a:pt x="9475" y="8012"/>
                </a:cubicBezTo>
                <a:cubicBezTo>
                  <a:pt x="9546" y="8042"/>
                  <a:pt x="9527" y="8016"/>
                  <a:pt x="9599" y="7987"/>
                </a:cubicBezTo>
                <a:cubicBezTo>
                  <a:pt x="9667" y="7959"/>
                  <a:pt x="9640" y="7922"/>
                  <a:pt x="9674" y="7888"/>
                </a:cubicBezTo>
                <a:cubicBezTo>
                  <a:pt x="9678" y="7884"/>
                  <a:pt x="9718" y="7816"/>
                  <a:pt x="9723" y="7813"/>
                </a:cubicBezTo>
                <a:cubicBezTo>
                  <a:pt x="9754" y="7792"/>
                  <a:pt x="9748" y="7791"/>
                  <a:pt x="9748" y="7739"/>
                </a:cubicBezTo>
                <a:cubicBezTo>
                  <a:pt x="9748" y="7692"/>
                  <a:pt x="9790" y="7681"/>
                  <a:pt x="9798" y="7665"/>
                </a:cubicBezTo>
                <a:cubicBezTo>
                  <a:pt x="9809" y="7643"/>
                  <a:pt x="9817" y="7616"/>
                  <a:pt x="9823" y="7590"/>
                </a:cubicBezTo>
                <a:cubicBezTo>
                  <a:pt x="9823" y="7637"/>
                  <a:pt x="9807" y="7670"/>
                  <a:pt x="9798" y="7714"/>
                </a:cubicBezTo>
                <a:cubicBezTo>
                  <a:pt x="9828" y="7706"/>
                  <a:pt x="9919" y="7633"/>
                  <a:pt x="9872" y="7590"/>
                </a:cubicBezTo>
                <a:cubicBezTo>
                  <a:pt x="9787" y="7513"/>
                  <a:pt x="9794" y="7720"/>
                  <a:pt x="9798" y="7739"/>
                </a:cubicBezTo>
                <a:cubicBezTo>
                  <a:pt x="9823" y="7733"/>
                  <a:pt x="9993" y="7652"/>
                  <a:pt x="9922" y="7590"/>
                </a:cubicBezTo>
                <a:cubicBezTo>
                  <a:pt x="9840" y="7518"/>
                  <a:pt x="9802" y="7696"/>
                  <a:pt x="9798" y="7714"/>
                </a:cubicBezTo>
                <a:cubicBezTo>
                  <a:pt x="9798" y="7722"/>
                  <a:pt x="9798" y="7731"/>
                  <a:pt x="9798" y="7739"/>
                </a:cubicBezTo>
                <a:cubicBezTo>
                  <a:pt x="9812" y="7707"/>
                  <a:pt x="9870" y="7538"/>
                  <a:pt x="9798" y="7640"/>
                </a:cubicBezTo>
                <a:cubicBezTo>
                  <a:pt x="9790" y="7656"/>
                  <a:pt x="9781" y="7673"/>
                  <a:pt x="9773" y="7689"/>
                </a:cubicBezTo>
              </a:path>
              <a:path w="3325" h="2953">
                <a:moveTo>
                  <a:pt x="11212" y="7615"/>
                </a:moveTo>
                <a:cubicBezTo>
                  <a:pt x="11175" y="7615"/>
                  <a:pt x="11139" y="7599"/>
                  <a:pt x="11137" y="7640"/>
                </a:cubicBezTo>
                <a:cubicBezTo>
                  <a:pt x="11134" y="7714"/>
                  <a:pt x="11139" y="7832"/>
                  <a:pt x="11187" y="7888"/>
                </a:cubicBezTo>
                <a:cubicBezTo>
                  <a:pt x="11251" y="7962"/>
                  <a:pt x="11317" y="7983"/>
                  <a:pt x="11410" y="7987"/>
                </a:cubicBezTo>
                <a:cubicBezTo>
                  <a:pt x="11519" y="7992"/>
                  <a:pt x="11564" y="7987"/>
                  <a:pt x="11658" y="7938"/>
                </a:cubicBezTo>
                <a:cubicBezTo>
                  <a:pt x="11741" y="7895"/>
                  <a:pt x="11781" y="7868"/>
                  <a:pt x="11832" y="7789"/>
                </a:cubicBezTo>
                <a:cubicBezTo>
                  <a:pt x="11877" y="7720"/>
                  <a:pt x="11900" y="7671"/>
                  <a:pt x="11906" y="7590"/>
                </a:cubicBezTo>
                <a:cubicBezTo>
                  <a:pt x="11909" y="7552"/>
                  <a:pt x="11919" y="7521"/>
                  <a:pt x="11881" y="7516"/>
                </a:cubicBezTo>
                <a:cubicBezTo>
                  <a:pt x="11792" y="7505"/>
                  <a:pt x="11807" y="7637"/>
                  <a:pt x="11807" y="7689"/>
                </a:cubicBezTo>
                <a:cubicBezTo>
                  <a:pt x="11831" y="7660"/>
                  <a:pt x="12001" y="7431"/>
                  <a:pt x="11857" y="7441"/>
                </a:cubicBezTo>
                <a:cubicBezTo>
                  <a:pt x="11782" y="7446"/>
                  <a:pt x="11770" y="7514"/>
                  <a:pt x="11757" y="7565"/>
                </a:cubicBezTo>
                <a:cubicBezTo>
                  <a:pt x="11844" y="7623"/>
                  <a:pt x="11829" y="7594"/>
                  <a:pt x="11857" y="7491"/>
                </a:cubicBezTo>
                <a:cubicBezTo>
                  <a:pt x="11833" y="7394"/>
                  <a:pt x="11799" y="7498"/>
                  <a:pt x="11807" y="7565"/>
                </a:cubicBezTo>
                <a:cubicBezTo>
                  <a:pt x="11814" y="7628"/>
                  <a:pt x="11902" y="7500"/>
                  <a:pt x="11881" y="7441"/>
                </a:cubicBezTo>
                <a:cubicBezTo>
                  <a:pt x="11860" y="7380"/>
                  <a:pt x="11786" y="7520"/>
                  <a:pt x="11832" y="7565"/>
                </a:cubicBezTo>
              </a:path>
              <a:path w="3325" h="2953">
                <a:moveTo>
                  <a:pt x="12030" y="6623"/>
                </a:moveTo>
                <a:cubicBezTo>
                  <a:pt x="12030" y="6571"/>
                  <a:pt x="12029" y="6556"/>
                  <a:pt x="12005" y="6623"/>
                </a:cubicBezTo>
                <a:cubicBezTo>
                  <a:pt x="12005" y="6704"/>
                  <a:pt x="12020" y="6743"/>
                  <a:pt x="12080" y="6623"/>
                </a:cubicBezTo>
                <a:cubicBezTo>
                  <a:pt x="12154" y="6476"/>
                  <a:pt x="12070" y="6543"/>
                  <a:pt x="12030" y="6623"/>
                </a:cubicBezTo>
                <a:cubicBezTo>
                  <a:pt x="12049" y="6681"/>
                  <a:pt x="12147" y="6569"/>
                  <a:pt x="12105" y="6524"/>
                </a:cubicBezTo>
                <a:cubicBezTo>
                  <a:pt x="12080" y="6573"/>
                  <a:pt x="12071" y="6590"/>
                  <a:pt x="12055" y="6623"/>
                </a:cubicBezTo>
              </a:path>
              <a:path w="3325" h="2953">
                <a:moveTo>
                  <a:pt x="11559" y="6152"/>
                </a:moveTo>
                <a:cubicBezTo>
                  <a:pt x="11537" y="6201"/>
                  <a:pt x="11534" y="6203"/>
                  <a:pt x="11534" y="6251"/>
                </a:cubicBezTo>
                <a:cubicBezTo>
                  <a:pt x="11547" y="6184"/>
                  <a:pt x="11579" y="6134"/>
                  <a:pt x="11633" y="6102"/>
                </a:cubicBezTo>
                <a:cubicBezTo>
                  <a:pt x="11674" y="6251"/>
                  <a:pt x="11612" y="6296"/>
                  <a:pt x="11584" y="6400"/>
                </a:cubicBezTo>
                <a:cubicBezTo>
                  <a:pt x="11592" y="6400"/>
                  <a:pt x="11601" y="6400"/>
                  <a:pt x="11609" y="6400"/>
                </a:cubicBezTo>
                <a:cubicBezTo>
                  <a:pt x="11744" y="6399"/>
                  <a:pt x="11768" y="6570"/>
                  <a:pt x="11633" y="6672"/>
                </a:cubicBezTo>
                <a:cubicBezTo>
                  <a:pt x="11564" y="6725"/>
                  <a:pt x="11414" y="6651"/>
                  <a:pt x="11460" y="6648"/>
                </a:cubicBezTo>
                <a:cubicBezTo>
                  <a:pt x="11518" y="6648"/>
                  <a:pt x="11526" y="6648"/>
                  <a:pt x="11559" y="6648"/>
                </a:cubicBezTo>
              </a:path>
              <a:path w="3325" h="2953">
                <a:moveTo>
                  <a:pt x="10517" y="7962"/>
                </a:moveTo>
                <a:cubicBezTo>
                  <a:pt x="10484" y="8151"/>
                  <a:pt x="10454" y="8326"/>
                  <a:pt x="10393" y="8508"/>
                </a:cubicBezTo>
              </a:path>
              <a:path w="3325" h="2953">
                <a:moveTo>
                  <a:pt x="10740" y="8037"/>
                </a:moveTo>
                <a:cubicBezTo>
                  <a:pt x="10674" y="8197"/>
                  <a:pt x="10638" y="8276"/>
                  <a:pt x="10740" y="8409"/>
                </a:cubicBezTo>
                <a:cubicBezTo>
                  <a:pt x="10826" y="8341"/>
                  <a:pt x="11007" y="8176"/>
                  <a:pt x="10840" y="8062"/>
                </a:cubicBezTo>
                <a:cubicBezTo>
                  <a:pt x="10798" y="8062"/>
                  <a:pt x="10790" y="8062"/>
                  <a:pt x="10765" y="8062"/>
                </a:cubicBezTo>
              </a:path>
              <a:path w="3325" h="2953">
                <a:moveTo>
                  <a:pt x="11162" y="8037"/>
                </a:moveTo>
                <a:cubicBezTo>
                  <a:pt x="11097" y="8264"/>
                  <a:pt x="11218" y="8117"/>
                  <a:pt x="11336" y="8285"/>
                </a:cubicBezTo>
                <a:cubicBezTo>
                  <a:pt x="11422" y="8407"/>
                  <a:pt x="11286" y="8427"/>
                  <a:pt x="11212" y="8458"/>
                </a:cubicBezTo>
              </a:path>
              <a:path w="3325" h="2953">
                <a:moveTo>
                  <a:pt x="11162" y="8012"/>
                </a:moveTo>
                <a:cubicBezTo>
                  <a:pt x="11212" y="7992"/>
                  <a:pt x="11545" y="7856"/>
                  <a:pt x="11584" y="7913"/>
                </a:cubicBezTo>
                <a:cubicBezTo>
                  <a:pt x="11576" y="7929"/>
                  <a:pt x="11567" y="7946"/>
                  <a:pt x="11559" y="7962"/>
                </a:cubicBezTo>
              </a:path>
              <a:path w="3325" h="2953">
                <a:moveTo>
                  <a:pt x="10294" y="8582"/>
                </a:moveTo>
                <a:cubicBezTo>
                  <a:pt x="10688" y="8442"/>
                  <a:pt x="11041" y="8347"/>
                  <a:pt x="11460" y="8334"/>
                </a:cubicBezTo>
                <a:cubicBezTo>
                  <a:pt x="11554" y="8334"/>
                  <a:pt x="11575" y="8313"/>
                  <a:pt x="11609" y="8359"/>
                </a:cubicBezTo>
              </a:path>
              <a:path w="3325" h="2953">
                <a:moveTo>
                  <a:pt x="11410" y="8657"/>
                </a:moveTo>
                <a:cubicBezTo>
                  <a:pt x="11304" y="8811"/>
                  <a:pt x="11226" y="8917"/>
                  <a:pt x="11336" y="9054"/>
                </a:cubicBezTo>
                <a:cubicBezTo>
                  <a:pt x="11430" y="8974"/>
                  <a:pt x="11740" y="8712"/>
                  <a:pt x="11485" y="8607"/>
                </a:cubicBezTo>
                <a:cubicBezTo>
                  <a:pt x="11381" y="8607"/>
                  <a:pt x="11345" y="8609"/>
                  <a:pt x="11286" y="86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884920" y="2581200"/>
            <a:ext cx="411120" cy="276480"/>
          </a:xfrm>
          <a:custGeom>
            <a:avLst/>
            <a:gdLst/>
            <a:ahLst/>
            <a:rect l="l" t="t" r="r" b="b"/>
            <a:pathLst>
              <a:path w="1142" h="770">
                <a:moveTo>
                  <a:pt x="16470" y="7243"/>
                </a:moveTo>
                <a:cubicBezTo>
                  <a:pt x="16534" y="7225"/>
                  <a:pt x="16603" y="7194"/>
                  <a:pt x="16669" y="7169"/>
                </a:cubicBezTo>
                <a:cubicBezTo>
                  <a:pt x="16723" y="7292"/>
                  <a:pt x="16644" y="7399"/>
                  <a:pt x="16545" y="7491"/>
                </a:cubicBezTo>
                <a:cubicBezTo>
                  <a:pt x="16537" y="7491"/>
                  <a:pt x="16528" y="7491"/>
                  <a:pt x="16520" y="7491"/>
                </a:cubicBezTo>
                <a:cubicBezTo>
                  <a:pt x="16625" y="7465"/>
                  <a:pt x="16682" y="7463"/>
                  <a:pt x="16669" y="7640"/>
                </a:cubicBezTo>
                <a:cubicBezTo>
                  <a:pt x="16664" y="7704"/>
                  <a:pt x="16473" y="8081"/>
                  <a:pt x="16346" y="7938"/>
                </a:cubicBezTo>
                <a:cubicBezTo>
                  <a:pt x="16346" y="7921"/>
                  <a:pt x="16346" y="7905"/>
                  <a:pt x="16346" y="7888"/>
                </a:cubicBezTo>
                <a:cubicBezTo>
                  <a:pt x="16443" y="7846"/>
                  <a:pt x="16462" y="7880"/>
                  <a:pt x="16545" y="7913"/>
                </a:cubicBezTo>
              </a:path>
              <a:path w="1142" h="770">
                <a:moveTo>
                  <a:pt x="16818" y="7888"/>
                </a:moveTo>
                <a:cubicBezTo>
                  <a:pt x="16818" y="7913"/>
                  <a:pt x="16818" y="7921"/>
                  <a:pt x="16818" y="7938"/>
                </a:cubicBezTo>
              </a:path>
              <a:path w="1142" h="770">
                <a:moveTo>
                  <a:pt x="17413" y="7293"/>
                </a:moveTo>
                <a:cubicBezTo>
                  <a:pt x="17383" y="7290"/>
                  <a:pt x="17235" y="7240"/>
                  <a:pt x="17214" y="7268"/>
                </a:cubicBezTo>
                <a:cubicBezTo>
                  <a:pt x="17147" y="7357"/>
                  <a:pt x="17115" y="7480"/>
                  <a:pt x="17115" y="7590"/>
                </a:cubicBezTo>
                <a:cubicBezTo>
                  <a:pt x="17207" y="7564"/>
                  <a:pt x="17373" y="7476"/>
                  <a:pt x="17462" y="7590"/>
                </a:cubicBezTo>
                <a:cubicBezTo>
                  <a:pt x="17582" y="7744"/>
                  <a:pt x="17373" y="7968"/>
                  <a:pt x="17214" y="7938"/>
                </a:cubicBezTo>
                <a:cubicBezTo>
                  <a:pt x="17144" y="7891"/>
                  <a:pt x="17119" y="7879"/>
                  <a:pt x="17140" y="78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56160" y="4581360"/>
            <a:ext cx="98640" cy="222480"/>
          </a:xfrm>
          <a:custGeom>
            <a:avLst/>
            <a:gdLst/>
            <a:ahLst/>
            <a:rect l="l" t="t" r="r" b="b"/>
            <a:pathLst>
              <a:path w="274" h="621">
                <a:moveTo>
                  <a:pt x="15205" y="12849"/>
                </a:moveTo>
                <a:cubicBezTo>
                  <a:pt x="15275" y="12997"/>
                  <a:pt x="15323" y="13145"/>
                  <a:pt x="15379" y="13295"/>
                </a:cubicBezTo>
              </a:path>
              <a:path w="274" h="621">
                <a:moveTo>
                  <a:pt x="15429" y="12725"/>
                </a:moveTo>
                <a:cubicBezTo>
                  <a:pt x="15397" y="12779"/>
                  <a:pt x="15135" y="13348"/>
                  <a:pt x="15156" y="13345"/>
                </a:cubicBezTo>
                <a:cubicBezTo>
                  <a:pt x="15172" y="13320"/>
                  <a:pt x="15189" y="13296"/>
                  <a:pt x="15205" y="132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902200" y="2357280"/>
            <a:ext cx="812880" cy="482760"/>
          </a:xfrm>
          <a:custGeom>
            <a:avLst/>
            <a:gdLst/>
            <a:ahLst/>
            <a:rect l="l" t="t" r="r" b="b"/>
            <a:pathLst>
              <a:path w="2258" h="1341">
                <a:moveTo>
                  <a:pt x="16421" y="6548"/>
                </a:moveTo>
                <a:cubicBezTo>
                  <a:pt x="16404" y="6649"/>
                  <a:pt x="16396" y="6741"/>
                  <a:pt x="16396" y="6846"/>
                </a:cubicBezTo>
                <a:cubicBezTo>
                  <a:pt x="16396" y="6874"/>
                  <a:pt x="16398" y="6885"/>
                  <a:pt x="16421" y="6896"/>
                </a:cubicBezTo>
              </a:path>
              <a:path w="2258" h="1341">
                <a:moveTo>
                  <a:pt x="18604" y="7367"/>
                </a:moveTo>
                <a:cubicBezTo>
                  <a:pt x="18604" y="7510"/>
                  <a:pt x="18641" y="7648"/>
                  <a:pt x="18653" y="7789"/>
                </a:cubicBezTo>
                <a:cubicBezTo>
                  <a:pt x="18653" y="7822"/>
                  <a:pt x="18653" y="7855"/>
                  <a:pt x="18653" y="78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545080" y="2938320"/>
            <a:ext cx="866880" cy="696960"/>
          </a:xfrm>
          <a:custGeom>
            <a:avLst/>
            <a:gdLst/>
            <a:ahLst/>
            <a:rect l="l" t="t" r="r" b="b"/>
            <a:pathLst>
              <a:path w="2407" h="1936">
                <a:moveTo>
                  <a:pt x="15677" y="8409"/>
                </a:moveTo>
                <a:cubicBezTo>
                  <a:pt x="15615" y="8544"/>
                  <a:pt x="15538" y="8689"/>
                  <a:pt x="15503" y="8830"/>
                </a:cubicBezTo>
              </a:path>
              <a:path w="2407" h="1936">
                <a:moveTo>
                  <a:pt x="17165" y="8260"/>
                </a:moveTo>
                <a:cubicBezTo>
                  <a:pt x="17188" y="8168"/>
                  <a:pt x="17283" y="8173"/>
                  <a:pt x="17363" y="8161"/>
                </a:cubicBezTo>
                <a:cubicBezTo>
                  <a:pt x="17342" y="8301"/>
                  <a:pt x="17286" y="8376"/>
                  <a:pt x="17190" y="8483"/>
                </a:cubicBezTo>
                <a:cubicBezTo>
                  <a:pt x="17311" y="8381"/>
                  <a:pt x="17337" y="8408"/>
                  <a:pt x="17438" y="8508"/>
                </a:cubicBezTo>
                <a:cubicBezTo>
                  <a:pt x="17319" y="8645"/>
                  <a:pt x="17260" y="8733"/>
                  <a:pt x="17090" y="8657"/>
                </a:cubicBezTo>
              </a:path>
              <a:path w="2407" h="1936">
                <a:moveTo>
                  <a:pt x="15404" y="9153"/>
                </a:moveTo>
                <a:cubicBezTo>
                  <a:pt x="15725" y="9069"/>
                  <a:pt x="16037" y="9038"/>
                  <a:pt x="16371" y="9029"/>
                </a:cubicBezTo>
                <a:cubicBezTo>
                  <a:pt x="16838" y="9016"/>
                  <a:pt x="17334" y="9032"/>
                  <a:pt x="17785" y="9004"/>
                </a:cubicBezTo>
                <a:cubicBezTo>
                  <a:pt x="17793" y="9004"/>
                  <a:pt x="17802" y="9004"/>
                  <a:pt x="17810" y="9004"/>
                </a:cubicBezTo>
              </a:path>
              <a:path w="2407" h="1936">
                <a:moveTo>
                  <a:pt x="17462" y="9376"/>
                </a:moveTo>
                <a:cubicBezTo>
                  <a:pt x="17402" y="9385"/>
                  <a:pt x="17281" y="9390"/>
                  <a:pt x="17264" y="9451"/>
                </a:cubicBezTo>
                <a:cubicBezTo>
                  <a:pt x="17241" y="9567"/>
                  <a:pt x="17234" y="9600"/>
                  <a:pt x="17214" y="9674"/>
                </a:cubicBezTo>
                <a:cubicBezTo>
                  <a:pt x="17318" y="9636"/>
                  <a:pt x="17528" y="9565"/>
                  <a:pt x="17562" y="9748"/>
                </a:cubicBezTo>
                <a:cubicBezTo>
                  <a:pt x="17600" y="9952"/>
                  <a:pt x="17350" y="10104"/>
                  <a:pt x="17190" y="9971"/>
                </a:cubicBezTo>
                <a:cubicBezTo>
                  <a:pt x="17173" y="9938"/>
                  <a:pt x="17157" y="9905"/>
                  <a:pt x="17140" y="9872"/>
                </a:cubicBezTo>
              </a:path>
              <a:path w="2407" h="1936">
                <a:moveTo>
                  <a:pt x="15825" y="9327"/>
                </a:moveTo>
                <a:cubicBezTo>
                  <a:pt x="15815" y="9553"/>
                  <a:pt x="15774" y="9772"/>
                  <a:pt x="15751" y="9996"/>
                </a:cubicBezTo>
                <a:cubicBezTo>
                  <a:pt x="15751" y="10054"/>
                  <a:pt x="15751" y="10063"/>
                  <a:pt x="15751" y="10096"/>
                </a:cubicBezTo>
              </a:path>
              <a:path w="2407" h="1936">
                <a:moveTo>
                  <a:pt x="16346" y="9426"/>
                </a:moveTo>
                <a:cubicBezTo>
                  <a:pt x="16303" y="9557"/>
                  <a:pt x="16237" y="9674"/>
                  <a:pt x="16222" y="9823"/>
                </a:cubicBezTo>
                <a:cubicBezTo>
                  <a:pt x="16208" y="9955"/>
                  <a:pt x="16229" y="9977"/>
                  <a:pt x="16321" y="10046"/>
                </a:cubicBezTo>
                <a:cubicBezTo>
                  <a:pt x="16474" y="9970"/>
                  <a:pt x="16556" y="9796"/>
                  <a:pt x="16495" y="9599"/>
                </a:cubicBezTo>
                <a:cubicBezTo>
                  <a:pt x="16466" y="9507"/>
                  <a:pt x="16346" y="9421"/>
                  <a:pt x="16272" y="9451"/>
                </a:cubicBezTo>
              </a:path>
              <a:path w="2407" h="1936">
                <a:moveTo>
                  <a:pt x="16793" y="9971"/>
                </a:moveTo>
                <a:cubicBezTo>
                  <a:pt x="16793" y="9904"/>
                  <a:pt x="16736" y="9894"/>
                  <a:pt x="16718" y="9971"/>
                </a:cubicBezTo>
                <a:cubicBezTo>
                  <a:pt x="16718" y="9996"/>
                  <a:pt x="16718" y="10021"/>
                  <a:pt x="16718" y="10046"/>
                </a:cubicBezTo>
                <a:cubicBezTo>
                  <a:pt x="16771" y="10046"/>
                  <a:pt x="16910" y="10016"/>
                  <a:pt x="16842" y="9922"/>
                </a:cubicBezTo>
                <a:cubicBezTo>
                  <a:pt x="16798" y="9922"/>
                  <a:pt x="16784" y="9919"/>
                  <a:pt x="16768" y="9947"/>
                </a:cubicBezTo>
                <a:cubicBezTo>
                  <a:pt x="16779" y="10015"/>
                  <a:pt x="16828" y="10026"/>
                  <a:pt x="16842" y="9947"/>
                </a:cubicBezTo>
                <a:cubicBezTo>
                  <a:pt x="16842" y="9919"/>
                  <a:pt x="16840" y="9913"/>
                  <a:pt x="16818" y="99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438880" y="4268880"/>
            <a:ext cx="490320" cy="1044360"/>
          </a:xfrm>
          <a:custGeom>
            <a:avLst/>
            <a:gdLst/>
            <a:ahLst/>
            <a:rect l="l" t="t" r="r" b="b"/>
            <a:pathLst>
              <a:path w="1365" h="2903">
                <a:moveTo>
                  <a:pt x="15801" y="11881"/>
                </a:moveTo>
                <a:cubicBezTo>
                  <a:pt x="15801" y="11732"/>
                  <a:pt x="15769" y="12130"/>
                  <a:pt x="15751" y="12278"/>
                </a:cubicBezTo>
                <a:cubicBezTo>
                  <a:pt x="15731" y="12436"/>
                  <a:pt x="15710" y="12464"/>
                  <a:pt x="15751" y="12551"/>
                </a:cubicBezTo>
                <a:cubicBezTo>
                  <a:pt x="15928" y="12577"/>
                  <a:pt x="16054" y="12527"/>
                  <a:pt x="16173" y="12378"/>
                </a:cubicBezTo>
                <a:cubicBezTo>
                  <a:pt x="16272" y="12255"/>
                  <a:pt x="16321" y="12163"/>
                  <a:pt x="16173" y="12105"/>
                </a:cubicBezTo>
                <a:cubicBezTo>
                  <a:pt x="16066" y="12240"/>
                  <a:pt x="16049" y="12345"/>
                  <a:pt x="16049" y="12526"/>
                </a:cubicBezTo>
              </a:path>
              <a:path w="1365" h="2903">
                <a:moveTo>
                  <a:pt x="15825" y="12898"/>
                </a:moveTo>
                <a:cubicBezTo>
                  <a:pt x="15796" y="13019"/>
                  <a:pt x="15726" y="13131"/>
                  <a:pt x="15726" y="13271"/>
                </a:cubicBezTo>
                <a:cubicBezTo>
                  <a:pt x="15750" y="13411"/>
                  <a:pt x="15753" y="13453"/>
                  <a:pt x="15825" y="13519"/>
                </a:cubicBezTo>
                <a:cubicBezTo>
                  <a:pt x="16029" y="13447"/>
                  <a:pt x="16115" y="13387"/>
                  <a:pt x="16173" y="13171"/>
                </a:cubicBezTo>
                <a:cubicBezTo>
                  <a:pt x="15989" y="13217"/>
                  <a:pt x="15958" y="13355"/>
                  <a:pt x="15925" y="13543"/>
                </a:cubicBezTo>
                <a:cubicBezTo>
                  <a:pt x="15925" y="13560"/>
                  <a:pt x="15925" y="13576"/>
                  <a:pt x="15925" y="13593"/>
                </a:cubicBezTo>
              </a:path>
              <a:path w="1365" h="2903">
                <a:moveTo>
                  <a:pt x="15106" y="13891"/>
                </a:moveTo>
                <a:cubicBezTo>
                  <a:pt x="15509" y="13777"/>
                  <a:pt x="15904" y="13625"/>
                  <a:pt x="16321" y="13568"/>
                </a:cubicBezTo>
                <a:cubicBezTo>
                  <a:pt x="16586" y="13532"/>
                  <a:pt x="16420" y="13569"/>
                  <a:pt x="16421" y="13593"/>
                </a:cubicBezTo>
              </a:path>
              <a:path w="1365" h="2903">
                <a:moveTo>
                  <a:pt x="15329" y="14114"/>
                </a:moveTo>
                <a:cubicBezTo>
                  <a:pt x="15237" y="14068"/>
                  <a:pt x="15526" y="14019"/>
                  <a:pt x="15553" y="14015"/>
                </a:cubicBezTo>
                <a:cubicBezTo>
                  <a:pt x="15563" y="14200"/>
                  <a:pt x="15528" y="14350"/>
                  <a:pt x="15329" y="14436"/>
                </a:cubicBezTo>
                <a:cubicBezTo>
                  <a:pt x="15329" y="14428"/>
                  <a:pt x="15329" y="14420"/>
                  <a:pt x="15329" y="14412"/>
                </a:cubicBezTo>
                <a:cubicBezTo>
                  <a:pt x="15394" y="14307"/>
                  <a:pt x="15686" y="14203"/>
                  <a:pt x="15627" y="14461"/>
                </a:cubicBezTo>
                <a:cubicBezTo>
                  <a:pt x="15600" y="14577"/>
                  <a:pt x="15205" y="14853"/>
                  <a:pt x="15230" y="14709"/>
                </a:cubicBezTo>
                <a:cubicBezTo>
                  <a:pt x="15255" y="14651"/>
                  <a:pt x="15279" y="14594"/>
                  <a:pt x="15304" y="14536"/>
                </a:cubicBezTo>
              </a:path>
              <a:path w="1365" h="2903">
                <a:moveTo>
                  <a:pt x="15974" y="13965"/>
                </a:moveTo>
                <a:cubicBezTo>
                  <a:pt x="15974" y="14148"/>
                  <a:pt x="15918" y="14330"/>
                  <a:pt x="15974" y="14511"/>
                </a:cubicBezTo>
                <a:cubicBezTo>
                  <a:pt x="15999" y="14544"/>
                  <a:pt x="16024" y="14577"/>
                  <a:pt x="16049" y="14610"/>
                </a:cubicBezTo>
                <a:cubicBezTo>
                  <a:pt x="16293" y="14596"/>
                  <a:pt x="16314" y="14478"/>
                  <a:pt x="16346" y="14238"/>
                </a:cubicBezTo>
                <a:cubicBezTo>
                  <a:pt x="16177" y="14333"/>
                  <a:pt x="16120" y="14432"/>
                  <a:pt x="16073" y="146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813200" y="1303200"/>
            <a:ext cx="322200" cy="4653000"/>
          </a:xfrm>
          <a:custGeom>
            <a:avLst/>
            <a:gdLst/>
            <a:ahLst/>
            <a:rect l="l" t="t" r="r" b="b"/>
            <a:pathLst>
              <a:path w="894" h="12925">
                <a:moveTo>
                  <a:pt x="14238" y="3621"/>
                </a:moveTo>
                <a:cubicBezTo>
                  <a:pt x="14232" y="3639"/>
                  <a:pt x="14192" y="3795"/>
                  <a:pt x="14163" y="3870"/>
                </a:cubicBezTo>
                <a:cubicBezTo>
                  <a:pt x="14092" y="4054"/>
                  <a:pt x="13973" y="4236"/>
                  <a:pt x="13965" y="4440"/>
                </a:cubicBezTo>
                <a:cubicBezTo>
                  <a:pt x="13940" y="5076"/>
                  <a:pt x="14139" y="5811"/>
                  <a:pt x="14188" y="6449"/>
                </a:cubicBezTo>
                <a:cubicBezTo>
                  <a:pt x="14213" y="6769"/>
                  <a:pt x="14149" y="7104"/>
                  <a:pt x="14089" y="7417"/>
                </a:cubicBezTo>
                <a:cubicBezTo>
                  <a:pt x="13946" y="8167"/>
                  <a:pt x="13864" y="8916"/>
                  <a:pt x="13791" y="9674"/>
                </a:cubicBezTo>
                <a:cubicBezTo>
                  <a:pt x="13729" y="10317"/>
                  <a:pt x="13619" y="10946"/>
                  <a:pt x="13519" y="11584"/>
                </a:cubicBezTo>
                <a:cubicBezTo>
                  <a:pt x="13367" y="12554"/>
                  <a:pt x="13392" y="13463"/>
                  <a:pt x="13419" y="14436"/>
                </a:cubicBezTo>
                <a:cubicBezTo>
                  <a:pt x="13438" y="15139"/>
                  <a:pt x="13486" y="15849"/>
                  <a:pt x="13568" y="16545"/>
                </a:cubicBezTo>
                <a:cubicBezTo>
                  <a:pt x="13568" y="16528"/>
                  <a:pt x="13568" y="16512"/>
                  <a:pt x="13568" y="164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1980720"/>
            <a:ext cx="6400800" cy="20322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Unit 5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Expressions, Equations and Integers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bjective: Solving Division Equation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6870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Objective: Determine the unknown in a linear equ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-360" y="2133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00"/>
                </a:solidFill>
                <a:uFillTx/>
                <a:latin typeface="Comic Sans MS"/>
              </a:rPr>
              <a:t>Solving Division Equa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- To solve a division equation, multiply each side by the divisor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"/>
          <p:cNvSpPr/>
          <p:nvPr/>
        </p:nvSpPr>
        <p:spPr>
          <a:xfrm>
            <a:off x="6750000" y="3456000"/>
            <a:ext cx="9720" cy="9360"/>
          </a:xfrm>
          <a:custGeom>
            <a:avLst/>
            <a:gdLst/>
            <a:ahLst/>
            <a:rect l="l" t="t" r="r" b="b"/>
            <a:pathLst>
              <a:path w="26" h="26">
                <a:moveTo>
                  <a:pt x="18777" y="9624"/>
                </a:moveTo>
                <a:cubicBezTo>
                  <a:pt x="18769" y="9616"/>
                  <a:pt x="18760" y="9607"/>
                  <a:pt x="18752" y="9599"/>
                </a:cubicBezTo>
              </a:path>
              <a:path w="26" h="26">
                <a:moveTo>
                  <a:pt x="18752" y="9599"/>
                </a:moveTo>
                <a:lnTo>
                  <a:pt x="18752" y="9599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54800" y="3268800"/>
            <a:ext cx="2357280" cy="490320"/>
          </a:xfrm>
          <a:custGeom>
            <a:avLst/>
            <a:gdLst/>
            <a:ahLst/>
            <a:rect l="l" t="t" r="r" b="b"/>
            <a:pathLst>
              <a:path w="6549" h="1365">
                <a:moveTo>
                  <a:pt x="15652" y="9327"/>
                </a:moveTo>
                <a:cubicBezTo>
                  <a:pt x="15597" y="9515"/>
                  <a:pt x="15438" y="9721"/>
                  <a:pt x="15429" y="9922"/>
                </a:cubicBezTo>
                <a:cubicBezTo>
                  <a:pt x="15422" y="10089"/>
                  <a:pt x="15536" y="10204"/>
                  <a:pt x="15677" y="10244"/>
                </a:cubicBezTo>
              </a:path>
              <a:path w="6549" h="1365">
                <a:moveTo>
                  <a:pt x="16222" y="9872"/>
                </a:moveTo>
                <a:cubicBezTo>
                  <a:pt x="16222" y="9792"/>
                  <a:pt x="16153" y="9781"/>
                  <a:pt x="16073" y="9773"/>
                </a:cubicBezTo>
                <a:cubicBezTo>
                  <a:pt x="15910" y="9756"/>
                  <a:pt x="15681" y="9897"/>
                  <a:pt x="15726" y="10096"/>
                </a:cubicBezTo>
                <a:cubicBezTo>
                  <a:pt x="15782" y="10344"/>
                  <a:pt x="16085" y="10091"/>
                  <a:pt x="16173" y="10021"/>
                </a:cubicBezTo>
              </a:path>
              <a:path w="6549" h="1365">
                <a:moveTo>
                  <a:pt x="16073" y="9451"/>
                </a:moveTo>
                <a:cubicBezTo>
                  <a:pt x="16113" y="9696"/>
                  <a:pt x="16108" y="9953"/>
                  <a:pt x="16148" y="10195"/>
                </a:cubicBezTo>
                <a:cubicBezTo>
                  <a:pt x="16156" y="10211"/>
                  <a:pt x="16165" y="10228"/>
                  <a:pt x="16173" y="10244"/>
                </a:cubicBezTo>
              </a:path>
              <a:path w="6549" h="1365">
                <a:moveTo>
                  <a:pt x="16421" y="9947"/>
                </a:moveTo>
                <a:cubicBezTo>
                  <a:pt x="16513" y="9938"/>
                  <a:pt x="16742" y="10001"/>
                  <a:pt x="16694" y="9922"/>
                </a:cubicBezTo>
                <a:cubicBezTo>
                  <a:pt x="16677" y="9914"/>
                  <a:pt x="16661" y="9905"/>
                  <a:pt x="16644" y="9897"/>
                </a:cubicBezTo>
                <a:cubicBezTo>
                  <a:pt x="16513" y="9873"/>
                  <a:pt x="16446" y="9942"/>
                  <a:pt x="16446" y="10096"/>
                </a:cubicBezTo>
                <a:cubicBezTo>
                  <a:pt x="16445" y="10306"/>
                  <a:pt x="16703" y="10183"/>
                  <a:pt x="16793" y="10145"/>
                </a:cubicBezTo>
              </a:path>
              <a:path w="6549" h="1365">
                <a:moveTo>
                  <a:pt x="16892" y="9922"/>
                </a:moveTo>
                <a:cubicBezTo>
                  <a:pt x="16903" y="10026"/>
                  <a:pt x="16928" y="10122"/>
                  <a:pt x="16966" y="10220"/>
                </a:cubicBezTo>
                <a:cubicBezTo>
                  <a:pt x="16953" y="10125"/>
                  <a:pt x="16891" y="9956"/>
                  <a:pt x="16966" y="9872"/>
                </a:cubicBezTo>
                <a:cubicBezTo>
                  <a:pt x="17102" y="9721"/>
                  <a:pt x="17278" y="9884"/>
                  <a:pt x="17314" y="10021"/>
                </a:cubicBezTo>
                <a:cubicBezTo>
                  <a:pt x="17335" y="10101"/>
                  <a:pt x="17288" y="10135"/>
                  <a:pt x="17338" y="10170"/>
                </a:cubicBezTo>
              </a:path>
              <a:path w="6549" h="1365">
                <a:moveTo>
                  <a:pt x="17636" y="9847"/>
                </a:moveTo>
                <a:cubicBezTo>
                  <a:pt x="17554" y="9794"/>
                  <a:pt x="17412" y="9804"/>
                  <a:pt x="17363" y="9922"/>
                </a:cubicBezTo>
                <a:cubicBezTo>
                  <a:pt x="17289" y="10100"/>
                  <a:pt x="17510" y="10314"/>
                  <a:pt x="17686" y="10220"/>
                </a:cubicBezTo>
                <a:cubicBezTo>
                  <a:pt x="17911" y="10100"/>
                  <a:pt x="17745" y="9962"/>
                  <a:pt x="17611" y="9922"/>
                </a:cubicBezTo>
                <a:cubicBezTo>
                  <a:pt x="17603" y="9922"/>
                  <a:pt x="17595" y="9922"/>
                  <a:pt x="17587" y="9922"/>
                </a:cubicBezTo>
              </a:path>
              <a:path w="6549" h="1365">
                <a:moveTo>
                  <a:pt x="17859" y="9971"/>
                </a:moveTo>
                <a:cubicBezTo>
                  <a:pt x="17894" y="10070"/>
                  <a:pt x="17886" y="10144"/>
                  <a:pt x="17959" y="10220"/>
                </a:cubicBezTo>
                <a:cubicBezTo>
                  <a:pt x="17953" y="10116"/>
                  <a:pt x="17943" y="10017"/>
                  <a:pt x="17959" y="9922"/>
                </a:cubicBezTo>
                <a:cubicBezTo>
                  <a:pt x="18150" y="9853"/>
                  <a:pt x="18201" y="9907"/>
                  <a:pt x="18281" y="10096"/>
                </a:cubicBezTo>
                <a:cubicBezTo>
                  <a:pt x="18289" y="10121"/>
                  <a:pt x="18298" y="10145"/>
                  <a:pt x="18306" y="10170"/>
                </a:cubicBezTo>
                <a:cubicBezTo>
                  <a:pt x="18350" y="10098"/>
                  <a:pt x="18341" y="9986"/>
                  <a:pt x="18355" y="9897"/>
                </a:cubicBezTo>
                <a:cubicBezTo>
                  <a:pt x="18370" y="9800"/>
                  <a:pt x="18507" y="9853"/>
                  <a:pt x="18554" y="9897"/>
                </a:cubicBezTo>
                <a:cubicBezTo>
                  <a:pt x="18621" y="9960"/>
                  <a:pt x="18684" y="10114"/>
                  <a:pt x="18703" y="10195"/>
                </a:cubicBezTo>
                <a:cubicBezTo>
                  <a:pt x="18703" y="10211"/>
                  <a:pt x="18703" y="10228"/>
                  <a:pt x="18703" y="10244"/>
                </a:cubicBezTo>
              </a:path>
              <a:path w="6549" h="1365">
                <a:moveTo>
                  <a:pt x="18876" y="9872"/>
                </a:moveTo>
                <a:cubicBezTo>
                  <a:pt x="18876" y="9913"/>
                  <a:pt x="18854" y="10243"/>
                  <a:pt x="18926" y="10244"/>
                </a:cubicBezTo>
                <a:cubicBezTo>
                  <a:pt x="18926" y="10137"/>
                  <a:pt x="18926" y="10062"/>
                  <a:pt x="18926" y="9971"/>
                </a:cubicBezTo>
              </a:path>
              <a:path w="6549" h="1365">
                <a:moveTo>
                  <a:pt x="19124" y="9996"/>
                </a:moveTo>
                <a:cubicBezTo>
                  <a:pt x="19145" y="10119"/>
                  <a:pt x="19134" y="10149"/>
                  <a:pt x="19199" y="10195"/>
                </a:cubicBezTo>
                <a:cubicBezTo>
                  <a:pt x="19199" y="10063"/>
                  <a:pt x="19166" y="9958"/>
                  <a:pt x="19199" y="9823"/>
                </a:cubicBezTo>
                <a:cubicBezTo>
                  <a:pt x="19238" y="9662"/>
                  <a:pt x="19494" y="9819"/>
                  <a:pt x="19546" y="9872"/>
                </a:cubicBezTo>
                <a:cubicBezTo>
                  <a:pt x="19669" y="9998"/>
                  <a:pt x="19588" y="10118"/>
                  <a:pt x="19621" y="10220"/>
                </a:cubicBezTo>
                <a:cubicBezTo>
                  <a:pt x="19629" y="10220"/>
                  <a:pt x="19637" y="10220"/>
                  <a:pt x="19645" y="10220"/>
                </a:cubicBezTo>
              </a:path>
              <a:path w="6549" h="1365">
                <a:moveTo>
                  <a:pt x="20092" y="9897"/>
                </a:moveTo>
                <a:cubicBezTo>
                  <a:pt x="20056" y="9837"/>
                  <a:pt x="19967" y="9712"/>
                  <a:pt x="19869" y="9748"/>
                </a:cubicBezTo>
                <a:cubicBezTo>
                  <a:pt x="19749" y="9792"/>
                  <a:pt x="19461" y="10127"/>
                  <a:pt x="19695" y="10220"/>
                </a:cubicBezTo>
                <a:cubicBezTo>
                  <a:pt x="19856" y="10284"/>
                  <a:pt x="19940" y="10030"/>
                  <a:pt x="19993" y="9947"/>
                </a:cubicBezTo>
                <a:cubicBezTo>
                  <a:pt x="19993" y="10039"/>
                  <a:pt x="20069" y="10133"/>
                  <a:pt x="20166" y="10145"/>
                </a:cubicBezTo>
                <a:cubicBezTo>
                  <a:pt x="20307" y="10117"/>
                  <a:pt x="20358" y="10094"/>
                  <a:pt x="20389" y="9971"/>
                </a:cubicBezTo>
              </a:path>
              <a:path w="6549" h="1365">
                <a:moveTo>
                  <a:pt x="20216" y="9327"/>
                </a:moveTo>
                <a:cubicBezTo>
                  <a:pt x="20275" y="9586"/>
                  <a:pt x="20336" y="9841"/>
                  <a:pt x="20414" y="10096"/>
                </a:cubicBezTo>
                <a:cubicBezTo>
                  <a:pt x="20439" y="10169"/>
                  <a:pt x="20447" y="10195"/>
                  <a:pt x="20439" y="10096"/>
                </a:cubicBezTo>
              </a:path>
              <a:path w="6549" h="1365">
                <a:moveTo>
                  <a:pt x="20067" y="9699"/>
                </a:moveTo>
                <a:cubicBezTo>
                  <a:pt x="20291" y="9710"/>
                  <a:pt x="20512" y="9723"/>
                  <a:pt x="20737" y="9723"/>
                </a:cubicBezTo>
                <a:cubicBezTo>
                  <a:pt x="20778" y="9723"/>
                  <a:pt x="20786" y="9723"/>
                  <a:pt x="20811" y="9723"/>
                </a:cubicBezTo>
                <a:cubicBezTo>
                  <a:pt x="20798" y="9812"/>
                  <a:pt x="20690" y="9923"/>
                  <a:pt x="20737" y="10021"/>
                </a:cubicBezTo>
                <a:cubicBezTo>
                  <a:pt x="20793" y="10137"/>
                  <a:pt x="21033" y="10108"/>
                  <a:pt x="21109" y="10046"/>
                </a:cubicBezTo>
                <a:cubicBezTo>
                  <a:pt x="21221" y="9954"/>
                  <a:pt x="21090" y="9808"/>
                  <a:pt x="21010" y="9748"/>
                </a:cubicBezTo>
                <a:cubicBezTo>
                  <a:pt x="20985" y="9748"/>
                  <a:pt x="20977" y="9748"/>
                  <a:pt x="20960" y="9748"/>
                </a:cubicBezTo>
              </a:path>
              <a:path w="6549" h="1365">
                <a:moveTo>
                  <a:pt x="21233" y="9922"/>
                </a:moveTo>
                <a:cubicBezTo>
                  <a:pt x="21239" y="10014"/>
                  <a:pt x="21265" y="10071"/>
                  <a:pt x="21233" y="10071"/>
                </a:cubicBezTo>
                <a:cubicBezTo>
                  <a:pt x="21242" y="9951"/>
                  <a:pt x="21232" y="9817"/>
                  <a:pt x="21332" y="9773"/>
                </a:cubicBezTo>
                <a:cubicBezTo>
                  <a:pt x="21461" y="9716"/>
                  <a:pt x="21502" y="9718"/>
                  <a:pt x="21630" y="9748"/>
                </a:cubicBezTo>
              </a:path>
              <a:path w="6549" h="1365">
                <a:moveTo>
                  <a:pt x="21208" y="9079"/>
                </a:moveTo>
                <a:cubicBezTo>
                  <a:pt x="21406" y="9296"/>
                  <a:pt x="21634" y="9480"/>
                  <a:pt x="21803" y="9723"/>
                </a:cubicBezTo>
                <a:cubicBezTo>
                  <a:pt x="21976" y="9971"/>
                  <a:pt x="21998" y="10109"/>
                  <a:pt x="21878" y="10368"/>
                </a:cubicBezTo>
                <a:cubicBezTo>
                  <a:pt x="21856" y="10412"/>
                  <a:pt x="21853" y="10424"/>
                  <a:pt x="21828" y="104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429680" y="4197240"/>
            <a:ext cx="374400" cy="250920"/>
          </a:xfrm>
          <a:custGeom>
            <a:avLst/>
            <a:gdLst/>
            <a:ahLst/>
            <a:rect l="l" t="t" r="r" b="b"/>
            <a:pathLst>
              <a:path w="1042" h="696">
                <a:moveTo>
                  <a:pt x="20762" y="11658"/>
                </a:moveTo>
                <a:cubicBezTo>
                  <a:pt x="20708" y="11776"/>
                  <a:pt x="20666" y="11854"/>
                  <a:pt x="20638" y="11981"/>
                </a:cubicBezTo>
              </a:path>
              <a:path w="1042" h="696">
                <a:moveTo>
                  <a:pt x="21630" y="12353"/>
                </a:moveTo>
                <a:cubicBezTo>
                  <a:pt x="21652" y="12330"/>
                  <a:pt x="21657" y="12322"/>
                  <a:pt x="21679" y="12328"/>
                </a:cubicBezTo>
              </a:path>
              <a:path w="1042" h="696">
                <a:moveTo>
                  <a:pt x="21679" y="12328"/>
                </a:moveTo>
                <a:lnTo>
                  <a:pt x="21679" y="12328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277040" y="3875040"/>
            <a:ext cx="617760" cy="768240"/>
          </a:xfrm>
          <a:custGeom>
            <a:avLst/>
            <a:gdLst/>
            <a:ahLst/>
            <a:rect l="l" t="t" r="r" b="b"/>
            <a:pathLst>
              <a:path w="1712" h="2134">
                <a:moveTo>
                  <a:pt x="20861" y="10864"/>
                </a:moveTo>
                <a:cubicBezTo>
                  <a:pt x="20904" y="10821"/>
                  <a:pt x="21049" y="10689"/>
                  <a:pt x="21109" y="10790"/>
                </a:cubicBezTo>
                <a:cubicBezTo>
                  <a:pt x="21109" y="10904"/>
                  <a:pt x="21101" y="10950"/>
                  <a:pt x="21034" y="11013"/>
                </a:cubicBezTo>
                <a:cubicBezTo>
                  <a:pt x="20994" y="11075"/>
                  <a:pt x="21098" y="10970"/>
                  <a:pt x="21158" y="11063"/>
                </a:cubicBezTo>
                <a:cubicBezTo>
                  <a:pt x="21245" y="11198"/>
                  <a:pt x="21008" y="11422"/>
                  <a:pt x="20886" y="11311"/>
                </a:cubicBezTo>
                <a:cubicBezTo>
                  <a:pt x="20878" y="11278"/>
                  <a:pt x="20869" y="11245"/>
                  <a:pt x="20861" y="11212"/>
                </a:cubicBezTo>
              </a:path>
              <a:path w="1712" h="2134">
                <a:moveTo>
                  <a:pt x="21332" y="10939"/>
                </a:moveTo>
                <a:cubicBezTo>
                  <a:pt x="21284" y="11158"/>
                  <a:pt x="21272" y="11136"/>
                  <a:pt x="21406" y="11311"/>
                </a:cubicBezTo>
                <a:cubicBezTo>
                  <a:pt x="21617" y="11210"/>
                  <a:pt x="21628" y="11206"/>
                  <a:pt x="21704" y="10988"/>
                </a:cubicBezTo>
                <a:cubicBezTo>
                  <a:pt x="21522" y="10897"/>
                  <a:pt x="21529" y="10877"/>
                  <a:pt x="21332" y="10964"/>
                </a:cubicBezTo>
              </a:path>
              <a:path w="1712" h="2134">
                <a:moveTo>
                  <a:pt x="21481" y="11584"/>
                </a:moveTo>
                <a:cubicBezTo>
                  <a:pt x="21419" y="11603"/>
                  <a:pt x="21274" y="11616"/>
                  <a:pt x="21258" y="11658"/>
                </a:cubicBezTo>
                <a:cubicBezTo>
                  <a:pt x="21236" y="11716"/>
                  <a:pt x="21233" y="11730"/>
                  <a:pt x="21233" y="11782"/>
                </a:cubicBezTo>
                <a:cubicBezTo>
                  <a:pt x="21346" y="11789"/>
                  <a:pt x="21444" y="11806"/>
                  <a:pt x="21555" y="11832"/>
                </a:cubicBezTo>
                <a:cubicBezTo>
                  <a:pt x="21574" y="12054"/>
                  <a:pt x="21420" y="12013"/>
                  <a:pt x="21233" y="12005"/>
                </a:cubicBezTo>
              </a:path>
              <a:path w="1712" h="2134">
                <a:moveTo>
                  <a:pt x="20538" y="11733"/>
                </a:moveTo>
                <a:cubicBezTo>
                  <a:pt x="20636" y="11793"/>
                  <a:pt x="20704" y="11848"/>
                  <a:pt x="20786" y="11931"/>
                </a:cubicBezTo>
              </a:path>
              <a:path w="1712" h="2134">
                <a:moveTo>
                  <a:pt x="20216" y="12229"/>
                </a:moveTo>
                <a:cubicBezTo>
                  <a:pt x="20728" y="12162"/>
                  <a:pt x="21242" y="12116"/>
                  <a:pt x="21754" y="12055"/>
                </a:cubicBezTo>
                <a:cubicBezTo>
                  <a:pt x="21762" y="12055"/>
                  <a:pt x="21771" y="12055"/>
                  <a:pt x="21779" y="12055"/>
                </a:cubicBezTo>
              </a:path>
              <a:path w="1712" h="2134">
                <a:moveTo>
                  <a:pt x="21630" y="12353"/>
                </a:moveTo>
                <a:cubicBezTo>
                  <a:pt x="21487" y="12525"/>
                  <a:pt x="21456" y="12586"/>
                  <a:pt x="21530" y="12799"/>
                </a:cubicBezTo>
                <a:cubicBezTo>
                  <a:pt x="21711" y="12789"/>
                  <a:pt x="21927" y="12774"/>
                  <a:pt x="21927" y="12526"/>
                </a:cubicBezTo>
                <a:cubicBezTo>
                  <a:pt x="21927" y="12361"/>
                  <a:pt x="21773" y="12338"/>
                  <a:pt x="21654" y="12328"/>
                </a:cubicBezTo>
              </a:path>
              <a:path w="1712" h="2134">
                <a:moveTo>
                  <a:pt x="20638" y="12427"/>
                </a:moveTo>
                <a:cubicBezTo>
                  <a:pt x="20638" y="12328"/>
                  <a:pt x="20638" y="12576"/>
                  <a:pt x="20638" y="12675"/>
                </a:cubicBezTo>
                <a:cubicBezTo>
                  <a:pt x="20638" y="12800"/>
                  <a:pt x="20631" y="12827"/>
                  <a:pt x="20662" y="12898"/>
                </a:cubicBezTo>
              </a:path>
              <a:path w="1712" h="2134">
                <a:moveTo>
                  <a:pt x="21109" y="12303"/>
                </a:moveTo>
                <a:cubicBezTo>
                  <a:pt x="21077" y="12323"/>
                  <a:pt x="20938" y="12386"/>
                  <a:pt x="20935" y="12402"/>
                </a:cubicBezTo>
                <a:cubicBezTo>
                  <a:pt x="20923" y="12476"/>
                  <a:pt x="20910" y="12550"/>
                  <a:pt x="20910" y="12626"/>
                </a:cubicBezTo>
                <a:cubicBezTo>
                  <a:pt x="20968" y="12579"/>
                  <a:pt x="21078" y="12514"/>
                  <a:pt x="21158" y="12551"/>
                </a:cubicBezTo>
                <a:cubicBezTo>
                  <a:pt x="21308" y="12621"/>
                  <a:pt x="21270" y="12872"/>
                  <a:pt x="21109" y="12898"/>
                </a:cubicBezTo>
                <a:cubicBezTo>
                  <a:pt x="21003" y="12878"/>
                  <a:pt x="20975" y="12883"/>
                  <a:pt x="20935" y="128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500960" y="5081760"/>
            <a:ext cx="125280" cy="222120"/>
          </a:xfrm>
          <a:custGeom>
            <a:avLst/>
            <a:gdLst/>
            <a:ahLst/>
            <a:rect l="l" t="t" r="r" b="b"/>
            <a:pathLst>
              <a:path w="348" h="621">
                <a:moveTo>
                  <a:pt x="21010" y="14114"/>
                </a:moveTo>
                <a:cubicBezTo>
                  <a:pt x="20891" y="14217"/>
                  <a:pt x="20836" y="14395"/>
                  <a:pt x="20836" y="14560"/>
                </a:cubicBezTo>
                <a:cubicBezTo>
                  <a:pt x="20856" y="14661"/>
                  <a:pt x="20854" y="14681"/>
                  <a:pt x="20886" y="14734"/>
                </a:cubicBezTo>
                <a:cubicBezTo>
                  <a:pt x="21086" y="14687"/>
                  <a:pt x="21195" y="14594"/>
                  <a:pt x="21183" y="14362"/>
                </a:cubicBezTo>
                <a:cubicBezTo>
                  <a:pt x="21179" y="14281"/>
                  <a:pt x="21133" y="14202"/>
                  <a:pt x="21084" y="141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85000" y="5697360"/>
            <a:ext cx="750960" cy="812880"/>
          </a:xfrm>
          <a:custGeom>
            <a:avLst/>
            <a:gdLst/>
            <a:ahLst/>
            <a:rect l="l" t="t" r="r" b="b"/>
            <a:pathLst>
              <a:path w="2085" h="2259">
                <a:moveTo>
                  <a:pt x="19124" y="16222"/>
                </a:moveTo>
                <a:cubicBezTo>
                  <a:pt x="19521" y="16177"/>
                  <a:pt x="19921" y="16167"/>
                  <a:pt x="20315" y="16123"/>
                </a:cubicBezTo>
              </a:path>
              <a:path w="2085" h="2259">
                <a:moveTo>
                  <a:pt x="20216" y="16272"/>
                </a:moveTo>
                <a:cubicBezTo>
                  <a:pt x="20079" y="16387"/>
                  <a:pt x="20018" y="16467"/>
                  <a:pt x="19993" y="16644"/>
                </a:cubicBezTo>
                <a:cubicBezTo>
                  <a:pt x="20141" y="16656"/>
                  <a:pt x="20280" y="16606"/>
                  <a:pt x="20290" y="16421"/>
                </a:cubicBezTo>
                <a:cubicBezTo>
                  <a:pt x="20269" y="16337"/>
                  <a:pt x="20275" y="16310"/>
                  <a:pt x="20216" y="16297"/>
                </a:cubicBezTo>
              </a:path>
              <a:path w="2085" h="2259">
                <a:moveTo>
                  <a:pt x="20687" y="15825"/>
                </a:moveTo>
                <a:cubicBezTo>
                  <a:pt x="20687" y="15911"/>
                  <a:pt x="20675" y="16001"/>
                  <a:pt x="20662" y="16073"/>
                </a:cubicBezTo>
                <a:cubicBezTo>
                  <a:pt x="20662" y="16114"/>
                  <a:pt x="20671" y="16131"/>
                  <a:pt x="20638" y="16123"/>
                </a:cubicBezTo>
              </a:path>
              <a:path w="2085" h="2259">
                <a:moveTo>
                  <a:pt x="20538" y="16024"/>
                </a:moveTo>
                <a:cubicBezTo>
                  <a:pt x="20549" y="16046"/>
                  <a:pt x="20610" y="16197"/>
                  <a:pt x="20662" y="16148"/>
                </a:cubicBezTo>
                <a:cubicBezTo>
                  <a:pt x="20715" y="16098"/>
                  <a:pt x="20826" y="15969"/>
                  <a:pt x="20861" y="15999"/>
                </a:cubicBezTo>
                <a:cubicBezTo>
                  <a:pt x="20869" y="16007"/>
                  <a:pt x="20878" y="16016"/>
                  <a:pt x="20886" y="16024"/>
                </a:cubicBezTo>
              </a:path>
              <a:path w="2085" h="2259">
                <a:moveTo>
                  <a:pt x="20687" y="16346"/>
                </a:moveTo>
                <a:cubicBezTo>
                  <a:pt x="20587" y="16346"/>
                  <a:pt x="20581" y="16331"/>
                  <a:pt x="20513" y="16446"/>
                </a:cubicBezTo>
                <a:cubicBezTo>
                  <a:pt x="20474" y="16512"/>
                  <a:pt x="20463" y="16647"/>
                  <a:pt x="20588" y="16619"/>
                </a:cubicBezTo>
                <a:cubicBezTo>
                  <a:pt x="20649" y="16605"/>
                  <a:pt x="20875" y="16456"/>
                  <a:pt x="20762" y="16371"/>
                </a:cubicBezTo>
                <a:cubicBezTo>
                  <a:pt x="20717" y="16371"/>
                  <a:pt x="20704" y="16374"/>
                  <a:pt x="20687" y="16346"/>
                </a:cubicBezTo>
              </a:path>
              <a:path w="2085" h="2259">
                <a:moveTo>
                  <a:pt x="20737" y="16867"/>
                </a:moveTo>
                <a:cubicBezTo>
                  <a:pt x="20714" y="16936"/>
                  <a:pt x="20596" y="17001"/>
                  <a:pt x="20538" y="17066"/>
                </a:cubicBezTo>
                <a:cubicBezTo>
                  <a:pt x="20426" y="17192"/>
                  <a:pt x="20522" y="17288"/>
                  <a:pt x="20662" y="17239"/>
                </a:cubicBezTo>
                <a:cubicBezTo>
                  <a:pt x="20760" y="17205"/>
                  <a:pt x="20930" y="17058"/>
                  <a:pt x="20836" y="16942"/>
                </a:cubicBezTo>
                <a:cubicBezTo>
                  <a:pt x="20779" y="16914"/>
                  <a:pt x="20756" y="16903"/>
                  <a:pt x="20712" y="16892"/>
                </a:cubicBezTo>
              </a:path>
              <a:path w="2085" h="2259">
                <a:moveTo>
                  <a:pt x="19472" y="17016"/>
                </a:moveTo>
                <a:cubicBezTo>
                  <a:pt x="19601" y="17016"/>
                  <a:pt x="19715" y="17006"/>
                  <a:pt x="19844" y="16991"/>
                </a:cubicBezTo>
              </a:path>
              <a:path w="2085" h="2259">
                <a:moveTo>
                  <a:pt x="19546" y="17562"/>
                </a:moveTo>
                <a:cubicBezTo>
                  <a:pt x="19862" y="17498"/>
                  <a:pt x="20190" y="17472"/>
                  <a:pt x="20513" y="17462"/>
                </a:cubicBezTo>
                <a:cubicBezTo>
                  <a:pt x="20744" y="17455"/>
                  <a:pt x="20977" y="17462"/>
                  <a:pt x="21208" y="17462"/>
                </a:cubicBezTo>
              </a:path>
              <a:path w="2085" h="2259">
                <a:moveTo>
                  <a:pt x="20886" y="17636"/>
                </a:moveTo>
                <a:cubicBezTo>
                  <a:pt x="20813" y="17727"/>
                  <a:pt x="20701" y="17819"/>
                  <a:pt x="20662" y="17934"/>
                </a:cubicBezTo>
                <a:cubicBezTo>
                  <a:pt x="20662" y="18019"/>
                  <a:pt x="20656" y="18039"/>
                  <a:pt x="20687" y="18083"/>
                </a:cubicBezTo>
                <a:cubicBezTo>
                  <a:pt x="20793" y="18045"/>
                  <a:pt x="21084" y="17941"/>
                  <a:pt x="20985" y="17760"/>
                </a:cubicBezTo>
                <a:cubicBezTo>
                  <a:pt x="20924" y="17740"/>
                  <a:pt x="20910" y="17742"/>
                  <a:pt x="20886" y="177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795920" y="6018120"/>
            <a:ext cx="88920" cy="36720"/>
          </a:xfrm>
          <a:custGeom>
            <a:avLst/>
            <a:gdLst/>
            <a:ahLst/>
            <a:rect l="l" t="t" r="r" b="b"/>
            <a:pathLst>
              <a:path w="249" h="101">
                <a:moveTo>
                  <a:pt x="13320" y="16818"/>
                </a:moveTo>
                <a:cubicBezTo>
                  <a:pt x="13359" y="16800"/>
                  <a:pt x="13586" y="16699"/>
                  <a:pt x="13568" y="16743"/>
                </a:cubicBezTo>
                <a:cubicBezTo>
                  <a:pt x="13552" y="16768"/>
                  <a:pt x="13535" y="16793"/>
                  <a:pt x="13519" y="168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071960" y="3751200"/>
            <a:ext cx="455760" cy="677880"/>
          </a:xfrm>
          <a:custGeom>
            <a:avLst/>
            <a:gdLst/>
            <a:ahLst/>
            <a:rect l="l" t="t" r="r" b="b"/>
            <a:pathLst>
              <a:path w="1266" h="1886">
                <a:moveTo>
                  <a:pt x="11633" y="10542"/>
                </a:moveTo>
                <a:cubicBezTo>
                  <a:pt x="11633" y="10621"/>
                  <a:pt x="11709" y="10728"/>
                  <a:pt x="11757" y="10790"/>
                </a:cubicBezTo>
                <a:cubicBezTo>
                  <a:pt x="11792" y="10835"/>
                  <a:pt x="11824" y="10878"/>
                  <a:pt x="11857" y="10889"/>
                </a:cubicBezTo>
              </a:path>
              <a:path w="1266" h="1886">
                <a:moveTo>
                  <a:pt x="11931" y="10418"/>
                </a:moveTo>
                <a:cubicBezTo>
                  <a:pt x="11910" y="10624"/>
                  <a:pt x="11886" y="10833"/>
                  <a:pt x="11857" y="11038"/>
                </a:cubicBezTo>
                <a:cubicBezTo>
                  <a:pt x="11842" y="11145"/>
                  <a:pt x="11807" y="11252"/>
                  <a:pt x="11807" y="11361"/>
                </a:cubicBezTo>
                <a:cubicBezTo>
                  <a:pt x="11807" y="11369"/>
                  <a:pt x="11807" y="11377"/>
                  <a:pt x="11807" y="11385"/>
                </a:cubicBezTo>
              </a:path>
              <a:path w="1266" h="1886">
                <a:moveTo>
                  <a:pt x="11336" y="11559"/>
                </a:moveTo>
                <a:cubicBezTo>
                  <a:pt x="11251" y="11559"/>
                  <a:pt x="11450" y="11523"/>
                  <a:pt x="11534" y="11509"/>
                </a:cubicBezTo>
                <a:cubicBezTo>
                  <a:pt x="11797" y="11467"/>
                  <a:pt x="12064" y="11449"/>
                  <a:pt x="12328" y="11410"/>
                </a:cubicBezTo>
                <a:cubicBezTo>
                  <a:pt x="12413" y="11398"/>
                  <a:pt x="12493" y="11361"/>
                  <a:pt x="12576" y="11361"/>
                </a:cubicBezTo>
              </a:path>
              <a:path w="1266" h="1886">
                <a:moveTo>
                  <a:pt x="11931" y="11633"/>
                </a:moveTo>
                <a:cubicBezTo>
                  <a:pt x="11948" y="11749"/>
                  <a:pt x="11940" y="11866"/>
                  <a:pt x="11956" y="11981"/>
                </a:cubicBezTo>
                <a:cubicBezTo>
                  <a:pt x="11966" y="12057"/>
                  <a:pt x="11971" y="12133"/>
                  <a:pt x="11981" y="12179"/>
                </a:cubicBezTo>
                <a:cubicBezTo>
                  <a:pt x="11992" y="12226"/>
                  <a:pt x="11995" y="12258"/>
                  <a:pt x="12005" y="12278"/>
                </a:cubicBezTo>
                <a:cubicBezTo>
                  <a:pt x="12005" y="12286"/>
                  <a:pt x="12005" y="12295"/>
                  <a:pt x="12005" y="123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1800" y="5018040"/>
            <a:ext cx="490320" cy="1322280"/>
          </a:xfrm>
          <a:custGeom>
            <a:avLst/>
            <a:gdLst/>
            <a:ahLst/>
            <a:rect l="l" t="t" r="r" b="b"/>
            <a:pathLst>
              <a:path w="1365" h="3672">
                <a:moveTo>
                  <a:pt x="12254" y="14635"/>
                </a:moveTo>
                <a:cubicBezTo>
                  <a:pt x="12452" y="14526"/>
                  <a:pt x="12651" y="14421"/>
                  <a:pt x="12849" y="14312"/>
                </a:cubicBezTo>
                <a:cubicBezTo>
                  <a:pt x="13077" y="14186"/>
                  <a:pt x="13309" y="14078"/>
                  <a:pt x="13543" y="13965"/>
                </a:cubicBezTo>
                <a:cubicBezTo>
                  <a:pt x="13584" y="13945"/>
                  <a:pt x="13590" y="13936"/>
                  <a:pt x="13618" y="13940"/>
                </a:cubicBezTo>
              </a:path>
              <a:path w="1365" h="3672">
                <a:moveTo>
                  <a:pt x="12675" y="14808"/>
                </a:moveTo>
                <a:cubicBezTo>
                  <a:pt x="12742" y="14987"/>
                  <a:pt x="12663" y="15215"/>
                  <a:pt x="12626" y="15404"/>
                </a:cubicBezTo>
                <a:cubicBezTo>
                  <a:pt x="12611" y="15483"/>
                  <a:pt x="12601" y="15511"/>
                  <a:pt x="12601" y="15577"/>
                </a:cubicBezTo>
              </a:path>
              <a:path w="1365" h="3672">
                <a:moveTo>
                  <a:pt x="12551" y="16520"/>
                </a:moveTo>
                <a:cubicBezTo>
                  <a:pt x="12634" y="16635"/>
                  <a:pt x="12686" y="16778"/>
                  <a:pt x="12774" y="16892"/>
                </a:cubicBezTo>
                <a:cubicBezTo>
                  <a:pt x="12813" y="16942"/>
                  <a:pt x="12829" y="17086"/>
                  <a:pt x="12874" y="17041"/>
                </a:cubicBezTo>
                <a:cubicBezTo>
                  <a:pt x="12874" y="17033"/>
                  <a:pt x="12874" y="17024"/>
                  <a:pt x="12874" y="17016"/>
                </a:cubicBezTo>
              </a:path>
              <a:path w="1365" h="3672">
                <a:moveTo>
                  <a:pt x="12849" y="16371"/>
                </a:moveTo>
                <a:cubicBezTo>
                  <a:pt x="12849" y="16654"/>
                  <a:pt x="12796" y="16912"/>
                  <a:pt x="12750" y="17190"/>
                </a:cubicBezTo>
                <a:cubicBezTo>
                  <a:pt x="12741" y="17243"/>
                  <a:pt x="12685" y="17391"/>
                  <a:pt x="12750" y="17413"/>
                </a:cubicBezTo>
              </a:path>
              <a:path w="1365" h="3672">
                <a:moveTo>
                  <a:pt x="12452" y="16421"/>
                </a:moveTo>
                <a:cubicBezTo>
                  <a:pt x="12452" y="16396"/>
                  <a:pt x="12452" y="16388"/>
                  <a:pt x="12452" y="16371"/>
                </a:cubicBezTo>
                <a:cubicBezTo>
                  <a:pt x="12515" y="16519"/>
                  <a:pt x="12646" y="16688"/>
                  <a:pt x="12750" y="16818"/>
                </a:cubicBezTo>
                <a:cubicBezTo>
                  <a:pt x="12805" y="16873"/>
                  <a:pt x="12830" y="16871"/>
                  <a:pt x="12824" y="16917"/>
                </a:cubicBezTo>
              </a:path>
              <a:path w="1365" h="3672">
                <a:moveTo>
                  <a:pt x="12824" y="16421"/>
                </a:moveTo>
                <a:cubicBezTo>
                  <a:pt x="12824" y="16713"/>
                  <a:pt x="12805" y="16998"/>
                  <a:pt x="12774" y="17289"/>
                </a:cubicBezTo>
                <a:cubicBezTo>
                  <a:pt x="12762" y="17403"/>
                  <a:pt x="12741" y="17502"/>
                  <a:pt x="12725" y="176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010200" y="4357800"/>
            <a:ext cx="177840" cy="295200"/>
          </a:xfrm>
          <a:custGeom>
            <a:avLst/>
            <a:gdLst/>
            <a:ahLst/>
            <a:rect l="l" t="t" r="r" b="b"/>
            <a:pathLst>
              <a:path w="497" h="819">
                <a:moveTo>
                  <a:pt x="17066" y="12105"/>
                </a:moveTo>
                <a:cubicBezTo>
                  <a:pt x="16959" y="12128"/>
                  <a:pt x="16826" y="12149"/>
                  <a:pt x="16718" y="12179"/>
                </a:cubicBezTo>
                <a:cubicBezTo>
                  <a:pt x="16647" y="12198"/>
                  <a:pt x="16694" y="12456"/>
                  <a:pt x="16694" y="12526"/>
                </a:cubicBezTo>
                <a:cubicBezTo>
                  <a:pt x="16694" y="12543"/>
                  <a:pt x="16694" y="12559"/>
                  <a:pt x="16694" y="12576"/>
                </a:cubicBezTo>
                <a:cubicBezTo>
                  <a:pt x="16796" y="12553"/>
                  <a:pt x="16878" y="12452"/>
                  <a:pt x="16991" y="12452"/>
                </a:cubicBezTo>
                <a:cubicBezTo>
                  <a:pt x="17237" y="12452"/>
                  <a:pt x="17241" y="12737"/>
                  <a:pt x="17090" y="12874"/>
                </a:cubicBezTo>
                <a:cubicBezTo>
                  <a:pt x="17015" y="12942"/>
                  <a:pt x="16907" y="12923"/>
                  <a:pt x="16818" y="129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85880" y="3956040"/>
            <a:ext cx="6367320" cy="1839960"/>
          </a:xfrm>
          <a:custGeom>
            <a:avLst/>
            <a:gdLst/>
            <a:ahLst/>
            <a:rect l="l" t="t" r="r" b="b"/>
            <a:pathLst>
              <a:path w="17687" h="5111">
                <a:moveTo>
                  <a:pt x="6747" y="12551"/>
                </a:moveTo>
                <a:cubicBezTo>
                  <a:pt x="6894" y="12477"/>
                  <a:pt x="7043" y="12419"/>
                  <a:pt x="7193" y="12353"/>
                </a:cubicBezTo>
              </a:path>
              <a:path w="17687" h="5111">
                <a:moveTo>
                  <a:pt x="6697" y="12129"/>
                </a:moveTo>
                <a:cubicBezTo>
                  <a:pt x="6893" y="12069"/>
                  <a:pt x="7109" y="11981"/>
                  <a:pt x="7317" y="11981"/>
                </a:cubicBezTo>
                <a:cubicBezTo>
                  <a:pt x="7434" y="12004"/>
                  <a:pt x="7471" y="12007"/>
                  <a:pt x="7516" y="12080"/>
                </a:cubicBezTo>
              </a:path>
              <a:path w="17687" h="5111">
                <a:moveTo>
                  <a:pt x="8359" y="12129"/>
                </a:moveTo>
                <a:cubicBezTo>
                  <a:pt x="8359" y="12164"/>
                  <a:pt x="8354" y="12182"/>
                  <a:pt x="8334" y="12204"/>
                </a:cubicBezTo>
              </a:path>
              <a:path w="17687" h="5111">
                <a:moveTo>
                  <a:pt x="8359" y="12427"/>
                </a:moveTo>
                <a:lnTo>
                  <a:pt x="8359" y="12427"/>
                </a:lnTo>
                <a:lnTo>
                  <a:pt x="8359" y="12427"/>
                </a:lnTo>
              </a:path>
              <a:path w="17687" h="5111">
                <a:moveTo>
                  <a:pt x="8359" y="12427"/>
                </a:moveTo>
                <a:lnTo>
                  <a:pt x="8359" y="12427"/>
                </a:lnTo>
              </a:path>
              <a:path w="17687" h="5111">
                <a:moveTo>
                  <a:pt x="13122" y="12874"/>
                </a:moveTo>
                <a:cubicBezTo>
                  <a:pt x="13249" y="12793"/>
                  <a:pt x="13392" y="12768"/>
                  <a:pt x="13543" y="12750"/>
                </a:cubicBezTo>
                <a:cubicBezTo>
                  <a:pt x="13560" y="12750"/>
                  <a:pt x="13576" y="12750"/>
                  <a:pt x="13593" y="12750"/>
                </a:cubicBezTo>
              </a:path>
              <a:path w="17687" h="5111">
                <a:moveTo>
                  <a:pt x="13146" y="13022"/>
                </a:moveTo>
                <a:cubicBezTo>
                  <a:pt x="13295" y="12999"/>
                  <a:pt x="13445" y="12969"/>
                  <a:pt x="13593" y="12948"/>
                </a:cubicBezTo>
              </a:path>
              <a:path w="17687" h="5111">
                <a:moveTo>
                  <a:pt x="11261" y="13395"/>
                </a:moveTo>
                <a:cubicBezTo>
                  <a:pt x="11288" y="13527"/>
                  <a:pt x="11408" y="13663"/>
                  <a:pt x="11485" y="13767"/>
                </a:cubicBezTo>
                <a:cubicBezTo>
                  <a:pt x="11569" y="13873"/>
                  <a:pt x="11583" y="13901"/>
                  <a:pt x="11658" y="13940"/>
                </a:cubicBezTo>
              </a:path>
              <a:path w="17687" h="5111">
                <a:moveTo>
                  <a:pt x="16173" y="12278"/>
                </a:moveTo>
                <a:cubicBezTo>
                  <a:pt x="16063" y="12505"/>
                  <a:pt x="15933" y="12724"/>
                  <a:pt x="15825" y="12948"/>
                </a:cubicBezTo>
                <a:cubicBezTo>
                  <a:pt x="15825" y="12956"/>
                  <a:pt x="15825" y="12965"/>
                  <a:pt x="15825" y="12973"/>
                </a:cubicBezTo>
              </a:path>
              <a:path w="17687" h="5111">
                <a:moveTo>
                  <a:pt x="10790" y="13047"/>
                </a:moveTo>
                <a:lnTo>
                  <a:pt x="10790" y="13047"/>
                </a:lnTo>
              </a:path>
              <a:path w="17687" h="5111">
                <a:moveTo>
                  <a:pt x="10815" y="13543"/>
                </a:moveTo>
                <a:cubicBezTo>
                  <a:pt x="10815" y="13551"/>
                  <a:pt x="10815" y="13560"/>
                  <a:pt x="10815" y="13568"/>
                </a:cubicBezTo>
              </a:path>
              <a:path w="17687" h="5111">
                <a:moveTo>
                  <a:pt x="13097" y="13990"/>
                </a:moveTo>
                <a:cubicBezTo>
                  <a:pt x="13097" y="13982"/>
                  <a:pt x="13097" y="13973"/>
                  <a:pt x="13097" y="13965"/>
                </a:cubicBezTo>
              </a:path>
              <a:path w="17687" h="5111">
                <a:moveTo>
                  <a:pt x="13146" y="14288"/>
                </a:moveTo>
                <a:lnTo>
                  <a:pt x="13146" y="14288"/>
                </a:lnTo>
              </a:path>
              <a:path w="17687" h="5111">
                <a:moveTo>
                  <a:pt x="10492" y="11881"/>
                </a:moveTo>
                <a:cubicBezTo>
                  <a:pt x="10514" y="12096"/>
                  <a:pt x="10510" y="12311"/>
                  <a:pt x="10542" y="12526"/>
                </a:cubicBezTo>
                <a:cubicBezTo>
                  <a:pt x="10561" y="12600"/>
                  <a:pt x="10569" y="12607"/>
                  <a:pt x="10567" y="12650"/>
                </a:cubicBezTo>
              </a:path>
              <a:path w="17687" h="5111">
                <a:moveTo>
                  <a:pt x="2183" y="11212"/>
                </a:moveTo>
                <a:cubicBezTo>
                  <a:pt x="2332" y="11305"/>
                  <a:pt x="2429" y="11442"/>
                  <a:pt x="2505" y="11609"/>
                </a:cubicBezTo>
                <a:cubicBezTo>
                  <a:pt x="2528" y="11676"/>
                  <a:pt x="2539" y="11694"/>
                  <a:pt x="2505" y="11733"/>
                </a:cubicBezTo>
              </a:path>
              <a:path w="17687" h="5111">
                <a:moveTo>
                  <a:pt x="3249" y="10988"/>
                </a:moveTo>
                <a:cubicBezTo>
                  <a:pt x="3283" y="11330"/>
                  <a:pt x="3252" y="11621"/>
                  <a:pt x="3175" y="11956"/>
                </a:cubicBezTo>
                <a:cubicBezTo>
                  <a:pt x="3167" y="11989"/>
                  <a:pt x="3158" y="12022"/>
                  <a:pt x="3150" y="12055"/>
                </a:cubicBezTo>
              </a:path>
              <a:path w="17687" h="5111">
                <a:moveTo>
                  <a:pt x="19869" y="14957"/>
                </a:moveTo>
                <a:cubicBezTo>
                  <a:pt x="19835" y="15197"/>
                  <a:pt x="19779" y="15424"/>
                  <a:pt x="19695" y="15652"/>
                </a:cubicBezTo>
                <a:cubicBezTo>
                  <a:pt x="19687" y="15668"/>
                  <a:pt x="19678" y="15685"/>
                  <a:pt x="19670" y="15701"/>
                </a:cubicBezTo>
              </a:path>
              <a:path w="17687" h="5111">
                <a:moveTo>
                  <a:pt x="19596" y="15825"/>
                </a:moveTo>
                <a:lnTo>
                  <a:pt x="19596" y="15825"/>
                </a:lnTo>
              </a:path>
              <a:path w="17687" h="5111">
                <a:moveTo>
                  <a:pt x="19075" y="16098"/>
                </a:moveTo>
                <a:cubicBezTo>
                  <a:pt x="19142" y="16088"/>
                  <a:pt x="19205" y="16078"/>
                  <a:pt x="19273" y="160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65120" y="3697200"/>
            <a:ext cx="2374920" cy="2955960"/>
          </a:xfrm>
          <a:custGeom>
            <a:avLst/>
            <a:gdLst/>
            <a:ahLst/>
            <a:rect l="l" t="t" r="r" b="b"/>
            <a:pathLst>
              <a:path w="6599" h="8211">
                <a:moveTo>
                  <a:pt x="6772" y="12204"/>
                </a:moveTo>
                <a:cubicBezTo>
                  <a:pt x="6772" y="12371"/>
                  <a:pt x="6751" y="12533"/>
                  <a:pt x="6747" y="12700"/>
                </a:cubicBezTo>
                <a:cubicBezTo>
                  <a:pt x="6747" y="12733"/>
                  <a:pt x="6747" y="12766"/>
                  <a:pt x="6747" y="12799"/>
                </a:cubicBezTo>
                <a:cubicBezTo>
                  <a:pt x="6886" y="12837"/>
                  <a:pt x="6964" y="12821"/>
                  <a:pt x="7094" y="12750"/>
                </a:cubicBezTo>
              </a:path>
              <a:path w="6599" h="8211">
                <a:moveTo>
                  <a:pt x="7541" y="12303"/>
                </a:moveTo>
                <a:cubicBezTo>
                  <a:pt x="7623" y="12393"/>
                  <a:pt x="7746" y="12611"/>
                  <a:pt x="7863" y="12650"/>
                </a:cubicBezTo>
                <a:cubicBezTo>
                  <a:pt x="7871" y="12642"/>
                  <a:pt x="7880" y="12634"/>
                  <a:pt x="7888" y="12626"/>
                </a:cubicBezTo>
              </a:path>
              <a:path w="6599" h="8211">
                <a:moveTo>
                  <a:pt x="7863" y="12129"/>
                </a:moveTo>
                <a:cubicBezTo>
                  <a:pt x="7773" y="12326"/>
                  <a:pt x="7704" y="12519"/>
                  <a:pt x="7640" y="12725"/>
                </a:cubicBezTo>
              </a:path>
              <a:path w="6599" h="8211">
                <a:moveTo>
                  <a:pt x="5879" y="10542"/>
                </a:moveTo>
                <a:cubicBezTo>
                  <a:pt x="5818" y="10785"/>
                  <a:pt x="5705" y="11001"/>
                  <a:pt x="5631" y="11237"/>
                </a:cubicBezTo>
                <a:cubicBezTo>
                  <a:pt x="5539" y="11531"/>
                  <a:pt x="5579" y="11595"/>
                  <a:pt x="5705" y="11807"/>
                </a:cubicBezTo>
                <a:cubicBezTo>
                  <a:pt x="5891" y="12121"/>
                  <a:pt x="5813" y="12247"/>
                  <a:pt x="5779" y="12626"/>
                </a:cubicBezTo>
                <a:cubicBezTo>
                  <a:pt x="5759" y="12848"/>
                  <a:pt x="5804" y="12996"/>
                  <a:pt x="5928" y="13171"/>
                </a:cubicBezTo>
                <a:cubicBezTo>
                  <a:pt x="6115" y="13436"/>
                  <a:pt x="6162" y="13496"/>
                  <a:pt x="6077" y="13841"/>
                </a:cubicBezTo>
                <a:cubicBezTo>
                  <a:pt x="6019" y="14078"/>
                  <a:pt x="5842" y="14440"/>
                  <a:pt x="5928" y="14684"/>
                </a:cubicBezTo>
                <a:cubicBezTo>
                  <a:pt x="6015" y="14932"/>
                  <a:pt x="6037" y="14960"/>
                  <a:pt x="5928" y="15255"/>
                </a:cubicBezTo>
                <a:cubicBezTo>
                  <a:pt x="5791" y="15626"/>
                  <a:pt x="5744" y="15776"/>
                  <a:pt x="5804" y="16148"/>
                </a:cubicBezTo>
                <a:cubicBezTo>
                  <a:pt x="5844" y="16394"/>
                  <a:pt x="5677" y="16595"/>
                  <a:pt x="5705" y="16818"/>
                </a:cubicBezTo>
                <a:cubicBezTo>
                  <a:pt x="5719" y="16930"/>
                  <a:pt x="5802" y="16914"/>
                  <a:pt x="5829" y="17016"/>
                </a:cubicBezTo>
                <a:cubicBezTo>
                  <a:pt x="5879" y="17205"/>
                  <a:pt x="5845" y="17493"/>
                  <a:pt x="5854" y="17686"/>
                </a:cubicBezTo>
                <a:cubicBezTo>
                  <a:pt x="5864" y="17888"/>
                  <a:pt x="5833" y="18082"/>
                  <a:pt x="5829" y="18281"/>
                </a:cubicBezTo>
                <a:cubicBezTo>
                  <a:pt x="5828" y="18333"/>
                  <a:pt x="5846" y="18344"/>
                  <a:pt x="5829" y="18405"/>
                </a:cubicBezTo>
                <a:cubicBezTo>
                  <a:pt x="5818" y="18443"/>
                  <a:pt x="5794" y="18444"/>
                  <a:pt x="5779" y="18479"/>
                </a:cubicBezTo>
              </a:path>
              <a:path w="6599" h="8211">
                <a:moveTo>
                  <a:pt x="2059" y="11063"/>
                </a:moveTo>
                <a:cubicBezTo>
                  <a:pt x="1971" y="11150"/>
                  <a:pt x="1889" y="11137"/>
                  <a:pt x="1761" y="11137"/>
                </a:cubicBezTo>
                <a:cubicBezTo>
                  <a:pt x="1680" y="11137"/>
                  <a:pt x="1669" y="11345"/>
                  <a:pt x="1662" y="11410"/>
                </a:cubicBezTo>
                <a:cubicBezTo>
                  <a:pt x="1731" y="11410"/>
                  <a:pt x="1854" y="11432"/>
                  <a:pt x="1910" y="11460"/>
                </a:cubicBezTo>
                <a:cubicBezTo>
                  <a:pt x="2152" y="11581"/>
                  <a:pt x="2002" y="11796"/>
                  <a:pt x="1811" y="11857"/>
                </a:cubicBezTo>
                <a:cubicBezTo>
                  <a:pt x="1694" y="11894"/>
                  <a:pt x="1566" y="11884"/>
                  <a:pt x="1488" y="11832"/>
                </a:cubicBezTo>
              </a:path>
              <a:path w="6599" h="8211">
                <a:moveTo>
                  <a:pt x="2580" y="11162"/>
                </a:moveTo>
                <a:cubicBezTo>
                  <a:pt x="2510" y="11313"/>
                  <a:pt x="2402" y="11441"/>
                  <a:pt x="2332" y="11584"/>
                </a:cubicBezTo>
                <a:cubicBezTo>
                  <a:pt x="2316" y="11616"/>
                  <a:pt x="2321" y="11605"/>
                  <a:pt x="2282" y="11633"/>
                </a:cubicBezTo>
              </a:path>
              <a:path w="6599" h="8211">
                <a:moveTo>
                  <a:pt x="2902" y="11187"/>
                </a:moveTo>
                <a:cubicBezTo>
                  <a:pt x="2989" y="11317"/>
                  <a:pt x="3075" y="11446"/>
                  <a:pt x="3150" y="11584"/>
                </a:cubicBezTo>
              </a:path>
              <a:path w="6599" h="8211">
                <a:moveTo>
                  <a:pt x="2679" y="12030"/>
                </a:moveTo>
                <a:cubicBezTo>
                  <a:pt x="2912" y="12059"/>
                  <a:pt x="3138" y="12029"/>
                  <a:pt x="3373" y="12005"/>
                </a:cubicBezTo>
                <a:cubicBezTo>
                  <a:pt x="3538" y="11985"/>
                  <a:pt x="3571" y="11977"/>
                  <a:pt x="3671" y="11981"/>
                </a:cubicBezTo>
              </a:path>
              <a:path w="6599" h="8211">
                <a:moveTo>
                  <a:pt x="3324" y="12179"/>
                </a:moveTo>
                <a:cubicBezTo>
                  <a:pt x="3264" y="12194"/>
                  <a:pt x="3094" y="12224"/>
                  <a:pt x="3051" y="12278"/>
                </a:cubicBezTo>
                <a:cubicBezTo>
                  <a:pt x="3016" y="12322"/>
                  <a:pt x="3051" y="12517"/>
                  <a:pt x="3051" y="12576"/>
                </a:cubicBezTo>
                <a:cubicBezTo>
                  <a:pt x="3150" y="12556"/>
                  <a:pt x="3241" y="12487"/>
                  <a:pt x="3349" y="12551"/>
                </a:cubicBezTo>
                <a:cubicBezTo>
                  <a:pt x="3588" y="12692"/>
                  <a:pt x="3202" y="12845"/>
                  <a:pt x="3101" y="12849"/>
                </a:cubicBezTo>
                <a:cubicBezTo>
                  <a:pt x="2972" y="12827"/>
                  <a:pt x="2939" y="12830"/>
                  <a:pt x="2877" y="12774"/>
                </a:cubicBezTo>
              </a:path>
              <a:path w="6599" h="8211">
                <a:moveTo>
                  <a:pt x="3175" y="11485"/>
                </a:moveTo>
                <a:cubicBezTo>
                  <a:pt x="3269" y="11507"/>
                  <a:pt x="3277" y="11654"/>
                  <a:pt x="3324" y="11733"/>
                </a:cubicBezTo>
                <a:cubicBezTo>
                  <a:pt x="3347" y="11755"/>
                  <a:pt x="3355" y="11760"/>
                  <a:pt x="3349" y="11782"/>
                </a:cubicBezTo>
              </a:path>
              <a:path w="6599" h="8211">
                <a:moveTo>
                  <a:pt x="3274" y="11584"/>
                </a:moveTo>
                <a:cubicBezTo>
                  <a:pt x="3257" y="11531"/>
                  <a:pt x="3215" y="11433"/>
                  <a:pt x="3175" y="11385"/>
                </a:cubicBezTo>
                <a:cubicBezTo>
                  <a:pt x="3128" y="11328"/>
                  <a:pt x="3066" y="11264"/>
                  <a:pt x="3026" y="11212"/>
                </a:cubicBezTo>
                <a:cubicBezTo>
                  <a:pt x="2977" y="11149"/>
                  <a:pt x="2911" y="11144"/>
                  <a:pt x="2877" y="11112"/>
                </a:cubicBezTo>
                <a:cubicBezTo>
                  <a:pt x="2860" y="11096"/>
                  <a:pt x="2860" y="11087"/>
                  <a:pt x="2828" y="11063"/>
                </a:cubicBezTo>
                <a:cubicBezTo>
                  <a:pt x="2852" y="11184"/>
                  <a:pt x="2940" y="11354"/>
                  <a:pt x="3001" y="11460"/>
                </a:cubicBezTo>
                <a:cubicBezTo>
                  <a:pt x="3038" y="11525"/>
                  <a:pt x="3100" y="11570"/>
                  <a:pt x="3125" y="11633"/>
                </a:cubicBezTo>
              </a:path>
              <a:path w="6599" h="8211">
                <a:moveTo>
                  <a:pt x="2902" y="11435"/>
                </a:moveTo>
                <a:cubicBezTo>
                  <a:pt x="2990" y="11484"/>
                  <a:pt x="3089" y="11555"/>
                  <a:pt x="3150" y="11633"/>
                </a:cubicBezTo>
                <a:cubicBezTo>
                  <a:pt x="3161" y="11647"/>
                  <a:pt x="3170" y="11688"/>
                  <a:pt x="3175" y="11708"/>
                </a:cubicBezTo>
              </a:path>
              <a:path w="6599" h="8211">
                <a:moveTo>
                  <a:pt x="1290" y="12030"/>
                </a:moveTo>
                <a:cubicBezTo>
                  <a:pt x="1413" y="12005"/>
                  <a:pt x="1529" y="12005"/>
                  <a:pt x="1662" y="12005"/>
                </a:cubicBezTo>
                <a:cubicBezTo>
                  <a:pt x="1912" y="12005"/>
                  <a:pt x="2157" y="11991"/>
                  <a:pt x="2406" y="11981"/>
                </a:cubicBezTo>
                <a:cubicBezTo>
                  <a:pt x="2414" y="11981"/>
                  <a:pt x="2423" y="11981"/>
                  <a:pt x="2431" y="11981"/>
                </a:cubicBezTo>
              </a:path>
              <a:path w="6599" h="8211">
                <a:moveTo>
                  <a:pt x="1860" y="12154"/>
                </a:moveTo>
                <a:cubicBezTo>
                  <a:pt x="1805" y="12135"/>
                  <a:pt x="1849" y="12462"/>
                  <a:pt x="1860" y="12551"/>
                </a:cubicBezTo>
                <a:cubicBezTo>
                  <a:pt x="1879" y="12625"/>
                  <a:pt x="1887" y="12632"/>
                  <a:pt x="1885" y="12675"/>
                </a:cubicBezTo>
              </a:path>
              <a:path w="6599" h="8211">
                <a:moveTo>
                  <a:pt x="3795" y="11881"/>
                </a:moveTo>
                <a:cubicBezTo>
                  <a:pt x="3831" y="11881"/>
                  <a:pt x="3956" y="11854"/>
                  <a:pt x="3944" y="11906"/>
                </a:cubicBezTo>
                <a:cubicBezTo>
                  <a:pt x="3936" y="11931"/>
                  <a:pt x="3927" y="11956"/>
                  <a:pt x="3919" y="11981"/>
                </a:cubicBezTo>
              </a:path>
              <a:path w="6599" h="8211">
                <a:moveTo>
                  <a:pt x="3746" y="12105"/>
                </a:moveTo>
                <a:cubicBezTo>
                  <a:pt x="3815" y="12093"/>
                  <a:pt x="3872" y="12080"/>
                  <a:pt x="3944" y="12080"/>
                </a:cubicBezTo>
              </a:path>
              <a:path w="6599" h="8211">
                <a:moveTo>
                  <a:pt x="4490" y="11088"/>
                </a:moveTo>
                <a:cubicBezTo>
                  <a:pt x="4474" y="11091"/>
                  <a:pt x="4291" y="11112"/>
                  <a:pt x="4291" y="11112"/>
                </a:cubicBezTo>
                <a:cubicBezTo>
                  <a:pt x="4255" y="11177"/>
                  <a:pt x="4242" y="11286"/>
                  <a:pt x="4242" y="11361"/>
                </a:cubicBezTo>
                <a:cubicBezTo>
                  <a:pt x="4315" y="11346"/>
                  <a:pt x="4406" y="11295"/>
                  <a:pt x="4465" y="11385"/>
                </a:cubicBezTo>
                <a:cubicBezTo>
                  <a:pt x="4557" y="11525"/>
                  <a:pt x="4412" y="11637"/>
                  <a:pt x="4291" y="11658"/>
                </a:cubicBezTo>
                <a:cubicBezTo>
                  <a:pt x="4238" y="11667"/>
                  <a:pt x="4156" y="11675"/>
                  <a:pt x="4142" y="11633"/>
                </a:cubicBezTo>
              </a:path>
              <a:path w="6599" h="8211">
                <a:moveTo>
                  <a:pt x="4589" y="11385"/>
                </a:moveTo>
                <a:cubicBezTo>
                  <a:pt x="4646" y="11404"/>
                  <a:pt x="4681" y="11494"/>
                  <a:pt x="4713" y="11559"/>
                </a:cubicBezTo>
                <a:cubicBezTo>
                  <a:pt x="4735" y="11602"/>
                  <a:pt x="4738" y="11614"/>
                  <a:pt x="4762" y="11633"/>
                </a:cubicBezTo>
              </a:path>
              <a:path w="6599" h="8211">
                <a:moveTo>
                  <a:pt x="4837" y="11311"/>
                </a:moveTo>
                <a:cubicBezTo>
                  <a:pt x="4837" y="11455"/>
                  <a:pt x="4831" y="11589"/>
                  <a:pt x="4812" y="11733"/>
                </a:cubicBezTo>
                <a:cubicBezTo>
                  <a:pt x="4800" y="11825"/>
                  <a:pt x="4762" y="11914"/>
                  <a:pt x="4762" y="12005"/>
                </a:cubicBezTo>
              </a:path>
              <a:path w="6599" h="8211">
                <a:moveTo>
                  <a:pt x="4142" y="12055"/>
                </a:moveTo>
                <a:cubicBezTo>
                  <a:pt x="4398" y="12042"/>
                  <a:pt x="4655" y="12017"/>
                  <a:pt x="4911" y="12005"/>
                </a:cubicBezTo>
                <a:cubicBezTo>
                  <a:pt x="4951" y="12003"/>
                  <a:pt x="5142" y="11978"/>
                  <a:pt x="5159" y="12030"/>
                </a:cubicBezTo>
              </a:path>
              <a:path w="6599" h="8211">
                <a:moveTo>
                  <a:pt x="4490" y="12204"/>
                </a:moveTo>
                <a:cubicBezTo>
                  <a:pt x="4499" y="12204"/>
                  <a:pt x="4580" y="12204"/>
                  <a:pt x="4514" y="12204"/>
                </a:cubicBezTo>
                <a:cubicBezTo>
                  <a:pt x="4440" y="12204"/>
                  <a:pt x="4365" y="12204"/>
                  <a:pt x="4291" y="12204"/>
                </a:cubicBezTo>
                <a:cubicBezTo>
                  <a:pt x="4291" y="12270"/>
                  <a:pt x="4291" y="12336"/>
                  <a:pt x="4291" y="12402"/>
                </a:cubicBezTo>
                <a:cubicBezTo>
                  <a:pt x="4378" y="12402"/>
                  <a:pt x="4456" y="12359"/>
                  <a:pt x="4539" y="12402"/>
                </a:cubicBezTo>
                <a:cubicBezTo>
                  <a:pt x="4600" y="12434"/>
                  <a:pt x="4624" y="12549"/>
                  <a:pt x="4589" y="12601"/>
                </a:cubicBezTo>
                <a:cubicBezTo>
                  <a:pt x="4520" y="12703"/>
                  <a:pt x="4435" y="12668"/>
                  <a:pt x="4341" y="12650"/>
                </a:cubicBezTo>
                <a:cubicBezTo>
                  <a:pt x="4283" y="12639"/>
                  <a:pt x="4352" y="12640"/>
                  <a:pt x="4266" y="12626"/>
                </a:cubicBezTo>
              </a:path>
              <a:path w="6599" h="8211">
                <a:moveTo>
                  <a:pt x="4316" y="11063"/>
                </a:moveTo>
                <a:cubicBezTo>
                  <a:pt x="4344" y="11312"/>
                  <a:pt x="4363" y="11556"/>
                  <a:pt x="4366" y="11807"/>
                </a:cubicBezTo>
                <a:cubicBezTo>
                  <a:pt x="4369" y="12021"/>
                  <a:pt x="4369" y="12240"/>
                  <a:pt x="4341" y="12452"/>
                </a:cubicBezTo>
                <a:cubicBezTo>
                  <a:pt x="4324" y="12580"/>
                  <a:pt x="4316" y="12694"/>
                  <a:pt x="4316" y="12824"/>
                </a:cubicBezTo>
                <a:cubicBezTo>
                  <a:pt x="4316" y="12929"/>
                  <a:pt x="4316" y="12888"/>
                  <a:pt x="4316" y="12799"/>
                </a:cubicBezTo>
                <a:cubicBezTo>
                  <a:pt x="4305" y="12611"/>
                  <a:pt x="4308" y="12417"/>
                  <a:pt x="4291" y="12229"/>
                </a:cubicBezTo>
                <a:cubicBezTo>
                  <a:pt x="4273" y="12037"/>
                  <a:pt x="4266" y="11852"/>
                  <a:pt x="4266" y="11658"/>
                </a:cubicBezTo>
                <a:cubicBezTo>
                  <a:pt x="4266" y="11505"/>
                  <a:pt x="4260" y="11360"/>
                  <a:pt x="4242" y="11212"/>
                </a:cubicBezTo>
                <a:cubicBezTo>
                  <a:pt x="4236" y="11164"/>
                  <a:pt x="4242" y="11111"/>
                  <a:pt x="4242" y="11063"/>
                </a:cubicBezTo>
                <a:cubicBezTo>
                  <a:pt x="4283" y="11396"/>
                  <a:pt x="4291" y="11719"/>
                  <a:pt x="4291" y="12055"/>
                </a:cubicBezTo>
                <a:cubicBezTo>
                  <a:pt x="4291" y="12237"/>
                  <a:pt x="4300" y="12399"/>
                  <a:pt x="4291" y="12576"/>
                </a:cubicBezTo>
                <a:cubicBezTo>
                  <a:pt x="4291" y="12593"/>
                  <a:pt x="4291" y="12609"/>
                  <a:pt x="4291" y="12626"/>
                </a:cubicBezTo>
                <a:cubicBezTo>
                  <a:pt x="4288" y="12623"/>
                  <a:pt x="4254" y="12527"/>
                  <a:pt x="4266" y="12427"/>
                </a:cubicBezTo>
                <a:cubicBezTo>
                  <a:pt x="4293" y="12196"/>
                  <a:pt x="4291" y="11967"/>
                  <a:pt x="4291" y="11733"/>
                </a:cubicBezTo>
                <a:cubicBezTo>
                  <a:pt x="4291" y="11543"/>
                  <a:pt x="4273" y="11374"/>
                  <a:pt x="4291" y="11187"/>
                </a:cubicBezTo>
                <a:cubicBezTo>
                  <a:pt x="4296" y="11130"/>
                  <a:pt x="4291" y="11070"/>
                  <a:pt x="4291" y="11013"/>
                </a:cubicBezTo>
              </a:path>
              <a:path w="6599" h="8211">
                <a:moveTo>
                  <a:pt x="5879" y="10319"/>
                </a:moveTo>
                <a:cubicBezTo>
                  <a:pt x="5838" y="10319"/>
                  <a:pt x="5731" y="10299"/>
                  <a:pt x="5705" y="10344"/>
                </a:cubicBezTo>
                <a:cubicBezTo>
                  <a:pt x="5676" y="10395"/>
                  <a:pt x="5611" y="10571"/>
                  <a:pt x="5755" y="10542"/>
                </a:cubicBezTo>
                <a:cubicBezTo>
                  <a:pt x="5814" y="10530"/>
                  <a:pt x="6030" y="10363"/>
                  <a:pt x="5928" y="10294"/>
                </a:cubicBezTo>
                <a:cubicBezTo>
                  <a:pt x="5879" y="10294"/>
                  <a:pt x="5862" y="10294"/>
                  <a:pt x="5829" y="10294"/>
                </a:cubicBezTo>
              </a:path>
              <a:path w="6599" h="8211">
                <a:moveTo>
                  <a:pt x="6028" y="10443"/>
                </a:moveTo>
                <a:cubicBezTo>
                  <a:pt x="6056" y="10511"/>
                  <a:pt x="6072" y="10536"/>
                  <a:pt x="6052" y="10443"/>
                </a:cubicBezTo>
                <a:cubicBezTo>
                  <a:pt x="6026" y="10326"/>
                  <a:pt x="6000" y="10288"/>
                  <a:pt x="6152" y="10269"/>
                </a:cubicBezTo>
                <a:cubicBezTo>
                  <a:pt x="6236" y="10269"/>
                  <a:pt x="6256" y="10262"/>
                  <a:pt x="6300" y="10294"/>
                </a:cubicBezTo>
              </a:path>
              <a:path w="6599" h="8211">
                <a:moveTo>
                  <a:pt x="5531" y="10691"/>
                </a:moveTo>
                <a:cubicBezTo>
                  <a:pt x="5762" y="10652"/>
                  <a:pt x="5992" y="10623"/>
                  <a:pt x="6226" y="10616"/>
                </a:cubicBezTo>
                <a:cubicBezTo>
                  <a:pt x="6243" y="10616"/>
                  <a:pt x="6259" y="10616"/>
                  <a:pt x="6276" y="10616"/>
                </a:cubicBezTo>
              </a:path>
              <a:path w="6599" h="8211">
                <a:moveTo>
                  <a:pt x="5606" y="10740"/>
                </a:moveTo>
                <a:cubicBezTo>
                  <a:pt x="5789" y="10754"/>
                  <a:pt x="5968" y="10784"/>
                  <a:pt x="6152" y="10790"/>
                </a:cubicBezTo>
                <a:cubicBezTo>
                  <a:pt x="6180" y="10790"/>
                  <a:pt x="6190" y="10793"/>
                  <a:pt x="6201" y="108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89200" y="4384800"/>
            <a:ext cx="2224080" cy="1133280"/>
          </a:xfrm>
          <a:custGeom>
            <a:avLst/>
            <a:gdLst/>
            <a:ahLst/>
            <a:rect l="l" t="t" r="r" b="b"/>
            <a:pathLst>
              <a:path w="6178" h="3151">
                <a:moveTo>
                  <a:pt x="12328" y="12799"/>
                </a:moveTo>
                <a:cubicBezTo>
                  <a:pt x="12371" y="12928"/>
                  <a:pt x="12509" y="13043"/>
                  <a:pt x="12601" y="13146"/>
                </a:cubicBezTo>
                <a:cubicBezTo>
                  <a:pt x="12671" y="13225"/>
                  <a:pt x="12650" y="13240"/>
                  <a:pt x="12650" y="13122"/>
                </a:cubicBezTo>
              </a:path>
              <a:path w="6178" h="3151">
                <a:moveTo>
                  <a:pt x="12601" y="12626"/>
                </a:moveTo>
                <a:cubicBezTo>
                  <a:pt x="12651" y="12925"/>
                  <a:pt x="12671" y="13216"/>
                  <a:pt x="12675" y="13519"/>
                </a:cubicBezTo>
                <a:cubicBezTo>
                  <a:pt x="12677" y="13657"/>
                  <a:pt x="12690" y="13780"/>
                  <a:pt x="12700" y="13915"/>
                </a:cubicBezTo>
              </a:path>
              <a:path w="6178" h="3151">
                <a:moveTo>
                  <a:pt x="13990" y="12328"/>
                </a:moveTo>
                <a:cubicBezTo>
                  <a:pt x="14103" y="12284"/>
                  <a:pt x="14372" y="12141"/>
                  <a:pt x="14461" y="12303"/>
                </a:cubicBezTo>
                <a:cubicBezTo>
                  <a:pt x="14540" y="12447"/>
                  <a:pt x="14334" y="12585"/>
                  <a:pt x="14238" y="12626"/>
                </a:cubicBezTo>
                <a:cubicBezTo>
                  <a:pt x="14342" y="12613"/>
                  <a:pt x="14553" y="12540"/>
                  <a:pt x="14635" y="12650"/>
                </a:cubicBezTo>
                <a:cubicBezTo>
                  <a:pt x="14805" y="12879"/>
                  <a:pt x="14431" y="13023"/>
                  <a:pt x="14288" y="13047"/>
                </a:cubicBezTo>
                <a:cubicBezTo>
                  <a:pt x="14205" y="13047"/>
                  <a:pt x="14172" y="13064"/>
                  <a:pt x="14188" y="12998"/>
                </a:cubicBezTo>
              </a:path>
              <a:path w="6178" h="3151">
                <a:moveTo>
                  <a:pt x="14932" y="12229"/>
                </a:moveTo>
                <a:cubicBezTo>
                  <a:pt x="14795" y="12337"/>
                  <a:pt x="14678" y="12536"/>
                  <a:pt x="14709" y="12725"/>
                </a:cubicBezTo>
                <a:cubicBezTo>
                  <a:pt x="14753" y="12993"/>
                  <a:pt x="15118" y="12950"/>
                  <a:pt x="15255" y="12799"/>
                </a:cubicBezTo>
                <a:cubicBezTo>
                  <a:pt x="15446" y="12588"/>
                  <a:pt x="15365" y="12321"/>
                  <a:pt x="15131" y="12204"/>
                </a:cubicBezTo>
                <a:cubicBezTo>
                  <a:pt x="14997" y="12177"/>
                  <a:pt x="14946" y="12172"/>
                  <a:pt x="14858" y="12229"/>
                </a:cubicBezTo>
              </a:path>
              <a:path w="6178" h="3151">
                <a:moveTo>
                  <a:pt x="11956" y="13717"/>
                </a:moveTo>
                <a:cubicBezTo>
                  <a:pt x="12336" y="13630"/>
                  <a:pt x="12712" y="13529"/>
                  <a:pt x="13097" y="13469"/>
                </a:cubicBezTo>
                <a:cubicBezTo>
                  <a:pt x="13105" y="13469"/>
                  <a:pt x="13114" y="13469"/>
                  <a:pt x="13122" y="13469"/>
                </a:cubicBezTo>
              </a:path>
              <a:path w="6178" h="3151">
                <a:moveTo>
                  <a:pt x="12898" y="13891"/>
                </a:moveTo>
                <a:cubicBezTo>
                  <a:pt x="12828" y="13898"/>
                  <a:pt x="12676" y="13902"/>
                  <a:pt x="12650" y="13940"/>
                </a:cubicBezTo>
                <a:cubicBezTo>
                  <a:pt x="12584" y="14037"/>
                  <a:pt x="12575" y="14166"/>
                  <a:pt x="12526" y="14263"/>
                </a:cubicBezTo>
                <a:cubicBezTo>
                  <a:pt x="12617" y="14263"/>
                  <a:pt x="12646" y="14204"/>
                  <a:pt x="12750" y="14213"/>
                </a:cubicBezTo>
                <a:cubicBezTo>
                  <a:pt x="12886" y="14225"/>
                  <a:pt x="12951" y="14406"/>
                  <a:pt x="12849" y="14511"/>
                </a:cubicBezTo>
                <a:cubicBezTo>
                  <a:pt x="12756" y="14607"/>
                  <a:pt x="12485" y="14696"/>
                  <a:pt x="12353" y="14660"/>
                </a:cubicBezTo>
                <a:cubicBezTo>
                  <a:pt x="12353" y="14652"/>
                  <a:pt x="12353" y="14643"/>
                  <a:pt x="12353" y="14635"/>
                </a:cubicBezTo>
              </a:path>
              <a:path w="6178" h="3151">
                <a:moveTo>
                  <a:pt x="11584" y="13246"/>
                </a:moveTo>
                <a:cubicBezTo>
                  <a:pt x="11511" y="13476"/>
                  <a:pt x="11453" y="13709"/>
                  <a:pt x="11385" y="13940"/>
                </a:cubicBezTo>
                <a:cubicBezTo>
                  <a:pt x="11347" y="14069"/>
                  <a:pt x="11283" y="14114"/>
                  <a:pt x="11410" y="14015"/>
                </a:cubicBezTo>
              </a:path>
              <a:path w="6178" h="3151">
                <a:moveTo>
                  <a:pt x="15825" y="12353"/>
                </a:moveTo>
                <a:cubicBezTo>
                  <a:pt x="15817" y="12345"/>
                  <a:pt x="15809" y="12336"/>
                  <a:pt x="15801" y="12328"/>
                </a:cubicBezTo>
                <a:cubicBezTo>
                  <a:pt x="15870" y="12485"/>
                  <a:pt x="15988" y="12637"/>
                  <a:pt x="16098" y="12774"/>
                </a:cubicBezTo>
                <a:cubicBezTo>
                  <a:pt x="16121" y="12797"/>
                  <a:pt x="16125" y="12805"/>
                  <a:pt x="16148" y="12799"/>
                </a:cubicBezTo>
              </a:path>
              <a:path w="6178" h="3151">
                <a:moveTo>
                  <a:pt x="10641" y="13146"/>
                </a:moveTo>
                <a:cubicBezTo>
                  <a:pt x="10532" y="13278"/>
                  <a:pt x="10390" y="13266"/>
                  <a:pt x="10220" y="13271"/>
                </a:cubicBezTo>
                <a:cubicBezTo>
                  <a:pt x="10203" y="13271"/>
                  <a:pt x="10187" y="13271"/>
                  <a:pt x="10170" y="13271"/>
                </a:cubicBezTo>
                <a:cubicBezTo>
                  <a:pt x="10197" y="13391"/>
                  <a:pt x="10201" y="13539"/>
                  <a:pt x="10244" y="13643"/>
                </a:cubicBezTo>
                <a:cubicBezTo>
                  <a:pt x="10415" y="13622"/>
                  <a:pt x="10539" y="13599"/>
                  <a:pt x="10616" y="13791"/>
                </a:cubicBezTo>
                <a:cubicBezTo>
                  <a:pt x="10705" y="14011"/>
                  <a:pt x="10371" y="14047"/>
                  <a:pt x="10244" y="14039"/>
                </a:cubicBezTo>
                <a:cubicBezTo>
                  <a:pt x="10211" y="14031"/>
                  <a:pt x="10178" y="14023"/>
                  <a:pt x="10145" y="14015"/>
                </a:cubicBezTo>
              </a:path>
              <a:path w="6178" h="3151">
                <a:moveTo>
                  <a:pt x="13568" y="14684"/>
                </a:moveTo>
                <a:cubicBezTo>
                  <a:pt x="13687" y="14684"/>
                  <a:pt x="13798" y="14648"/>
                  <a:pt x="13915" y="14635"/>
                </a:cubicBezTo>
                <a:cubicBezTo>
                  <a:pt x="13940" y="14635"/>
                  <a:pt x="13965" y="14635"/>
                  <a:pt x="13990" y="14635"/>
                </a:cubicBezTo>
              </a:path>
              <a:path w="6178" h="3151">
                <a:moveTo>
                  <a:pt x="13618" y="14957"/>
                </a:moveTo>
                <a:cubicBezTo>
                  <a:pt x="13681" y="14952"/>
                  <a:pt x="13941" y="14869"/>
                  <a:pt x="13990" y="14908"/>
                </a:cubicBezTo>
                <a:cubicBezTo>
                  <a:pt x="13990" y="14924"/>
                  <a:pt x="13990" y="14941"/>
                  <a:pt x="13990" y="14957"/>
                </a:cubicBezTo>
              </a:path>
              <a:path w="6178" h="3151">
                <a:moveTo>
                  <a:pt x="14536" y="14461"/>
                </a:moveTo>
                <a:cubicBezTo>
                  <a:pt x="14536" y="14295"/>
                  <a:pt x="14546" y="14743"/>
                  <a:pt x="14536" y="14908"/>
                </a:cubicBezTo>
                <a:cubicBezTo>
                  <a:pt x="14532" y="14968"/>
                  <a:pt x="14442" y="15348"/>
                  <a:pt x="14486" y="15304"/>
                </a:cubicBezTo>
              </a:path>
              <a:path w="6178" h="3151">
                <a:moveTo>
                  <a:pt x="15255" y="14312"/>
                </a:moveTo>
                <a:cubicBezTo>
                  <a:pt x="15158" y="14381"/>
                  <a:pt x="15047" y="14364"/>
                  <a:pt x="14957" y="14412"/>
                </a:cubicBezTo>
                <a:cubicBezTo>
                  <a:pt x="14896" y="14444"/>
                  <a:pt x="14895" y="14716"/>
                  <a:pt x="14883" y="14784"/>
                </a:cubicBezTo>
                <a:cubicBezTo>
                  <a:pt x="14968" y="14736"/>
                  <a:pt x="15106" y="14652"/>
                  <a:pt x="15180" y="14784"/>
                </a:cubicBezTo>
                <a:cubicBezTo>
                  <a:pt x="15264" y="14934"/>
                  <a:pt x="15162" y="15157"/>
                  <a:pt x="15007" y="15205"/>
                </a:cubicBezTo>
                <a:cubicBezTo>
                  <a:pt x="14929" y="15205"/>
                  <a:pt x="14911" y="15220"/>
                  <a:pt x="14883" y="15180"/>
                </a:cubicBezTo>
              </a:path>
              <a:path w="6178" h="3151">
                <a:moveTo>
                  <a:pt x="15553" y="14387"/>
                </a:moveTo>
                <a:cubicBezTo>
                  <a:pt x="15428" y="14486"/>
                  <a:pt x="15421" y="14698"/>
                  <a:pt x="15429" y="14858"/>
                </a:cubicBezTo>
                <a:cubicBezTo>
                  <a:pt x="15451" y="14994"/>
                  <a:pt x="15453" y="15032"/>
                  <a:pt x="15503" y="15106"/>
                </a:cubicBezTo>
                <a:cubicBezTo>
                  <a:pt x="15737" y="15041"/>
                  <a:pt x="15925" y="14870"/>
                  <a:pt x="15875" y="14585"/>
                </a:cubicBezTo>
                <a:cubicBezTo>
                  <a:pt x="15847" y="14424"/>
                  <a:pt x="15685" y="14373"/>
                  <a:pt x="15553" y="14362"/>
                </a:cubicBezTo>
              </a:path>
              <a:path w="6178" h="3151">
                <a:moveTo>
                  <a:pt x="9971" y="14188"/>
                </a:moveTo>
                <a:cubicBezTo>
                  <a:pt x="10289" y="14188"/>
                  <a:pt x="10596" y="14131"/>
                  <a:pt x="10914" y="14114"/>
                </a:cubicBezTo>
                <a:cubicBezTo>
                  <a:pt x="11011" y="14109"/>
                  <a:pt x="11114" y="14114"/>
                  <a:pt x="11212" y="14114"/>
                </a:cubicBezTo>
              </a:path>
              <a:path w="6178" h="3151">
                <a:moveTo>
                  <a:pt x="10468" y="14362"/>
                </a:moveTo>
                <a:cubicBezTo>
                  <a:pt x="10468" y="14238"/>
                  <a:pt x="10477" y="14560"/>
                  <a:pt x="10468" y="14684"/>
                </a:cubicBezTo>
                <a:cubicBezTo>
                  <a:pt x="10460" y="14794"/>
                  <a:pt x="10443" y="14877"/>
                  <a:pt x="10443" y="14982"/>
                </a:cubicBezTo>
              </a:path>
              <a:path w="6178" h="3151">
                <a:moveTo>
                  <a:pt x="11112" y="13643"/>
                </a:moveTo>
                <a:cubicBezTo>
                  <a:pt x="11226" y="13742"/>
                  <a:pt x="11355" y="13813"/>
                  <a:pt x="11485" y="13891"/>
                </a:cubicBezTo>
              </a:path>
              <a:path w="6178" h="3151">
                <a:moveTo>
                  <a:pt x="10716" y="13370"/>
                </a:moveTo>
                <a:cubicBezTo>
                  <a:pt x="10802" y="13370"/>
                  <a:pt x="10836" y="13334"/>
                  <a:pt x="10914" y="13320"/>
                </a:cubicBezTo>
                <a:cubicBezTo>
                  <a:pt x="10922" y="13320"/>
                  <a:pt x="10931" y="13320"/>
                  <a:pt x="10939" y="13320"/>
                </a:cubicBezTo>
              </a:path>
              <a:path w="6178" h="3151">
                <a:moveTo>
                  <a:pt x="11063" y="12849"/>
                </a:moveTo>
                <a:cubicBezTo>
                  <a:pt x="11063" y="12890"/>
                  <a:pt x="11063" y="12932"/>
                  <a:pt x="11063" y="12973"/>
                </a:cubicBezTo>
                <a:cubicBezTo>
                  <a:pt x="11140" y="12960"/>
                  <a:pt x="11193" y="12932"/>
                  <a:pt x="11237" y="13022"/>
                </a:cubicBezTo>
                <a:cubicBezTo>
                  <a:pt x="11295" y="13140"/>
                  <a:pt x="11241" y="13116"/>
                  <a:pt x="11162" y="13171"/>
                </a:cubicBezTo>
                <a:cubicBezTo>
                  <a:pt x="11137" y="13196"/>
                  <a:pt x="11129" y="13204"/>
                  <a:pt x="11112" y="13171"/>
                </a:cubicBezTo>
              </a:path>
              <a:path w="6178" h="3151">
                <a:moveTo>
                  <a:pt x="11112" y="12849"/>
                </a:moveTo>
                <a:cubicBezTo>
                  <a:pt x="11141" y="12812"/>
                  <a:pt x="11204" y="12764"/>
                  <a:pt x="11261" y="12750"/>
                </a:cubicBezTo>
              </a:path>
              <a:path w="6178" h="3151">
                <a:moveTo>
                  <a:pt x="13072" y="14163"/>
                </a:moveTo>
                <a:cubicBezTo>
                  <a:pt x="13064" y="14163"/>
                  <a:pt x="13055" y="14163"/>
                  <a:pt x="13047" y="14163"/>
                </a:cubicBezTo>
                <a:cubicBezTo>
                  <a:pt x="13097" y="14136"/>
                  <a:pt x="13117" y="14114"/>
                  <a:pt x="13171" y="14114"/>
                </a:cubicBezTo>
              </a:path>
              <a:path w="6178" h="3151">
                <a:moveTo>
                  <a:pt x="13444" y="13891"/>
                </a:moveTo>
                <a:cubicBezTo>
                  <a:pt x="13358" y="13891"/>
                  <a:pt x="13381" y="13889"/>
                  <a:pt x="13345" y="13965"/>
                </a:cubicBezTo>
                <a:cubicBezTo>
                  <a:pt x="13321" y="14016"/>
                  <a:pt x="13320" y="14035"/>
                  <a:pt x="13320" y="14089"/>
                </a:cubicBezTo>
                <a:cubicBezTo>
                  <a:pt x="13370" y="14089"/>
                  <a:pt x="13456" y="14071"/>
                  <a:pt x="13494" y="14114"/>
                </a:cubicBezTo>
                <a:cubicBezTo>
                  <a:pt x="13527" y="14151"/>
                  <a:pt x="13461" y="14225"/>
                  <a:pt x="13444" y="14238"/>
                </a:cubicBezTo>
                <a:cubicBezTo>
                  <a:pt x="13404" y="14258"/>
                  <a:pt x="13398" y="14267"/>
                  <a:pt x="13370" y="14263"/>
                </a:cubicBezTo>
              </a:path>
              <a:path w="6178" h="3151">
                <a:moveTo>
                  <a:pt x="11286" y="12576"/>
                </a:moveTo>
                <a:cubicBezTo>
                  <a:pt x="11191" y="12747"/>
                  <a:pt x="11083" y="12843"/>
                  <a:pt x="10964" y="12998"/>
                </a:cubicBezTo>
                <a:cubicBezTo>
                  <a:pt x="10739" y="13289"/>
                  <a:pt x="10521" y="13585"/>
                  <a:pt x="10319" y="13891"/>
                </a:cubicBezTo>
                <a:cubicBezTo>
                  <a:pt x="10281" y="13947"/>
                  <a:pt x="10264" y="13950"/>
                  <a:pt x="10269" y="139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680160" y="5081760"/>
            <a:ext cx="1054080" cy="741240"/>
          </a:xfrm>
          <a:custGeom>
            <a:avLst/>
            <a:gdLst/>
            <a:ahLst/>
            <a:rect l="l" t="t" r="r" b="b"/>
            <a:pathLst>
              <a:path w="2928" h="2060">
                <a:moveTo>
                  <a:pt x="20241" y="14932"/>
                </a:moveTo>
                <a:cubicBezTo>
                  <a:pt x="20185" y="15013"/>
                  <a:pt x="20117" y="15077"/>
                  <a:pt x="20117" y="15180"/>
                </a:cubicBezTo>
                <a:cubicBezTo>
                  <a:pt x="20262" y="15223"/>
                  <a:pt x="20491" y="15274"/>
                  <a:pt x="20340" y="15478"/>
                </a:cubicBezTo>
                <a:cubicBezTo>
                  <a:pt x="20186" y="15685"/>
                  <a:pt x="20078" y="15599"/>
                  <a:pt x="20017" y="15429"/>
                </a:cubicBezTo>
              </a:path>
              <a:path w="2928" h="2060">
                <a:moveTo>
                  <a:pt x="20117" y="14982"/>
                </a:moveTo>
                <a:cubicBezTo>
                  <a:pt x="20297" y="14937"/>
                  <a:pt x="20476" y="14915"/>
                  <a:pt x="20662" y="14908"/>
                </a:cubicBezTo>
                <a:cubicBezTo>
                  <a:pt x="20670" y="14908"/>
                  <a:pt x="20679" y="14908"/>
                  <a:pt x="20687" y="14908"/>
                </a:cubicBezTo>
              </a:path>
              <a:path w="2928" h="2060">
                <a:moveTo>
                  <a:pt x="20935" y="14957"/>
                </a:moveTo>
                <a:cubicBezTo>
                  <a:pt x="20822" y="15118"/>
                  <a:pt x="20693" y="15344"/>
                  <a:pt x="20712" y="15553"/>
                </a:cubicBezTo>
                <a:cubicBezTo>
                  <a:pt x="20729" y="15578"/>
                  <a:pt x="20745" y="15602"/>
                  <a:pt x="20762" y="15627"/>
                </a:cubicBezTo>
                <a:cubicBezTo>
                  <a:pt x="21053" y="15529"/>
                  <a:pt x="21197" y="15375"/>
                  <a:pt x="21183" y="15032"/>
                </a:cubicBezTo>
                <a:cubicBezTo>
                  <a:pt x="21174" y="14818"/>
                  <a:pt x="21078" y="14867"/>
                  <a:pt x="20935" y="14883"/>
                </a:cubicBezTo>
              </a:path>
              <a:path w="2928" h="2060">
                <a:moveTo>
                  <a:pt x="19298" y="15825"/>
                </a:moveTo>
                <a:cubicBezTo>
                  <a:pt x="19351" y="15710"/>
                  <a:pt x="19448" y="15524"/>
                  <a:pt x="19472" y="15404"/>
                </a:cubicBezTo>
                <a:cubicBezTo>
                  <a:pt x="19521" y="15157"/>
                  <a:pt x="19509" y="14906"/>
                  <a:pt x="19496" y="14660"/>
                </a:cubicBezTo>
                <a:cubicBezTo>
                  <a:pt x="19496" y="14652"/>
                  <a:pt x="19496" y="14643"/>
                  <a:pt x="19496" y="14635"/>
                </a:cubicBezTo>
                <a:cubicBezTo>
                  <a:pt x="19854" y="14697"/>
                  <a:pt x="20200" y="14706"/>
                  <a:pt x="20563" y="14709"/>
                </a:cubicBezTo>
                <a:cubicBezTo>
                  <a:pt x="20865" y="14711"/>
                  <a:pt x="21157" y="14712"/>
                  <a:pt x="21456" y="14734"/>
                </a:cubicBezTo>
                <a:cubicBezTo>
                  <a:pt x="21464" y="14734"/>
                  <a:pt x="21473" y="14734"/>
                  <a:pt x="21481" y="14734"/>
                </a:cubicBezTo>
              </a:path>
              <a:path w="2928" h="2060">
                <a:moveTo>
                  <a:pt x="19174" y="14858"/>
                </a:moveTo>
                <a:cubicBezTo>
                  <a:pt x="19071" y="14878"/>
                  <a:pt x="18982" y="14883"/>
                  <a:pt x="18876" y="14883"/>
                </a:cubicBezTo>
                <a:cubicBezTo>
                  <a:pt x="18798" y="14883"/>
                  <a:pt x="18773" y="15143"/>
                  <a:pt x="18752" y="15205"/>
                </a:cubicBezTo>
                <a:cubicBezTo>
                  <a:pt x="18831" y="15172"/>
                  <a:pt x="19006" y="15036"/>
                  <a:pt x="19075" y="15205"/>
                </a:cubicBezTo>
                <a:cubicBezTo>
                  <a:pt x="19185" y="15473"/>
                  <a:pt x="18872" y="15606"/>
                  <a:pt x="18678" y="15602"/>
                </a:cubicBezTo>
                <a:cubicBezTo>
                  <a:pt x="18517" y="15598"/>
                  <a:pt x="18621" y="15575"/>
                  <a:pt x="18554" y="15553"/>
                </a:cubicBezTo>
              </a:path>
              <a:path w="2928" h="2060">
                <a:moveTo>
                  <a:pt x="19968" y="14163"/>
                </a:moveTo>
                <a:cubicBezTo>
                  <a:pt x="19848" y="14223"/>
                  <a:pt x="19793" y="14326"/>
                  <a:pt x="19769" y="14461"/>
                </a:cubicBezTo>
                <a:cubicBezTo>
                  <a:pt x="19769" y="14523"/>
                  <a:pt x="19759" y="14538"/>
                  <a:pt x="19794" y="14560"/>
                </a:cubicBezTo>
                <a:cubicBezTo>
                  <a:pt x="19912" y="14502"/>
                  <a:pt x="20017" y="14416"/>
                  <a:pt x="20017" y="14263"/>
                </a:cubicBezTo>
                <a:cubicBezTo>
                  <a:pt x="20017" y="14240"/>
                  <a:pt x="19947" y="14159"/>
                  <a:pt x="19943" y="14163"/>
                </a:cubicBezTo>
                <a:cubicBezTo>
                  <a:pt x="19943" y="14171"/>
                  <a:pt x="19943" y="14180"/>
                  <a:pt x="19943" y="14188"/>
                </a:cubicBezTo>
              </a:path>
              <a:path w="2928" h="2060">
                <a:moveTo>
                  <a:pt x="20439" y="14163"/>
                </a:moveTo>
                <a:cubicBezTo>
                  <a:pt x="20376" y="14163"/>
                  <a:pt x="20564" y="14122"/>
                  <a:pt x="20588" y="14114"/>
                </a:cubicBezTo>
                <a:cubicBezTo>
                  <a:pt x="20658" y="14206"/>
                  <a:pt x="20550" y="14292"/>
                  <a:pt x="20489" y="14362"/>
                </a:cubicBezTo>
                <a:cubicBezTo>
                  <a:pt x="20445" y="14412"/>
                  <a:pt x="20430" y="14436"/>
                  <a:pt x="20414" y="14387"/>
                </a:cubicBezTo>
                <a:cubicBezTo>
                  <a:pt x="20517" y="14387"/>
                  <a:pt x="20606" y="14426"/>
                  <a:pt x="20563" y="14560"/>
                </a:cubicBezTo>
                <a:cubicBezTo>
                  <a:pt x="20540" y="14632"/>
                  <a:pt x="20383" y="14691"/>
                  <a:pt x="20315" y="14660"/>
                </a:cubicBezTo>
                <a:cubicBezTo>
                  <a:pt x="20307" y="14652"/>
                  <a:pt x="20298" y="14643"/>
                  <a:pt x="20290" y="14635"/>
                </a:cubicBezTo>
              </a:path>
              <a:path w="2928" h="2060">
                <a:moveTo>
                  <a:pt x="19645" y="15801"/>
                </a:moveTo>
                <a:cubicBezTo>
                  <a:pt x="19672" y="15852"/>
                  <a:pt x="19563" y="16031"/>
                  <a:pt x="19521" y="16098"/>
                </a:cubicBezTo>
                <a:cubicBezTo>
                  <a:pt x="19426" y="16249"/>
                  <a:pt x="19494" y="16057"/>
                  <a:pt x="19496" y="16049"/>
                </a:cubicBezTo>
              </a:path>
              <a:path w="2928" h="2060">
                <a:moveTo>
                  <a:pt x="20241" y="15925"/>
                </a:moveTo>
                <a:cubicBezTo>
                  <a:pt x="20153" y="15901"/>
                  <a:pt x="20100" y="15856"/>
                  <a:pt x="20042" y="15925"/>
                </a:cubicBezTo>
                <a:cubicBezTo>
                  <a:pt x="20010" y="15963"/>
                  <a:pt x="19979" y="16006"/>
                  <a:pt x="19968" y="16049"/>
                </a:cubicBezTo>
                <a:cubicBezTo>
                  <a:pt x="20036" y="16055"/>
                  <a:pt x="20232" y="16086"/>
                  <a:pt x="20067" y="16148"/>
                </a:cubicBezTo>
                <a:cubicBezTo>
                  <a:pt x="19989" y="16177"/>
                  <a:pt x="19925" y="16173"/>
                  <a:pt x="19844" y="161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776840" y="6072120"/>
            <a:ext cx="135000" cy="36720"/>
          </a:xfrm>
          <a:custGeom>
            <a:avLst/>
            <a:gdLst/>
            <a:ahLst/>
            <a:rect l="l" t="t" r="r" b="b"/>
            <a:pathLst>
              <a:path w="373" h="100">
                <a:moveTo>
                  <a:pt x="13271" y="16966"/>
                </a:moveTo>
                <a:cubicBezTo>
                  <a:pt x="13378" y="16913"/>
                  <a:pt x="13497" y="16879"/>
                  <a:pt x="13618" y="16867"/>
                </a:cubicBezTo>
                <a:cubicBezTo>
                  <a:pt x="13626" y="16867"/>
                  <a:pt x="13635" y="16867"/>
                  <a:pt x="13643" y="168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054760" y="5840280"/>
            <a:ext cx="419040" cy="312840"/>
          </a:xfrm>
          <a:custGeom>
            <a:avLst/>
            <a:gdLst/>
            <a:ahLst/>
            <a:rect l="l" t="t" r="r" b="b"/>
            <a:pathLst>
              <a:path w="1167" h="869">
                <a:moveTo>
                  <a:pt x="14089" y="16421"/>
                </a:moveTo>
                <a:cubicBezTo>
                  <a:pt x="14089" y="16592"/>
                  <a:pt x="14087" y="16773"/>
                  <a:pt x="14064" y="16942"/>
                </a:cubicBezTo>
                <a:cubicBezTo>
                  <a:pt x="14056" y="16975"/>
                  <a:pt x="14047" y="17008"/>
                  <a:pt x="14039" y="17041"/>
                </a:cubicBezTo>
              </a:path>
              <a:path w="1167" h="869">
                <a:moveTo>
                  <a:pt x="14436" y="16470"/>
                </a:moveTo>
                <a:cubicBezTo>
                  <a:pt x="14390" y="16550"/>
                  <a:pt x="14313" y="16616"/>
                  <a:pt x="14412" y="16669"/>
                </a:cubicBezTo>
                <a:cubicBezTo>
                  <a:pt x="14529" y="16732"/>
                  <a:pt x="14585" y="16800"/>
                  <a:pt x="14511" y="16942"/>
                </a:cubicBezTo>
                <a:cubicBezTo>
                  <a:pt x="14460" y="17040"/>
                  <a:pt x="14351" y="17100"/>
                  <a:pt x="14263" y="17066"/>
                </a:cubicBezTo>
              </a:path>
              <a:path w="1167" h="869">
                <a:moveTo>
                  <a:pt x="14412" y="16470"/>
                </a:moveTo>
                <a:cubicBezTo>
                  <a:pt x="14487" y="16420"/>
                  <a:pt x="14582" y="16393"/>
                  <a:pt x="14660" y="16346"/>
                </a:cubicBezTo>
                <a:cubicBezTo>
                  <a:pt x="14684" y="16321"/>
                  <a:pt x="14692" y="16313"/>
                  <a:pt x="14709" y="16346"/>
                </a:cubicBezTo>
              </a:path>
              <a:path w="1167" h="869">
                <a:moveTo>
                  <a:pt x="15007" y="16222"/>
                </a:moveTo>
                <a:cubicBezTo>
                  <a:pt x="14952" y="16367"/>
                  <a:pt x="14843" y="16528"/>
                  <a:pt x="14833" y="16694"/>
                </a:cubicBezTo>
                <a:cubicBezTo>
                  <a:pt x="14854" y="16800"/>
                  <a:pt x="14849" y="16828"/>
                  <a:pt x="14908" y="16867"/>
                </a:cubicBezTo>
                <a:cubicBezTo>
                  <a:pt x="15088" y="16840"/>
                  <a:pt x="15190" y="16750"/>
                  <a:pt x="15205" y="16545"/>
                </a:cubicBezTo>
                <a:cubicBezTo>
                  <a:pt x="15216" y="16391"/>
                  <a:pt x="15107" y="16252"/>
                  <a:pt x="14957" y="16222"/>
                </a:cubicBezTo>
                <a:cubicBezTo>
                  <a:pt x="14932" y="16222"/>
                  <a:pt x="14908" y="16222"/>
                  <a:pt x="14883" y="162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732040" y="3643200"/>
            <a:ext cx="2662200" cy="115920"/>
          </a:xfrm>
          <a:custGeom>
            <a:avLst/>
            <a:gdLst/>
            <a:ahLst/>
            <a:rect l="l" t="t" r="r" b="b"/>
            <a:pathLst>
              <a:path w="7393" h="324">
                <a:moveTo>
                  <a:pt x="7590" y="10368"/>
                </a:moveTo>
                <a:cubicBezTo>
                  <a:pt x="7669" y="10349"/>
                  <a:pt x="7745" y="10325"/>
                  <a:pt x="7838" y="10319"/>
                </a:cubicBezTo>
                <a:cubicBezTo>
                  <a:pt x="8067" y="10305"/>
                  <a:pt x="8306" y="10323"/>
                  <a:pt x="8533" y="10344"/>
                </a:cubicBezTo>
                <a:cubicBezTo>
                  <a:pt x="8716" y="10361"/>
                  <a:pt x="8897" y="10375"/>
                  <a:pt x="9079" y="10393"/>
                </a:cubicBezTo>
                <a:cubicBezTo>
                  <a:pt x="9212" y="10406"/>
                  <a:pt x="9340" y="10416"/>
                  <a:pt x="9475" y="10418"/>
                </a:cubicBezTo>
                <a:cubicBezTo>
                  <a:pt x="9603" y="10420"/>
                  <a:pt x="9720" y="10436"/>
                  <a:pt x="9847" y="10443"/>
                </a:cubicBezTo>
                <a:cubicBezTo>
                  <a:pt x="10133" y="10458"/>
                  <a:pt x="10433" y="10453"/>
                  <a:pt x="10716" y="10418"/>
                </a:cubicBezTo>
                <a:cubicBezTo>
                  <a:pt x="10967" y="10387"/>
                  <a:pt x="11210" y="10330"/>
                  <a:pt x="11460" y="10294"/>
                </a:cubicBezTo>
                <a:cubicBezTo>
                  <a:pt x="11829" y="10240"/>
                  <a:pt x="12204" y="10188"/>
                  <a:pt x="12576" y="10170"/>
                </a:cubicBezTo>
                <a:cubicBezTo>
                  <a:pt x="12768" y="10161"/>
                  <a:pt x="12953" y="10145"/>
                  <a:pt x="13146" y="10145"/>
                </a:cubicBezTo>
                <a:cubicBezTo>
                  <a:pt x="13291" y="10145"/>
                  <a:pt x="13426" y="10128"/>
                  <a:pt x="13568" y="10120"/>
                </a:cubicBezTo>
                <a:cubicBezTo>
                  <a:pt x="13732" y="10111"/>
                  <a:pt x="13903" y="10123"/>
                  <a:pt x="14064" y="10145"/>
                </a:cubicBezTo>
                <a:cubicBezTo>
                  <a:pt x="14239" y="10169"/>
                  <a:pt x="14410" y="10153"/>
                  <a:pt x="14585" y="10170"/>
                </a:cubicBezTo>
                <a:cubicBezTo>
                  <a:pt x="14669" y="10178"/>
                  <a:pt x="14754" y="10206"/>
                  <a:pt x="14833" y="10220"/>
                </a:cubicBezTo>
                <a:cubicBezTo>
                  <a:pt x="14881" y="10228"/>
                  <a:pt x="14908" y="10237"/>
                  <a:pt x="14957" y="10244"/>
                </a:cubicBezTo>
                <a:cubicBezTo>
                  <a:pt x="14965" y="10244"/>
                  <a:pt x="14974" y="10244"/>
                  <a:pt x="14982" y="102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259160" y="5705640"/>
            <a:ext cx="1393920" cy="679320"/>
          </a:xfrm>
          <a:custGeom>
            <a:avLst/>
            <a:gdLst/>
            <a:ahLst/>
            <a:rect l="l" t="t" r="r" b="b"/>
            <a:pathLst>
              <a:path w="3870" h="1886">
                <a:moveTo>
                  <a:pt x="15528" y="17115"/>
                </a:moveTo>
                <a:cubicBezTo>
                  <a:pt x="15563" y="16967"/>
                  <a:pt x="15586" y="16823"/>
                  <a:pt x="15602" y="16669"/>
                </a:cubicBezTo>
                <a:cubicBezTo>
                  <a:pt x="15629" y="16409"/>
                  <a:pt x="15660" y="16155"/>
                  <a:pt x="15701" y="15900"/>
                </a:cubicBezTo>
                <a:cubicBezTo>
                  <a:pt x="15701" y="15892"/>
                  <a:pt x="15701" y="15883"/>
                  <a:pt x="15701" y="15875"/>
                </a:cubicBezTo>
                <a:cubicBezTo>
                  <a:pt x="15611" y="15864"/>
                  <a:pt x="15528" y="15839"/>
                  <a:pt x="15429" y="15850"/>
                </a:cubicBezTo>
                <a:cubicBezTo>
                  <a:pt x="15156" y="15880"/>
                  <a:pt x="14886" y="15875"/>
                  <a:pt x="14610" y="15875"/>
                </a:cubicBezTo>
                <a:cubicBezTo>
                  <a:pt x="14213" y="15875"/>
                  <a:pt x="13815" y="15835"/>
                  <a:pt x="13419" y="15850"/>
                </a:cubicBezTo>
                <a:cubicBezTo>
                  <a:pt x="13082" y="15863"/>
                  <a:pt x="12739" y="15855"/>
                  <a:pt x="12402" y="15875"/>
                </a:cubicBezTo>
                <a:cubicBezTo>
                  <a:pt x="12226" y="15885"/>
                  <a:pt x="12057" y="15919"/>
                  <a:pt x="11881" y="15925"/>
                </a:cubicBezTo>
                <a:cubicBezTo>
                  <a:pt x="11857" y="15925"/>
                  <a:pt x="11848" y="15925"/>
                  <a:pt x="11832" y="15925"/>
                </a:cubicBezTo>
                <a:cubicBezTo>
                  <a:pt x="11849" y="16055"/>
                  <a:pt x="11861" y="16191"/>
                  <a:pt x="11881" y="16321"/>
                </a:cubicBezTo>
                <a:cubicBezTo>
                  <a:pt x="11938" y="16697"/>
                  <a:pt x="11989" y="17058"/>
                  <a:pt x="12005" y="17438"/>
                </a:cubicBezTo>
                <a:cubicBezTo>
                  <a:pt x="12009" y="17536"/>
                  <a:pt x="12005" y="17636"/>
                  <a:pt x="12005" y="17735"/>
                </a:cubicBezTo>
                <a:cubicBezTo>
                  <a:pt x="12229" y="17708"/>
                  <a:pt x="12451" y="17672"/>
                  <a:pt x="12675" y="17636"/>
                </a:cubicBezTo>
                <a:cubicBezTo>
                  <a:pt x="13167" y="17557"/>
                  <a:pt x="13667" y="17529"/>
                  <a:pt x="14163" y="17487"/>
                </a:cubicBezTo>
                <a:cubicBezTo>
                  <a:pt x="14500" y="17458"/>
                  <a:pt x="14847" y="17460"/>
                  <a:pt x="15180" y="17438"/>
                </a:cubicBezTo>
                <a:cubicBezTo>
                  <a:pt x="15278" y="17431"/>
                  <a:pt x="15380" y="17438"/>
                  <a:pt x="15478" y="17438"/>
                </a:cubicBezTo>
                <a:cubicBezTo>
                  <a:pt x="15490" y="17297"/>
                  <a:pt x="15500" y="17159"/>
                  <a:pt x="15503" y="17016"/>
                </a:cubicBezTo>
                <a:cubicBezTo>
                  <a:pt x="15522" y="16959"/>
                  <a:pt x="15548" y="16934"/>
                  <a:pt x="15503" y="169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380520" y="152280"/>
            <a:ext cx="7543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xamples: Solving Division Equa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)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.)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2565360" y="137160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65360" y="137160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1143000" y="2895480"/>
          <a:ext cx="414504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2895480"/>
                    <a:ext cx="414504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95280" y="1143000"/>
          <a:ext cx="2963880" cy="1371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5280" y="1143000"/>
                    <a:ext cx="296388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1371600" y="4724280"/>
          <a:ext cx="4292640" cy="1143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4724280"/>
                    <a:ext cx="429264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1214280" y="1482840"/>
            <a:ext cx="160560" cy="3616200"/>
          </a:xfrm>
          <a:custGeom>
            <a:avLst/>
            <a:gdLst/>
            <a:ahLst/>
            <a:rect l="l" t="t" r="r" b="b"/>
            <a:pathLst>
              <a:path w="448" h="10046">
                <a:moveTo>
                  <a:pt x="3423" y="4118"/>
                </a:moveTo>
                <a:lnTo>
                  <a:pt x="3423" y="4118"/>
                </a:lnTo>
                <a:lnTo>
                  <a:pt x="3423" y="4118"/>
                </a:lnTo>
              </a:path>
              <a:path w="448" h="10046">
                <a:moveTo>
                  <a:pt x="3547" y="4415"/>
                </a:moveTo>
                <a:lnTo>
                  <a:pt x="3547" y="4415"/>
                </a:lnTo>
              </a:path>
              <a:path w="448" h="10046">
                <a:moveTo>
                  <a:pt x="3373" y="8979"/>
                </a:moveTo>
                <a:lnTo>
                  <a:pt x="3373" y="8979"/>
                </a:lnTo>
              </a:path>
              <a:path w="448" h="10046">
                <a:moveTo>
                  <a:pt x="3423" y="9327"/>
                </a:moveTo>
                <a:lnTo>
                  <a:pt x="3423" y="9327"/>
                </a:lnTo>
                <a:lnTo>
                  <a:pt x="3423" y="9327"/>
                </a:lnTo>
              </a:path>
              <a:path w="448" h="10046">
                <a:moveTo>
                  <a:pt x="3423" y="9327"/>
                </a:moveTo>
                <a:lnTo>
                  <a:pt x="3423" y="9327"/>
                </a:lnTo>
              </a:path>
              <a:path w="448" h="10046">
                <a:moveTo>
                  <a:pt x="3820" y="14163"/>
                </a:moveTo>
                <a:cubicBezTo>
                  <a:pt x="3820" y="14155"/>
                  <a:pt x="3820" y="14147"/>
                  <a:pt x="3820" y="14139"/>
                </a:cubicBezTo>
              </a:path>
              <a:path w="448" h="10046">
                <a:moveTo>
                  <a:pt x="3820" y="14139"/>
                </a:moveTo>
                <a:lnTo>
                  <a:pt x="3820" y="14139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19080" y="1160640"/>
            <a:ext cx="1152720" cy="2955600"/>
          </a:xfrm>
          <a:custGeom>
            <a:avLst/>
            <a:gdLst/>
            <a:ahLst/>
            <a:rect l="l" t="t" r="r" b="b"/>
            <a:pathLst>
              <a:path w="3201" h="8211">
                <a:moveTo>
                  <a:pt x="3770" y="4638"/>
                </a:moveTo>
                <a:cubicBezTo>
                  <a:pt x="3770" y="4759"/>
                  <a:pt x="3796" y="4848"/>
                  <a:pt x="3845" y="4961"/>
                </a:cubicBezTo>
                <a:cubicBezTo>
                  <a:pt x="3871" y="5020"/>
                  <a:pt x="3906" y="5057"/>
                  <a:pt x="3919" y="5110"/>
                </a:cubicBezTo>
              </a:path>
              <a:path w="3201" h="8211">
                <a:moveTo>
                  <a:pt x="3919" y="4713"/>
                </a:moveTo>
                <a:cubicBezTo>
                  <a:pt x="3829" y="4863"/>
                  <a:pt x="3739" y="5025"/>
                  <a:pt x="3671" y="5184"/>
                </a:cubicBezTo>
                <a:cubicBezTo>
                  <a:pt x="3671" y="5192"/>
                  <a:pt x="3671" y="5201"/>
                  <a:pt x="3671" y="5209"/>
                </a:cubicBezTo>
              </a:path>
              <a:path w="3201" h="8211">
                <a:moveTo>
                  <a:pt x="3051" y="4440"/>
                </a:moveTo>
                <a:cubicBezTo>
                  <a:pt x="2991" y="4525"/>
                  <a:pt x="2956" y="4626"/>
                  <a:pt x="2902" y="4713"/>
                </a:cubicBezTo>
                <a:cubicBezTo>
                  <a:pt x="2997" y="4713"/>
                  <a:pt x="3144" y="4729"/>
                  <a:pt x="3225" y="4688"/>
                </a:cubicBezTo>
                <a:cubicBezTo>
                  <a:pt x="3225" y="4680"/>
                  <a:pt x="3225" y="4671"/>
                  <a:pt x="3225" y="4663"/>
                </a:cubicBezTo>
              </a:path>
              <a:path w="3201" h="8211">
                <a:moveTo>
                  <a:pt x="3274" y="4242"/>
                </a:moveTo>
                <a:cubicBezTo>
                  <a:pt x="3247" y="4479"/>
                  <a:pt x="3253" y="4766"/>
                  <a:pt x="3274" y="5011"/>
                </a:cubicBezTo>
                <a:cubicBezTo>
                  <a:pt x="3280" y="5085"/>
                  <a:pt x="3299" y="5120"/>
                  <a:pt x="3299" y="5184"/>
                </a:cubicBezTo>
              </a:path>
              <a:path w="3201" h="8211">
                <a:moveTo>
                  <a:pt x="2580" y="5383"/>
                </a:moveTo>
                <a:cubicBezTo>
                  <a:pt x="2537" y="5342"/>
                  <a:pt x="2945" y="5311"/>
                  <a:pt x="2977" y="5308"/>
                </a:cubicBezTo>
                <a:cubicBezTo>
                  <a:pt x="3176" y="5287"/>
                  <a:pt x="3413" y="5277"/>
                  <a:pt x="3597" y="5234"/>
                </a:cubicBezTo>
                <a:cubicBezTo>
                  <a:pt x="3605" y="5234"/>
                  <a:pt x="3613" y="5234"/>
                  <a:pt x="3621" y="5234"/>
                </a:cubicBezTo>
              </a:path>
              <a:path w="3201" h="8211">
                <a:moveTo>
                  <a:pt x="3125" y="5432"/>
                </a:moveTo>
                <a:cubicBezTo>
                  <a:pt x="3148" y="5592"/>
                  <a:pt x="3172" y="5740"/>
                  <a:pt x="3175" y="5904"/>
                </a:cubicBezTo>
                <a:cubicBezTo>
                  <a:pt x="3175" y="5917"/>
                  <a:pt x="3175" y="6163"/>
                  <a:pt x="3175" y="6102"/>
                </a:cubicBezTo>
              </a:path>
              <a:path w="3201" h="8211">
                <a:moveTo>
                  <a:pt x="3398" y="4341"/>
                </a:moveTo>
                <a:cubicBezTo>
                  <a:pt x="3398" y="4333"/>
                  <a:pt x="3398" y="4324"/>
                  <a:pt x="3398" y="4316"/>
                </a:cubicBezTo>
                <a:cubicBezTo>
                  <a:pt x="3450" y="4295"/>
                  <a:pt x="3485" y="4254"/>
                  <a:pt x="3547" y="4242"/>
                </a:cubicBezTo>
              </a:path>
              <a:path w="3201" h="8211">
                <a:moveTo>
                  <a:pt x="3621" y="4093"/>
                </a:moveTo>
                <a:cubicBezTo>
                  <a:pt x="3636" y="4152"/>
                  <a:pt x="3642" y="4184"/>
                  <a:pt x="3721" y="4167"/>
                </a:cubicBezTo>
                <a:cubicBezTo>
                  <a:pt x="3770" y="4142"/>
                  <a:pt x="3786" y="4134"/>
                  <a:pt x="3795" y="4093"/>
                </a:cubicBezTo>
              </a:path>
              <a:path w="3201" h="8211">
                <a:moveTo>
                  <a:pt x="3746" y="3870"/>
                </a:moveTo>
                <a:cubicBezTo>
                  <a:pt x="3757" y="4007"/>
                  <a:pt x="3792" y="4133"/>
                  <a:pt x="3820" y="4266"/>
                </a:cubicBezTo>
                <a:cubicBezTo>
                  <a:pt x="3820" y="4274"/>
                  <a:pt x="3820" y="4283"/>
                  <a:pt x="3820" y="4291"/>
                </a:cubicBezTo>
              </a:path>
              <a:path w="3201" h="8211">
                <a:moveTo>
                  <a:pt x="2778" y="5110"/>
                </a:moveTo>
                <a:cubicBezTo>
                  <a:pt x="2967" y="4812"/>
                  <a:pt x="3240" y="4605"/>
                  <a:pt x="3473" y="4341"/>
                </a:cubicBezTo>
                <a:cubicBezTo>
                  <a:pt x="3580" y="4220"/>
                  <a:pt x="3758" y="4017"/>
                  <a:pt x="3845" y="3894"/>
                </a:cubicBezTo>
                <a:cubicBezTo>
                  <a:pt x="3845" y="3886"/>
                  <a:pt x="3845" y="3878"/>
                  <a:pt x="3845" y="3870"/>
                </a:cubicBezTo>
              </a:path>
              <a:path w="3201" h="8211">
                <a:moveTo>
                  <a:pt x="3175" y="3225"/>
                </a:moveTo>
                <a:cubicBezTo>
                  <a:pt x="3197" y="3394"/>
                  <a:pt x="3241" y="3557"/>
                  <a:pt x="3274" y="3721"/>
                </a:cubicBezTo>
                <a:cubicBezTo>
                  <a:pt x="3274" y="3762"/>
                  <a:pt x="3266" y="3778"/>
                  <a:pt x="3299" y="3770"/>
                </a:cubicBezTo>
              </a:path>
              <a:path w="3201" h="8211">
                <a:moveTo>
                  <a:pt x="4366" y="6598"/>
                </a:moveTo>
                <a:cubicBezTo>
                  <a:pt x="4764" y="6338"/>
                  <a:pt x="5181" y="6110"/>
                  <a:pt x="5581" y="5854"/>
                </a:cubicBezTo>
                <a:cubicBezTo>
                  <a:pt x="5690" y="5781"/>
                  <a:pt x="5706" y="5782"/>
                  <a:pt x="5755" y="5730"/>
                </a:cubicBezTo>
              </a:path>
              <a:path w="3201" h="8211">
                <a:moveTo>
                  <a:pt x="4837" y="6796"/>
                </a:moveTo>
                <a:cubicBezTo>
                  <a:pt x="4805" y="6766"/>
                  <a:pt x="4836" y="6972"/>
                  <a:pt x="4837" y="7020"/>
                </a:cubicBezTo>
                <a:cubicBezTo>
                  <a:pt x="4837" y="7094"/>
                  <a:pt x="4837" y="7103"/>
                  <a:pt x="4837" y="7144"/>
                </a:cubicBezTo>
              </a:path>
              <a:path w="3201" h="8211">
                <a:moveTo>
                  <a:pt x="3646" y="9500"/>
                </a:moveTo>
                <a:cubicBezTo>
                  <a:pt x="3646" y="9456"/>
                  <a:pt x="3648" y="9461"/>
                  <a:pt x="3621" y="9426"/>
                </a:cubicBezTo>
                <a:cubicBezTo>
                  <a:pt x="3643" y="9526"/>
                  <a:pt x="3700" y="9625"/>
                  <a:pt x="3746" y="9723"/>
                </a:cubicBezTo>
                <a:cubicBezTo>
                  <a:pt x="3754" y="9740"/>
                  <a:pt x="3762" y="9756"/>
                  <a:pt x="3770" y="9773"/>
                </a:cubicBezTo>
              </a:path>
              <a:path w="3201" h="8211">
                <a:moveTo>
                  <a:pt x="3770" y="9401"/>
                </a:moveTo>
                <a:cubicBezTo>
                  <a:pt x="3722" y="9537"/>
                  <a:pt x="3640" y="9659"/>
                  <a:pt x="3597" y="9798"/>
                </a:cubicBezTo>
                <a:cubicBezTo>
                  <a:pt x="3597" y="9806"/>
                  <a:pt x="3597" y="9815"/>
                  <a:pt x="3597" y="9823"/>
                </a:cubicBezTo>
              </a:path>
              <a:path w="3201" h="8211">
                <a:moveTo>
                  <a:pt x="3051" y="9203"/>
                </a:moveTo>
                <a:cubicBezTo>
                  <a:pt x="3021" y="9173"/>
                  <a:pt x="3110" y="8989"/>
                  <a:pt x="3200" y="9054"/>
                </a:cubicBezTo>
                <a:cubicBezTo>
                  <a:pt x="3315" y="9138"/>
                  <a:pt x="3216" y="9269"/>
                  <a:pt x="3175" y="9351"/>
                </a:cubicBezTo>
                <a:cubicBezTo>
                  <a:pt x="3159" y="9351"/>
                  <a:pt x="3315" y="9406"/>
                  <a:pt x="3299" y="9525"/>
                </a:cubicBezTo>
                <a:cubicBezTo>
                  <a:pt x="3278" y="9682"/>
                  <a:pt x="3120" y="9671"/>
                  <a:pt x="3026" y="9649"/>
                </a:cubicBezTo>
                <a:cubicBezTo>
                  <a:pt x="3001" y="9649"/>
                  <a:pt x="2993" y="9649"/>
                  <a:pt x="2977" y="9649"/>
                </a:cubicBezTo>
              </a:path>
              <a:path w="3201" h="8211">
                <a:moveTo>
                  <a:pt x="2853" y="9872"/>
                </a:moveTo>
                <a:cubicBezTo>
                  <a:pt x="2785" y="9872"/>
                  <a:pt x="2934" y="9858"/>
                  <a:pt x="3001" y="9847"/>
                </a:cubicBezTo>
                <a:cubicBezTo>
                  <a:pt x="3149" y="9822"/>
                  <a:pt x="3298" y="9805"/>
                  <a:pt x="3448" y="9798"/>
                </a:cubicBezTo>
                <a:cubicBezTo>
                  <a:pt x="3481" y="9796"/>
                  <a:pt x="3514" y="9798"/>
                  <a:pt x="3547" y="9798"/>
                </a:cubicBezTo>
              </a:path>
              <a:path w="3201" h="8211">
                <a:moveTo>
                  <a:pt x="3051" y="10071"/>
                </a:moveTo>
                <a:cubicBezTo>
                  <a:pt x="3051" y="9947"/>
                  <a:pt x="3051" y="10269"/>
                  <a:pt x="3051" y="10393"/>
                </a:cubicBezTo>
                <a:cubicBezTo>
                  <a:pt x="3051" y="10430"/>
                  <a:pt x="3021" y="10623"/>
                  <a:pt x="3076" y="10641"/>
                </a:cubicBezTo>
              </a:path>
              <a:path w="3201" h="8211">
                <a:moveTo>
                  <a:pt x="3324" y="9277"/>
                </a:moveTo>
                <a:cubicBezTo>
                  <a:pt x="3360" y="9277"/>
                  <a:pt x="3352" y="9239"/>
                  <a:pt x="3398" y="9227"/>
                </a:cubicBezTo>
              </a:path>
              <a:path w="3201" h="8211">
                <a:moveTo>
                  <a:pt x="3547" y="9004"/>
                </a:moveTo>
                <a:cubicBezTo>
                  <a:pt x="3557" y="8924"/>
                  <a:pt x="3562" y="8897"/>
                  <a:pt x="3646" y="8880"/>
                </a:cubicBezTo>
                <a:cubicBezTo>
                  <a:pt x="3637" y="8983"/>
                  <a:pt x="3612" y="8975"/>
                  <a:pt x="3671" y="9029"/>
                </a:cubicBezTo>
                <a:cubicBezTo>
                  <a:pt x="3737" y="9090"/>
                  <a:pt x="3754" y="9181"/>
                  <a:pt x="3646" y="9203"/>
                </a:cubicBezTo>
                <a:cubicBezTo>
                  <a:pt x="3638" y="9203"/>
                  <a:pt x="3629" y="9203"/>
                  <a:pt x="3621" y="9203"/>
                </a:cubicBezTo>
              </a:path>
              <a:path w="3201" h="8211">
                <a:moveTo>
                  <a:pt x="5035" y="10393"/>
                </a:moveTo>
                <a:cubicBezTo>
                  <a:pt x="5083" y="10267"/>
                  <a:pt x="5183" y="10302"/>
                  <a:pt x="5110" y="10418"/>
                </a:cubicBezTo>
                <a:cubicBezTo>
                  <a:pt x="5093" y="10435"/>
                  <a:pt x="5077" y="10451"/>
                  <a:pt x="5060" y="10468"/>
                </a:cubicBezTo>
                <a:cubicBezTo>
                  <a:pt x="5127" y="10468"/>
                  <a:pt x="5161" y="10464"/>
                  <a:pt x="5209" y="10443"/>
                </a:cubicBezTo>
                <a:cubicBezTo>
                  <a:pt x="5221" y="10597"/>
                  <a:pt x="5183" y="10676"/>
                  <a:pt x="5035" y="10616"/>
                </a:cubicBezTo>
              </a:path>
              <a:path w="3201" h="8211">
                <a:moveTo>
                  <a:pt x="2679" y="9748"/>
                </a:moveTo>
                <a:cubicBezTo>
                  <a:pt x="2948" y="9464"/>
                  <a:pt x="3280" y="9284"/>
                  <a:pt x="3597" y="9054"/>
                </a:cubicBezTo>
                <a:cubicBezTo>
                  <a:pt x="3653" y="9013"/>
                  <a:pt x="3667" y="8998"/>
                  <a:pt x="3721" y="8954"/>
                </a:cubicBezTo>
              </a:path>
              <a:path w="3201" h="8211">
                <a:moveTo>
                  <a:pt x="3026" y="8310"/>
                </a:moveTo>
                <a:cubicBezTo>
                  <a:pt x="3026" y="8469"/>
                  <a:pt x="3038" y="8623"/>
                  <a:pt x="3051" y="8781"/>
                </a:cubicBezTo>
                <a:cubicBezTo>
                  <a:pt x="3051" y="8797"/>
                  <a:pt x="3051" y="8814"/>
                  <a:pt x="3051" y="8830"/>
                </a:cubicBezTo>
              </a:path>
              <a:path w="3201" h="8211">
                <a:moveTo>
                  <a:pt x="3994" y="10815"/>
                </a:moveTo>
                <a:cubicBezTo>
                  <a:pt x="4394" y="10638"/>
                  <a:pt x="4764" y="10401"/>
                  <a:pt x="5184" y="10269"/>
                </a:cubicBezTo>
                <a:cubicBezTo>
                  <a:pt x="5192" y="10269"/>
                  <a:pt x="5201" y="10269"/>
                  <a:pt x="5209" y="10269"/>
                </a:cubicBezTo>
              </a:path>
              <a:path w="3201" h="8211">
                <a:moveTo>
                  <a:pt x="4688" y="10914"/>
                </a:moveTo>
                <a:cubicBezTo>
                  <a:pt x="4688" y="11096"/>
                  <a:pt x="4688" y="11592"/>
                  <a:pt x="4688" y="11410"/>
                </a:cubicBezTo>
                <a:cubicBezTo>
                  <a:pt x="4688" y="11394"/>
                  <a:pt x="4688" y="11377"/>
                  <a:pt x="4688" y="11361"/>
                </a:cubicBezTo>
              </a:path>
              <a:path w="3201" h="8211">
                <a:moveTo>
                  <a:pt x="3671" y="7119"/>
                </a:moveTo>
                <a:cubicBezTo>
                  <a:pt x="3671" y="7256"/>
                  <a:pt x="3658" y="7381"/>
                  <a:pt x="3646" y="7516"/>
                </a:cubicBezTo>
                <a:cubicBezTo>
                  <a:pt x="3635" y="7639"/>
                  <a:pt x="3702" y="7629"/>
                  <a:pt x="3795" y="7590"/>
                </a:cubicBezTo>
                <a:cubicBezTo>
                  <a:pt x="3812" y="7582"/>
                  <a:pt x="3828" y="7573"/>
                  <a:pt x="3845" y="7565"/>
                </a:cubicBezTo>
              </a:path>
              <a:path w="3201" h="8211">
                <a:moveTo>
                  <a:pt x="3522" y="7342"/>
                </a:moveTo>
                <a:cubicBezTo>
                  <a:pt x="3613" y="7313"/>
                  <a:pt x="3715" y="7289"/>
                  <a:pt x="3795" y="7243"/>
                </a:cubicBezTo>
              </a:path>
              <a:path w="3201" h="8211">
                <a:moveTo>
                  <a:pt x="3249" y="7838"/>
                </a:moveTo>
                <a:cubicBezTo>
                  <a:pt x="3296" y="7791"/>
                  <a:pt x="3596" y="7758"/>
                  <a:pt x="3671" y="7739"/>
                </a:cubicBezTo>
                <a:cubicBezTo>
                  <a:pt x="3774" y="7713"/>
                  <a:pt x="3866" y="7679"/>
                  <a:pt x="3969" y="7665"/>
                </a:cubicBezTo>
              </a:path>
              <a:path w="3201" h="8211">
                <a:moveTo>
                  <a:pt x="3721" y="7938"/>
                </a:moveTo>
                <a:cubicBezTo>
                  <a:pt x="3729" y="8072"/>
                  <a:pt x="3760" y="8201"/>
                  <a:pt x="3770" y="8334"/>
                </a:cubicBezTo>
                <a:cubicBezTo>
                  <a:pt x="3770" y="8342"/>
                  <a:pt x="3770" y="8351"/>
                  <a:pt x="3770" y="8359"/>
                </a:cubicBezTo>
              </a:path>
              <a:path w="3201" h="8211">
                <a:moveTo>
                  <a:pt x="4018" y="7764"/>
                </a:moveTo>
                <a:cubicBezTo>
                  <a:pt x="4068" y="7764"/>
                  <a:pt x="4117" y="7764"/>
                  <a:pt x="4167" y="7764"/>
                </a:cubicBezTo>
              </a:path>
              <a:path w="3201" h="8211">
                <a:moveTo>
                  <a:pt x="3994" y="7987"/>
                </a:moveTo>
                <a:cubicBezTo>
                  <a:pt x="4051" y="8016"/>
                  <a:pt x="4096" y="8012"/>
                  <a:pt x="4167" y="8012"/>
                </a:cubicBezTo>
              </a:path>
              <a:path w="3201" h="8211">
                <a:moveTo>
                  <a:pt x="4366" y="7516"/>
                </a:moveTo>
                <a:cubicBezTo>
                  <a:pt x="4471" y="7667"/>
                  <a:pt x="4429" y="7782"/>
                  <a:pt x="4415" y="7962"/>
                </a:cubicBezTo>
                <a:cubicBezTo>
                  <a:pt x="4413" y="7986"/>
                  <a:pt x="4427" y="8104"/>
                  <a:pt x="4490" y="8086"/>
                </a:cubicBezTo>
                <a:cubicBezTo>
                  <a:pt x="4546" y="8049"/>
                  <a:pt x="4550" y="8032"/>
                  <a:pt x="4589" y="8037"/>
                </a:cubicBezTo>
              </a:path>
              <a:path w="3201" h="8211">
                <a:moveTo>
                  <a:pt x="4291" y="7888"/>
                </a:moveTo>
                <a:cubicBezTo>
                  <a:pt x="4354" y="7844"/>
                  <a:pt x="4443" y="7778"/>
                  <a:pt x="4514" y="7764"/>
                </a:cubicBezTo>
                <a:cubicBezTo>
                  <a:pt x="4522" y="7764"/>
                  <a:pt x="4531" y="7764"/>
                  <a:pt x="4539" y="77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133640" y="4626000"/>
            <a:ext cx="474480" cy="946080"/>
          </a:xfrm>
          <a:custGeom>
            <a:avLst/>
            <a:gdLst/>
            <a:ahLst/>
            <a:rect l="l" t="t" r="r" b="b"/>
            <a:pathLst>
              <a:path w="1316" h="2630">
                <a:moveTo>
                  <a:pt x="4118" y="14288"/>
                </a:moveTo>
                <a:cubicBezTo>
                  <a:pt x="4213" y="14435"/>
                  <a:pt x="4323" y="14610"/>
                  <a:pt x="4440" y="14734"/>
                </a:cubicBezTo>
                <a:cubicBezTo>
                  <a:pt x="4448" y="14734"/>
                  <a:pt x="4457" y="14734"/>
                  <a:pt x="4465" y="14734"/>
                </a:cubicBezTo>
              </a:path>
              <a:path w="1316" h="2630">
                <a:moveTo>
                  <a:pt x="4390" y="14288"/>
                </a:moveTo>
                <a:cubicBezTo>
                  <a:pt x="4271" y="14389"/>
                  <a:pt x="4207" y="14559"/>
                  <a:pt x="4142" y="14709"/>
                </a:cubicBezTo>
                <a:cubicBezTo>
                  <a:pt x="4122" y="14750"/>
                  <a:pt x="4114" y="14756"/>
                  <a:pt x="4118" y="14784"/>
                </a:cubicBezTo>
              </a:path>
              <a:path w="1316" h="2630">
                <a:moveTo>
                  <a:pt x="3448" y="13891"/>
                </a:moveTo>
                <a:cubicBezTo>
                  <a:pt x="3416" y="14016"/>
                  <a:pt x="3405" y="14197"/>
                  <a:pt x="3398" y="14337"/>
                </a:cubicBezTo>
                <a:cubicBezTo>
                  <a:pt x="3389" y="14530"/>
                  <a:pt x="3403" y="14556"/>
                  <a:pt x="3522" y="14684"/>
                </a:cubicBezTo>
                <a:cubicBezTo>
                  <a:pt x="3705" y="14601"/>
                  <a:pt x="3738" y="14513"/>
                  <a:pt x="3770" y="14312"/>
                </a:cubicBezTo>
                <a:cubicBezTo>
                  <a:pt x="3780" y="14247"/>
                  <a:pt x="3766" y="14263"/>
                  <a:pt x="3721" y="14263"/>
                </a:cubicBezTo>
                <a:cubicBezTo>
                  <a:pt x="3595" y="14446"/>
                  <a:pt x="3577" y="14549"/>
                  <a:pt x="3646" y="14759"/>
                </a:cubicBezTo>
              </a:path>
              <a:path w="1316" h="2630">
                <a:moveTo>
                  <a:pt x="3175" y="14908"/>
                </a:moveTo>
                <a:cubicBezTo>
                  <a:pt x="3131" y="14842"/>
                  <a:pt x="3350" y="14842"/>
                  <a:pt x="3398" y="14833"/>
                </a:cubicBezTo>
                <a:cubicBezTo>
                  <a:pt x="3497" y="14814"/>
                  <a:pt x="3895" y="14663"/>
                  <a:pt x="3994" y="14734"/>
                </a:cubicBezTo>
                <a:cubicBezTo>
                  <a:pt x="3994" y="14742"/>
                  <a:pt x="3994" y="14751"/>
                  <a:pt x="3994" y="14759"/>
                </a:cubicBezTo>
              </a:path>
              <a:path w="1316" h="2630">
                <a:moveTo>
                  <a:pt x="3621" y="14982"/>
                </a:moveTo>
                <a:cubicBezTo>
                  <a:pt x="3628" y="14933"/>
                  <a:pt x="3635" y="14925"/>
                  <a:pt x="3646" y="14883"/>
                </a:cubicBezTo>
                <a:cubicBezTo>
                  <a:pt x="3646" y="15068"/>
                  <a:pt x="3652" y="15249"/>
                  <a:pt x="3671" y="15429"/>
                </a:cubicBezTo>
                <a:cubicBezTo>
                  <a:pt x="3671" y="15470"/>
                  <a:pt x="3671" y="15494"/>
                  <a:pt x="3671" y="15453"/>
                </a:cubicBezTo>
              </a:path>
              <a:path w="1316" h="2630">
                <a:moveTo>
                  <a:pt x="3994" y="13568"/>
                </a:moveTo>
                <a:cubicBezTo>
                  <a:pt x="4042" y="13704"/>
                  <a:pt x="4055" y="13869"/>
                  <a:pt x="4142" y="13990"/>
                </a:cubicBezTo>
                <a:cubicBezTo>
                  <a:pt x="4228" y="14109"/>
                  <a:pt x="4290" y="13796"/>
                  <a:pt x="4291" y="13791"/>
                </a:cubicBezTo>
                <a:cubicBezTo>
                  <a:pt x="4283" y="13783"/>
                  <a:pt x="4274" y="13775"/>
                  <a:pt x="4266" y="13767"/>
                </a:cubicBezTo>
                <a:cubicBezTo>
                  <a:pt x="4179" y="13889"/>
                  <a:pt x="4171" y="14010"/>
                  <a:pt x="4068" y="14114"/>
                </a:cubicBezTo>
              </a:path>
              <a:path w="1316" h="2630">
                <a:moveTo>
                  <a:pt x="3398" y="14635"/>
                </a:moveTo>
                <a:cubicBezTo>
                  <a:pt x="3686" y="14208"/>
                  <a:pt x="3990" y="13869"/>
                  <a:pt x="4366" y="13519"/>
                </a:cubicBezTo>
                <a:cubicBezTo>
                  <a:pt x="4390" y="13494"/>
                  <a:pt x="4398" y="13486"/>
                  <a:pt x="4366" y="13519"/>
                </a:cubicBezTo>
              </a:path>
              <a:path w="1316" h="2630">
                <a:moveTo>
                  <a:pt x="3448" y="12849"/>
                </a:moveTo>
                <a:cubicBezTo>
                  <a:pt x="3381" y="13088"/>
                  <a:pt x="3373" y="13296"/>
                  <a:pt x="3373" y="13543"/>
                </a:cubicBezTo>
                <a:cubicBezTo>
                  <a:pt x="3373" y="13551"/>
                  <a:pt x="3373" y="13560"/>
                  <a:pt x="3373" y="135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813120" y="1751040"/>
            <a:ext cx="81000" cy="150840"/>
          </a:xfrm>
          <a:custGeom>
            <a:avLst/>
            <a:gdLst/>
            <a:ahLst/>
            <a:rect l="l" t="t" r="r" b="b"/>
            <a:pathLst>
              <a:path w="224" h="422">
                <a:moveTo>
                  <a:pt x="10592" y="4862"/>
                </a:moveTo>
                <a:cubicBezTo>
                  <a:pt x="10641" y="4978"/>
                  <a:pt x="10720" y="5120"/>
                  <a:pt x="10790" y="5234"/>
                </a:cubicBezTo>
                <a:cubicBezTo>
                  <a:pt x="10812" y="5256"/>
                  <a:pt x="10821" y="5261"/>
                  <a:pt x="10815" y="5283"/>
                </a:cubicBezTo>
              </a:path>
              <a:path w="224" h="422">
                <a:moveTo>
                  <a:pt x="10740" y="4887"/>
                </a:moveTo>
                <a:cubicBezTo>
                  <a:pt x="10683" y="5002"/>
                  <a:pt x="10628" y="5104"/>
                  <a:pt x="10616" y="5234"/>
                </a:cubicBezTo>
                <a:cubicBezTo>
                  <a:pt x="10616" y="5242"/>
                  <a:pt x="10616" y="5251"/>
                  <a:pt x="10616" y="52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054320" y="1598760"/>
            <a:ext cx="106560" cy="258480"/>
          </a:xfrm>
          <a:custGeom>
            <a:avLst/>
            <a:gdLst/>
            <a:ahLst/>
            <a:rect l="l" t="t" r="r" b="b"/>
            <a:pathLst>
              <a:path w="299" h="720">
                <a:moveTo>
                  <a:pt x="11336" y="4663"/>
                </a:moveTo>
                <a:cubicBezTo>
                  <a:pt x="11324" y="4762"/>
                  <a:pt x="11309" y="4853"/>
                  <a:pt x="11261" y="4936"/>
                </a:cubicBezTo>
                <a:cubicBezTo>
                  <a:pt x="11355" y="4936"/>
                  <a:pt x="11477" y="4940"/>
                  <a:pt x="11559" y="4887"/>
                </a:cubicBezTo>
                <a:cubicBezTo>
                  <a:pt x="11559" y="4845"/>
                  <a:pt x="11559" y="4820"/>
                  <a:pt x="11559" y="4787"/>
                </a:cubicBezTo>
              </a:path>
              <a:path w="299" h="720">
                <a:moveTo>
                  <a:pt x="11559" y="4440"/>
                </a:moveTo>
                <a:cubicBezTo>
                  <a:pt x="11520" y="4635"/>
                  <a:pt x="11463" y="4838"/>
                  <a:pt x="11435" y="5035"/>
                </a:cubicBezTo>
                <a:cubicBezTo>
                  <a:pt x="11435" y="5110"/>
                  <a:pt x="11435" y="5118"/>
                  <a:pt x="11435" y="51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071800" y="2509920"/>
            <a:ext cx="1135080" cy="3535200"/>
          </a:xfrm>
          <a:custGeom>
            <a:avLst/>
            <a:gdLst/>
            <a:ahLst/>
            <a:rect l="l" t="t" r="r" b="b"/>
            <a:pathLst>
              <a:path w="3151" h="9824">
                <a:moveTo>
                  <a:pt x="7466" y="6970"/>
                </a:moveTo>
                <a:lnTo>
                  <a:pt x="7466" y="6970"/>
                </a:lnTo>
              </a:path>
              <a:path w="3151" h="9824">
                <a:moveTo>
                  <a:pt x="5755" y="7962"/>
                </a:moveTo>
                <a:lnTo>
                  <a:pt x="5755" y="7962"/>
                </a:lnTo>
                <a:lnTo>
                  <a:pt x="5755" y="7962"/>
                </a:lnTo>
              </a:path>
              <a:path w="3151" h="9824">
                <a:moveTo>
                  <a:pt x="7913" y="13643"/>
                </a:moveTo>
                <a:cubicBezTo>
                  <a:pt x="8024" y="13643"/>
                  <a:pt x="8067" y="13639"/>
                  <a:pt x="8136" y="13593"/>
                </a:cubicBezTo>
              </a:path>
              <a:path w="3151" h="9824">
                <a:moveTo>
                  <a:pt x="8136" y="13593"/>
                </a:moveTo>
                <a:lnTo>
                  <a:pt x="8136" y="13593"/>
                </a:lnTo>
              </a:path>
              <a:path w="3151" h="9824">
                <a:moveTo>
                  <a:pt x="8409" y="13395"/>
                </a:moveTo>
                <a:cubicBezTo>
                  <a:pt x="8461" y="13582"/>
                  <a:pt x="8540" y="13787"/>
                  <a:pt x="8409" y="13965"/>
                </a:cubicBezTo>
                <a:cubicBezTo>
                  <a:pt x="8324" y="14080"/>
                  <a:pt x="8240" y="13905"/>
                  <a:pt x="8210" y="13866"/>
                </a:cubicBezTo>
              </a:path>
              <a:path w="3151" h="9824">
                <a:moveTo>
                  <a:pt x="8830" y="16793"/>
                </a:moveTo>
                <a:cubicBezTo>
                  <a:pt x="8855" y="16785"/>
                  <a:pt x="8880" y="16776"/>
                  <a:pt x="8905" y="167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465200" y="677880"/>
            <a:ext cx="704880" cy="403200"/>
          </a:xfrm>
          <a:custGeom>
            <a:avLst/>
            <a:gdLst/>
            <a:ahLst/>
            <a:rect l="l" t="t" r="r" b="b"/>
            <a:pathLst>
              <a:path w="1961" h="1117">
                <a:moveTo>
                  <a:pt x="4539" y="1885"/>
                </a:moveTo>
                <a:cubicBezTo>
                  <a:pt x="4539" y="1913"/>
                  <a:pt x="4541" y="1924"/>
                  <a:pt x="4564" y="1935"/>
                </a:cubicBezTo>
                <a:cubicBezTo>
                  <a:pt x="4520" y="1924"/>
                  <a:pt x="4490" y="1890"/>
                  <a:pt x="4440" y="1885"/>
                </a:cubicBezTo>
                <a:cubicBezTo>
                  <a:pt x="4362" y="1877"/>
                  <a:pt x="4325" y="1975"/>
                  <a:pt x="4316" y="2034"/>
                </a:cubicBezTo>
                <a:cubicBezTo>
                  <a:pt x="4306" y="2103"/>
                  <a:pt x="4317" y="2236"/>
                  <a:pt x="4390" y="2257"/>
                </a:cubicBezTo>
                <a:cubicBezTo>
                  <a:pt x="4492" y="2287"/>
                  <a:pt x="4613" y="2273"/>
                  <a:pt x="4663" y="2158"/>
                </a:cubicBezTo>
                <a:cubicBezTo>
                  <a:pt x="4663" y="2116"/>
                  <a:pt x="4655" y="2100"/>
                  <a:pt x="4688" y="2108"/>
                </a:cubicBezTo>
              </a:path>
              <a:path w="1961" h="1117">
                <a:moveTo>
                  <a:pt x="4068" y="2431"/>
                </a:moveTo>
                <a:cubicBezTo>
                  <a:pt x="4272" y="2397"/>
                  <a:pt x="4479" y="2384"/>
                  <a:pt x="4688" y="2381"/>
                </a:cubicBezTo>
                <a:cubicBezTo>
                  <a:pt x="4779" y="2379"/>
                  <a:pt x="4870" y="2381"/>
                  <a:pt x="4961" y="2381"/>
                </a:cubicBezTo>
              </a:path>
              <a:path w="1961" h="1117">
                <a:moveTo>
                  <a:pt x="4514" y="2505"/>
                </a:moveTo>
                <a:cubicBezTo>
                  <a:pt x="4514" y="2457"/>
                  <a:pt x="4562" y="2753"/>
                  <a:pt x="4564" y="2778"/>
                </a:cubicBezTo>
                <a:cubicBezTo>
                  <a:pt x="4571" y="2850"/>
                  <a:pt x="4564" y="2928"/>
                  <a:pt x="4564" y="3001"/>
                </a:cubicBezTo>
              </a:path>
              <a:path w="1961" h="1117">
                <a:moveTo>
                  <a:pt x="5234" y="2381"/>
                </a:moveTo>
                <a:cubicBezTo>
                  <a:pt x="5226" y="2381"/>
                  <a:pt x="5217" y="2381"/>
                  <a:pt x="5209" y="2381"/>
                </a:cubicBezTo>
                <a:cubicBezTo>
                  <a:pt x="5257" y="2352"/>
                  <a:pt x="5321" y="2338"/>
                  <a:pt x="5383" y="2332"/>
                </a:cubicBezTo>
                <a:cubicBezTo>
                  <a:pt x="5407" y="2332"/>
                  <a:pt x="5416" y="2332"/>
                  <a:pt x="5432" y="2332"/>
                </a:cubicBezTo>
              </a:path>
              <a:path w="1961" h="1117">
                <a:moveTo>
                  <a:pt x="5234" y="2555"/>
                </a:moveTo>
                <a:cubicBezTo>
                  <a:pt x="5292" y="2555"/>
                  <a:pt x="5349" y="2555"/>
                  <a:pt x="5407" y="2555"/>
                </a:cubicBezTo>
              </a:path>
              <a:path w="1961" h="1117">
                <a:moveTo>
                  <a:pt x="5879" y="2257"/>
                </a:moveTo>
                <a:cubicBezTo>
                  <a:pt x="5889" y="2297"/>
                  <a:pt x="5888" y="2297"/>
                  <a:pt x="5928" y="2307"/>
                </a:cubicBezTo>
                <a:cubicBezTo>
                  <a:pt x="5926" y="2301"/>
                  <a:pt x="5861" y="2251"/>
                  <a:pt x="5854" y="2257"/>
                </a:cubicBezTo>
                <a:cubicBezTo>
                  <a:pt x="5763" y="2335"/>
                  <a:pt x="5699" y="2575"/>
                  <a:pt x="5779" y="2679"/>
                </a:cubicBezTo>
                <a:cubicBezTo>
                  <a:pt x="5838" y="2757"/>
                  <a:pt x="5955" y="2651"/>
                  <a:pt x="6003" y="2629"/>
                </a:cubicBezTo>
                <a:cubicBezTo>
                  <a:pt x="6034" y="2615"/>
                  <a:pt x="6028" y="2595"/>
                  <a:pt x="6028" y="26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830240" y="2170080"/>
            <a:ext cx="1197000" cy="777960"/>
          </a:xfrm>
          <a:custGeom>
            <a:avLst/>
            <a:gdLst/>
            <a:ahLst/>
            <a:rect l="l" t="t" r="r" b="b"/>
            <a:pathLst>
              <a:path w="3325" h="2159">
                <a:moveTo>
                  <a:pt x="5159" y="6152"/>
                </a:moveTo>
                <a:cubicBezTo>
                  <a:pt x="5216" y="6123"/>
                  <a:pt x="5272" y="6089"/>
                  <a:pt x="5333" y="6077"/>
                </a:cubicBezTo>
              </a:path>
              <a:path w="3325" h="2159">
                <a:moveTo>
                  <a:pt x="5457" y="6028"/>
                </a:moveTo>
                <a:cubicBezTo>
                  <a:pt x="5457" y="6103"/>
                  <a:pt x="5450" y="6123"/>
                  <a:pt x="5531" y="6127"/>
                </a:cubicBezTo>
                <a:cubicBezTo>
                  <a:pt x="5604" y="6130"/>
                  <a:pt x="5662" y="6124"/>
                  <a:pt x="5680" y="6052"/>
                </a:cubicBezTo>
              </a:path>
              <a:path w="3325" h="2159">
                <a:moveTo>
                  <a:pt x="5581" y="7193"/>
                </a:moveTo>
                <a:cubicBezTo>
                  <a:pt x="5581" y="7218"/>
                  <a:pt x="5581" y="7226"/>
                  <a:pt x="5606" y="7218"/>
                </a:cubicBezTo>
                <a:cubicBezTo>
                  <a:pt x="5528" y="7102"/>
                  <a:pt x="5441" y="7435"/>
                  <a:pt x="5432" y="7491"/>
                </a:cubicBezTo>
                <a:cubicBezTo>
                  <a:pt x="5394" y="7716"/>
                  <a:pt x="5569" y="7798"/>
                  <a:pt x="5755" y="7714"/>
                </a:cubicBezTo>
                <a:cubicBezTo>
                  <a:pt x="5801" y="7693"/>
                  <a:pt x="5871" y="7594"/>
                  <a:pt x="5904" y="7590"/>
                </a:cubicBezTo>
                <a:cubicBezTo>
                  <a:pt x="5912" y="7590"/>
                  <a:pt x="5920" y="7590"/>
                  <a:pt x="5928" y="7590"/>
                </a:cubicBezTo>
              </a:path>
              <a:path w="3325" h="2159">
                <a:moveTo>
                  <a:pt x="6598" y="7218"/>
                </a:moveTo>
                <a:cubicBezTo>
                  <a:pt x="6694" y="7218"/>
                  <a:pt x="6776" y="7179"/>
                  <a:pt x="6871" y="7169"/>
                </a:cubicBezTo>
                <a:cubicBezTo>
                  <a:pt x="6947" y="7161"/>
                  <a:pt x="6985" y="7148"/>
                  <a:pt x="6995" y="7169"/>
                </a:cubicBezTo>
              </a:path>
              <a:path w="3325" h="2159">
                <a:moveTo>
                  <a:pt x="6648" y="7441"/>
                </a:moveTo>
                <a:cubicBezTo>
                  <a:pt x="6755" y="7441"/>
                  <a:pt x="6863" y="7441"/>
                  <a:pt x="6970" y="7441"/>
                </a:cubicBezTo>
              </a:path>
              <a:path w="3325" h="2159">
                <a:moveTo>
                  <a:pt x="7516" y="6970"/>
                </a:moveTo>
                <a:cubicBezTo>
                  <a:pt x="7491" y="6970"/>
                  <a:pt x="7483" y="6970"/>
                  <a:pt x="7466" y="6970"/>
                </a:cubicBezTo>
              </a:path>
              <a:path w="3325" h="2159">
                <a:moveTo>
                  <a:pt x="7491" y="6970"/>
                </a:moveTo>
                <a:cubicBezTo>
                  <a:pt x="7522" y="6927"/>
                  <a:pt x="7605" y="6837"/>
                  <a:pt x="7665" y="6921"/>
                </a:cubicBezTo>
                <a:cubicBezTo>
                  <a:pt x="7720" y="6997"/>
                  <a:pt x="7650" y="7139"/>
                  <a:pt x="7590" y="7193"/>
                </a:cubicBezTo>
                <a:cubicBezTo>
                  <a:pt x="7582" y="7193"/>
                  <a:pt x="7573" y="7193"/>
                  <a:pt x="7565" y="7193"/>
                </a:cubicBezTo>
                <a:cubicBezTo>
                  <a:pt x="7545" y="7172"/>
                  <a:pt x="7680" y="7132"/>
                  <a:pt x="7714" y="7243"/>
                </a:cubicBezTo>
                <a:cubicBezTo>
                  <a:pt x="7768" y="7416"/>
                  <a:pt x="7655" y="7480"/>
                  <a:pt x="7516" y="7491"/>
                </a:cubicBezTo>
                <a:cubicBezTo>
                  <a:pt x="7401" y="7500"/>
                  <a:pt x="7516" y="7491"/>
                  <a:pt x="7541" y="7491"/>
                </a:cubicBezTo>
              </a:path>
              <a:path w="3325" h="2159">
                <a:moveTo>
                  <a:pt x="7888" y="6896"/>
                </a:moveTo>
                <a:cubicBezTo>
                  <a:pt x="7913" y="6945"/>
                  <a:pt x="7872" y="7060"/>
                  <a:pt x="7863" y="7144"/>
                </a:cubicBezTo>
                <a:cubicBezTo>
                  <a:pt x="7855" y="7219"/>
                  <a:pt x="7847" y="7326"/>
                  <a:pt x="7888" y="7392"/>
                </a:cubicBezTo>
                <a:cubicBezTo>
                  <a:pt x="7923" y="7449"/>
                  <a:pt x="8053" y="7454"/>
                  <a:pt x="8111" y="7441"/>
                </a:cubicBezTo>
                <a:cubicBezTo>
                  <a:pt x="8174" y="7427"/>
                  <a:pt x="8227" y="7367"/>
                  <a:pt x="8260" y="7342"/>
                </a:cubicBezTo>
                <a:cubicBezTo>
                  <a:pt x="8289" y="7321"/>
                  <a:pt x="8364" y="7300"/>
                  <a:pt x="8334" y="7243"/>
                </a:cubicBezTo>
                <a:cubicBezTo>
                  <a:pt x="8310" y="7198"/>
                  <a:pt x="8310" y="7193"/>
                  <a:pt x="8260" y="7193"/>
                </a:cubicBezTo>
                <a:cubicBezTo>
                  <a:pt x="8206" y="7193"/>
                  <a:pt x="8176" y="7205"/>
                  <a:pt x="8161" y="7268"/>
                </a:cubicBezTo>
                <a:cubicBezTo>
                  <a:pt x="8149" y="7319"/>
                  <a:pt x="8161" y="7387"/>
                  <a:pt x="8161" y="7441"/>
                </a:cubicBezTo>
              </a:path>
              <a:path w="3325" h="2159">
                <a:moveTo>
                  <a:pt x="5234" y="6821"/>
                </a:moveTo>
                <a:cubicBezTo>
                  <a:pt x="5208" y="6957"/>
                  <a:pt x="5209" y="7074"/>
                  <a:pt x="5209" y="7218"/>
                </a:cubicBezTo>
                <a:cubicBezTo>
                  <a:pt x="5209" y="7447"/>
                  <a:pt x="5237" y="7690"/>
                  <a:pt x="5184" y="7913"/>
                </a:cubicBezTo>
                <a:cubicBezTo>
                  <a:pt x="5174" y="7954"/>
                  <a:pt x="5176" y="8022"/>
                  <a:pt x="5159" y="8062"/>
                </a:cubicBezTo>
                <a:cubicBezTo>
                  <a:pt x="5130" y="8130"/>
                  <a:pt x="5129" y="8135"/>
                  <a:pt x="5110" y="8186"/>
                </a:cubicBezTo>
                <a:cubicBezTo>
                  <a:pt x="5255" y="8158"/>
                  <a:pt x="5409" y="8141"/>
                  <a:pt x="5556" y="8111"/>
                </a:cubicBezTo>
                <a:cubicBezTo>
                  <a:pt x="5835" y="8053"/>
                  <a:pt x="6093" y="8035"/>
                  <a:pt x="6375" y="8012"/>
                </a:cubicBezTo>
                <a:cubicBezTo>
                  <a:pt x="6655" y="7989"/>
                  <a:pt x="6937" y="7954"/>
                  <a:pt x="7218" y="7938"/>
                </a:cubicBezTo>
                <a:cubicBezTo>
                  <a:pt x="7443" y="7925"/>
                  <a:pt x="7644" y="7968"/>
                  <a:pt x="7863" y="7987"/>
                </a:cubicBezTo>
                <a:cubicBezTo>
                  <a:pt x="8018" y="8000"/>
                  <a:pt x="8178" y="7987"/>
                  <a:pt x="8334" y="7987"/>
                </a:cubicBezTo>
                <a:cubicBezTo>
                  <a:pt x="8350" y="7901"/>
                  <a:pt x="8357" y="7832"/>
                  <a:pt x="8359" y="7739"/>
                </a:cubicBezTo>
                <a:cubicBezTo>
                  <a:pt x="8365" y="7481"/>
                  <a:pt x="8370" y="7226"/>
                  <a:pt x="8384" y="6970"/>
                </a:cubicBezTo>
                <a:cubicBezTo>
                  <a:pt x="8393" y="6811"/>
                  <a:pt x="8395" y="6657"/>
                  <a:pt x="8409" y="6499"/>
                </a:cubicBezTo>
                <a:cubicBezTo>
                  <a:pt x="8409" y="6491"/>
                  <a:pt x="8409" y="6482"/>
                  <a:pt x="8409" y="6474"/>
                </a:cubicBezTo>
                <a:cubicBezTo>
                  <a:pt x="8279" y="6500"/>
                  <a:pt x="8147" y="6508"/>
                  <a:pt x="8012" y="6524"/>
                </a:cubicBezTo>
                <a:cubicBezTo>
                  <a:pt x="7822" y="6547"/>
                  <a:pt x="7631" y="6553"/>
                  <a:pt x="7441" y="6573"/>
                </a:cubicBezTo>
                <a:cubicBezTo>
                  <a:pt x="7253" y="6592"/>
                  <a:pt x="7026" y="6609"/>
                  <a:pt x="6846" y="6672"/>
                </a:cubicBezTo>
                <a:cubicBezTo>
                  <a:pt x="6692" y="6726"/>
                  <a:pt x="6562" y="6749"/>
                  <a:pt x="6400" y="6772"/>
                </a:cubicBezTo>
                <a:cubicBezTo>
                  <a:pt x="6226" y="6796"/>
                  <a:pt x="6053" y="6834"/>
                  <a:pt x="5879" y="6846"/>
                </a:cubicBezTo>
                <a:cubicBezTo>
                  <a:pt x="5725" y="6856"/>
                  <a:pt x="5583" y="6833"/>
                  <a:pt x="5432" y="6821"/>
                </a:cubicBezTo>
                <a:cubicBezTo>
                  <a:pt x="5318" y="6812"/>
                  <a:pt x="5200" y="6821"/>
                  <a:pt x="5085" y="68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3120" y="4000680"/>
            <a:ext cx="554040" cy="304560"/>
          </a:xfrm>
          <a:custGeom>
            <a:avLst/>
            <a:gdLst/>
            <a:ahLst/>
            <a:rect l="l" t="t" r="r" b="b"/>
            <a:pathLst>
              <a:path w="1539" h="845">
                <a:moveTo>
                  <a:pt x="7342" y="11832"/>
                </a:moveTo>
                <a:cubicBezTo>
                  <a:pt x="7451" y="11827"/>
                  <a:pt x="7556" y="11807"/>
                  <a:pt x="7665" y="11807"/>
                </a:cubicBezTo>
                <a:cubicBezTo>
                  <a:pt x="7673" y="11807"/>
                  <a:pt x="7681" y="11807"/>
                  <a:pt x="7689" y="11807"/>
                </a:cubicBezTo>
              </a:path>
              <a:path w="1539" h="845">
                <a:moveTo>
                  <a:pt x="8235" y="11311"/>
                </a:moveTo>
                <a:cubicBezTo>
                  <a:pt x="8225" y="11351"/>
                  <a:pt x="8226" y="11351"/>
                  <a:pt x="8186" y="11361"/>
                </a:cubicBezTo>
                <a:cubicBezTo>
                  <a:pt x="8219" y="11259"/>
                  <a:pt x="8360" y="11146"/>
                  <a:pt x="8409" y="11336"/>
                </a:cubicBezTo>
                <a:cubicBezTo>
                  <a:pt x="8479" y="11609"/>
                  <a:pt x="8270" y="11795"/>
                  <a:pt x="8062" y="11906"/>
                </a:cubicBezTo>
                <a:cubicBezTo>
                  <a:pt x="8096" y="11771"/>
                  <a:pt x="8224" y="11628"/>
                  <a:pt x="8384" y="11757"/>
                </a:cubicBezTo>
                <a:cubicBezTo>
                  <a:pt x="8435" y="11798"/>
                  <a:pt x="8458" y="12062"/>
                  <a:pt x="8458" y="11881"/>
                </a:cubicBezTo>
              </a:path>
              <a:path w="1539" h="845">
                <a:moveTo>
                  <a:pt x="8607" y="11336"/>
                </a:moveTo>
                <a:cubicBezTo>
                  <a:pt x="8607" y="11427"/>
                  <a:pt x="8607" y="11518"/>
                  <a:pt x="8607" y="11609"/>
                </a:cubicBezTo>
                <a:cubicBezTo>
                  <a:pt x="8670" y="11624"/>
                  <a:pt x="8836" y="11628"/>
                  <a:pt x="8880" y="11534"/>
                </a:cubicBezTo>
                <a:cubicBezTo>
                  <a:pt x="8880" y="11518"/>
                  <a:pt x="8880" y="11501"/>
                  <a:pt x="8880" y="11485"/>
                </a:cubicBezTo>
              </a:path>
              <a:path w="1539" h="845">
                <a:moveTo>
                  <a:pt x="8781" y="11112"/>
                </a:moveTo>
                <a:cubicBezTo>
                  <a:pt x="8838" y="11302"/>
                  <a:pt x="8818" y="11570"/>
                  <a:pt x="8830" y="11782"/>
                </a:cubicBezTo>
                <a:cubicBezTo>
                  <a:pt x="8830" y="11840"/>
                  <a:pt x="8830" y="11848"/>
                  <a:pt x="8830" y="118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697120" y="5670720"/>
            <a:ext cx="1160640" cy="795240"/>
          </a:xfrm>
          <a:custGeom>
            <a:avLst/>
            <a:gdLst/>
            <a:ahLst/>
            <a:rect l="l" t="t" r="r" b="b"/>
            <a:pathLst>
              <a:path w="3226" h="2209">
                <a:moveTo>
                  <a:pt x="8210" y="16619"/>
                </a:moveTo>
                <a:cubicBezTo>
                  <a:pt x="8240" y="16798"/>
                  <a:pt x="8305" y="16979"/>
                  <a:pt x="8235" y="17165"/>
                </a:cubicBezTo>
                <a:cubicBezTo>
                  <a:pt x="8133" y="17439"/>
                  <a:pt x="7961" y="17203"/>
                  <a:pt x="7888" y="17090"/>
                </a:cubicBezTo>
              </a:path>
              <a:path w="3226" h="2209">
                <a:moveTo>
                  <a:pt x="8682" y="16594"/>
                </a:moveTo>
                <a:cubicBezTo>
                  <a:pt x="8781" y="16594"/>
                  <a:pt x="9034" y="16527"/>
                  <a:pt x="8880" y="16644"/>
                </a:cubicBezTo>
              </a:path>
              <a:path w="3226" h="2209">
                <a:moveTo>
                  <a:pt x="8632" y="16917"/>
                </a:moveTo>
                <a:cubicBezTo>
                  <a:pt x="8624" y="16909"/>
                  <a:pt x="8615" y="16900"/>
                  <a:pt x="8607" y="16892"/>
                </a:cubicBezTo>
                <a:cubicBezTo>
                  <a:pt x="8641" y="16866"/>
                  <a:pt x="8711" y="16847"/>
                  <a:pt x="8756" y="16842"/>
                </a:cubicBezTo>
                <a:cubicBezTo>
                  <a:pt x="8839" y="16834"/>
                  <a:pt x="8920" y="16818"/>
                  <a:pt x="9004" y="16818"/>
                </a:cubicBezTo>
              </a:path>
              <a:path w="3226" h="2209">
                <a:moveTo>
                  <a:pt x="9475" y="16421"/>
                </a:moveTo>
                <a:cubicBezTo>
                  <a:pt x="9457" y="16649"/>
                  <a:pt x="9450" y="16890"/>
                  <a:pt x="9401" y="17115"/>
                </a:cubicBezTo>
                <a:cubicBezTo>
                  <a:pt x="9364" y="17188"/>
                  <a:pt x="9366" y="17181"/>
                  <a:pt x="9426" y="17041"/>
                </a:cubicBezTo>
              </a:path>
              <a:path w="3226" h="2209">
                <a:moveTo>
                  <a:pt x="9897" y="16321"/>
                </a:moveTo>
                <a:cubicBezTo>
                  <a:pt x="9796" y="16434"/>
                  <a:pt x="9738" y="16478"/>
                  <a:pt x="9699" y="16619"/>
                </a:cubicBezTo>
                <a:cubicBezTo>
                  <a:pt x="9916" y="16734"/>
                  <a:pt x="9970" y="16750"/>
                  <a:pt x="9922" y="16991"/>
                </a:cubicBezTo>
                <a:cubicBezTo>
                  <a:pt x="9677" y="17089"/>
                  <a:pt x="9881" y="16611"/>
                  <a:pt x="9922" y="16495"/>
                </a:cubicBezTo>
                <a:cubicBezTo>
                  <a:pt x="9977" y="16340"/>
                  <a:pt x="10050" y="16319"/>
                  <a:pt x="9947" y="16346"/>
                </a:cubicBezTo>
              </a:path>
              <a:path w="3226" h="2209">
                <a:moveTo>
                  <a:pt x="7565" y="16297"/>
                </a:moveTo>
                <a:cubicBezTo>
                  <a:pt x="7577" y="16756"/>
                  <a:pt x="7583" y="17202"/>
                  <a:pt x="7541" y="17661"/>
                </a:cubicBezTo>
                <a:cubicBezTo>
                  <a:pt x="7520" y="17827"/>
                  <a:pt x="7519" y="17862"/>
                  <a:pt x="7491" y="17959"/>
                </a:cubicBezTo>
                <a:cubicBezTo>
                  <a:pt x="7820" y="17904"/>
                  <a:pt x="8151" y="17853"/>
                  <a:pt x="8483" y="17810"/>
                </a:cubicBezTo>
                <a:cubicBezTo>
                  <a:pt x="9168" y="17722"/>
                  <a:pt x="9856" y="17685"/>
                  <a:pt x="10542" y="17611"/>
                </a:cubicBezTo>
                <a:cubicBezTo>
                  <a:pt x="10592" y="17603"/>
                  <a:pt x="10641" y="17595"/>
                  <a:pt x="10691" y="17587"/>
                </a:cubicBezTo>
                <a:cubicBezTo>
                  <a:pt x="10650" y="17546"/>
                  <a:pt x="10654" y="17623"/>
                  <a:pt x="10641" y="17562"/>
                </a:cubicBezTo>
                <a:cubicBezTo>
                  <a:pt x="10565" y="17208"/>
                  <a:pt x="10703" y="16731"/>
                  <a:pt x="10716" y="16371"/>
                </a:cubicBezTo>
                <a:cubicBezTo>
                  <a:pt x="10722" y="16214"/>
                  <a:pt x="10630" y="15992"/>
                  <a:pt x="10641" y="15850"/>
                </a:cubicBezTo>
                <a:cubicBezTo>
                  <a:pt x="10644" y="15811"/>
                  <a:pt x="10683" y="15787"/>
                  <a:pt x="10691" y="15751"/>
                </a:cubicBezTo>
                <a:cubicBezTo>
                  <a:pt x="10358" y="15779"/>
                  <a:pt x="10030" y="15848"/>
                  <a:pt x="9699" y="15900"/>
                </a:cubicBezTo>
                <a:cubicBezTo>
                  <a:pt x="9062" y="16000"/>
                  <a:pt x="8467" y="16023"/>
                  <a:pt x="7838" y="16073"/>
                </a:cubicBezTo>
                <a:cubicBezTo>
                  <a:pt x="7764" y="16079"/>
                  <a:pt x="7714" y="16111"/>
                  <a:pt x="7615" y="16148"/>
                </a:cubicBezTo>
                <a:cubicBezTo>
                  <a:pt x="7564" y="16167"/>
                  <a:pt x="7564" y="16173"/>
                  <a:pt x="7516" y="161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347840" y="2125800"/>
            <a:ext cx="2965320" cy="3840120"/>
          </a:xfrm>
          <a:custGeom>
            <a:avLst/>
            <a:gdLst/>
            <a:ahLst/>
            <a:rect l="l" t="t" r="r" b="b"/>
            <a:pathLst>
              <a:path w="8236" h="10667">
                <a:moveTo>
                  <a:pt x="5135" y="5928"/>
                </a:moveTo>
                <a:cubicBezTo>
                  <a:pt x="5143" y="5953"/>
                  <a:pt x="5151" y="5978"/>
                  <a:pt x="5159" y="6003"/>
                </a:cubicBezTo>
              </a:path>
              <a:path w="8236" h="10667">
                <a:moveTo>
                  <a:pt x="5259" y="6350"/>
                </a:moveTo>
                <a:lnTo>
                  <a:pt x="5259" y="6350"/>
                </a:lnTo>
                <a:lnTo>
                  <a:pt x="5259" y="6350"/>
                </a:lnTo>
              </a:path>
              <a:path w="8236" h="10667">
                <a:moveTo>
                  <a:pt x="5259" y="6350"/>
                </a:moveTo>
                <a:lnTo>
                  <a:pt x="5259" y="6350"/>
                </a:lnTo>
              </a:path>
              <a:path w="8236" h="10667">
                <a:moveTo>
                  <a:pt x="5631" y="5904"/>
                </a:moveTo>
                <a:cubicBezTo>
                  <a:pt x="5647" y="6038"/>
                  <a:pt x="5658" y="6170"/>
                  <a:pt x="5680" y="6300"/>
                </a:cubicBezTo>
              </a:path>
              <a:path w="8236" h="10667">
                <a:moveTo>
                  <a:pt x="7342" y="11609"/>
                </a:moveTo>
                <a:cubicBezTo>
                  <a:pt x="7458" y="11588"/>
                  <a:pt x="7572" y="11576"/>
                  <a:pt x="7689" y="11559"/>
                </a:cubicBezTo>
              </a:path>
              <a:path w="8236" h="10667">
                <a:moveTo>
                  <a:pt x="11981" y="14312"/>
                </a:moveTo>
                <a:cubicBezTo>
                  <a:pt x="11876" y="14448"/>
                  <a:pt x="11774" y="14599"/>
                  <a:pt x="11708" y="14759"/>
                </a:cubicBezTo>
                <a:cubicBezTo>
                  <a:pt x="11708" y="14767"/>
                  <a:pt x="11708" y="14776"/>
                  <a:pt x="11708" y="14784"/>
                </a:cubicBezTo>
              </a:path>
              <a:path w="8236" h="10667">
                <a:moveTo>
                  <a:pt x="3746" y="14015"/>
                </a:moveTo>
                <a:cubicBezTo>
                  <a:pt x="3769" y="13984"/>
                  <a:pt x="3852" y="13926"/>
                  <a:pt x="3894" y="13891"/>
                </a:cubicBezTo>
              </a:path>
              <a:path w="8236" h="10667">
                <a:moveTo>
                  <a:pt x="5705" y="16073"/>
                </a:moveTo>
                <a:cubicBezTo>
                  <a:pt x="5664" y="16237"/>
                  <a:pt x="5531" y="16722"/>
                  <a:pt x="5606" y="16570"/>
                </a:cubicBezTo>
                <a:cubicBezTo>
                  <a:pt x="5614" y="16537"/>
                  <a:pt x="5623" y="16503"/>
                  <a:pt x="5631" y="164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054160" y="3803760"/>
            <a:ext cx="1268640" cy="714240"/>
          </a:xfrm>
          <a:custGeom>
            <a:avLst/>
            <a:gdLst/>
            <a:ahLst/>
            <a:rect l="l" t="t" r="r" b="b"/>
            <a:pathLst>
              <a:path w="3523" h="1985">
                <a:moveTo>
                  <a:pt x="5755" y="11162"/>
                </a:moveTo>
                <a:cubicBezTo>
                  <a:pt x="5819" y="11481"/>
                  <a:pt x="5886" y="11804"/>
                  <a:pt x="5928" y="12129"/>
                </a:cubicBezTo>
                <a:cubicBezTo>
                  <a:pt x="5949" y="12286"/>
                  <a:pt x="5948" y="12399"/>
                  <a:pt x="5953" y="12551"/>
                </a:cubicBezTo>
                <a:cubicBezTo>
                  <a:pt x="6400" y="12510"/>
                  <a:pt x="6846" y="12447"/>
                  <a:pt x="7293" y="12402"/>
                </a:cubicBezTo>
                <a:cubicBezTo>
                  <a:pt x="7877" y="12344"/>
                  <a:pt x="8467" y="12312"/>
                  <a:pt x="9054" y="12303"/>
                </a:cubicBezTo>
                <a:cubicBezTo>
                  <a:pt x="9095" y="12302"/>
                  <a:pt x="9137" y="12303"/>
                  <a:pt x="9178" y="12303"/>
                </a:cubicBezTo>
                <a:cubicBezTo>
                  <a:pt x="9151" y="12154"/>
                  <a:pt x="9146" y="12014"/>
                  <a:pt x="9153" y="11857"/>
                </a:cubicBezTo>
                <a:cubicBezTo>
                  <a:pt x="9173" y="11433"/>
                  <a:pt x="9181" y="11013"/>
                  <a:pt x="9227" y="10592"/>
                </a:cubicBezTo>
                <a:cubicBezTo>
                  <a:pt x="9227" y="10584"/>
                  <a:pt x="9227" y="10575"/>
                  <a:pt x="9227" y="10567"/>
                </a:cubicBezTo>
                <a:cubicBezTo>
                  <a:pt x="8702" y="10672"/>
                  <a:pt x="8187" y="10819"/>
                  <a:pt x="7665" y="10939"/>
                </a:cubicBezTo>
                <a:cubicBezTo>
                  <a:pt x="7246" y="11036"/>
                  <a:pt x="6779" y="11200"/>
                  <a:pt x="6350" y="11237"/>
                </a:cubicBezTo>
                <a:cubicBezTo>
                  <a:pt x="6282" y="11243"/>
                  <a:pt x="6225" y="11214"/>
                  <a:pt x="6152" y="11212"/>
                </a:cubicBezTo>
                <a:cubicBezTo>
                  <a:pt x="6038" y="11209"/>
                  <a:pt x="5915" y="11175"/>
                  <a:pt x="5804" y="11187"/>
                </a:cubicBezTo>
                <a:cubicBezTo>
                  <a:pt x="5631" y="11206"/>
                  <a:pt x="5755" y="11204"/>
                  <a:pt x="5804" y="112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357200" y="4919760"/>
            <a:ext cx="1800" cy="19080"/>
          </a:xfrm>
          <a:custGeom>
            <a:avLst/>
            <a:gdLst/>
            <a:ahLst/>
            <a:rect l="l" t="t" r="r" b="b"/>
            <a:pathLst>
              <a:path w="1" h="51">
                <a:moveTo>
                  <a:pt x="3770" y="13692"/>
                </a:moveTo>
                <a:cubicBezTo>
                  <a:pt x="3770" y="13659"/>
                  <a:pt x="3770" y="13659"/>
                  <a:pt x="3770" y="137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803240" y="5491080"/>
            <a:ext cx="455760" cy="304920"/>
          </a:xfrm>
          <a:custGeom>
            <a:avLst/>
            <a:gdLst/>
            <a:ahLst/>
            <a:rect l="l" t="t" r="r" b="b"/>
            <a:pathLst>
              <a:path w="1266" h="844">
                <a:moveTo>
                  <a:pt x="6052" y="15255"/>
                </a:moveTo>
                <a:cubicBezTo>
                  <a:pt x="6052" y="15349"/>
                  <a:pt x="6002" y="15608"/>
                  <a:pt x="6152" y="15602"/>
                </a:cubicBezTo>
                <a:cubicBezTo>
                  <a:pt x="6279" y="15597"/>
                  <a:pt x="6261" y="15556"/>
                  <a:pt x="6276" y="15453"/>
                </a:cubicBezTo>
                <a:cubicBezTo>
                  <a:pt x="6160" y="15527"/>
                  <a:pt x="6062" y="15628"/>
                  <a:pt x="5953" y="15726"/>
                </a:cubicBezTo>
              </a:path>
              <a:path w="1266" h="844">
                <a:moveTo>
                  <a:pt x="5011" y="16098"/>
                </a:moveTo>
                <a:cubicBezTo>
                  <a:pt x="5397" y="15851"/>
                  <a:pt x="5799" y="15626"/>
                  <a:pt x="6201" y="15404"/>
                </a:cubicBezTo>
                <a:cubicBezTo>
                  <a:pt x="6251" y="15379"/>
                  <a:pt x="6268" y="15371"/>
                  <a:pt x="6226" y="154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197240" y="776160"/>
            <a:ext cx="839880" cy="6046920"/>
          </a:xfrm>
          <a:custGeom>
            <a:avLst/>
            <a:gdLst/>
            <a:ahLst/>
            <a:rect l="l" t="t" r="r" b="b"/>
            <a:pathLst>
              <a:path w="2333" h="16794">
                <a:moveTo>
                  <a:pt x="13320" y="2158"/>
                </a:moveTo>
                <a:cubicBezTo>
                  <a:pt x="13159" y="2903"/>
                  <a:pt x="13316" y="3090"/>
                  <a:pt x="13469" y="3795"/>
                </a:cubicBezTo>
                <a:cubicBezTo>
                  <a:pt x="13585" y="4329"/>
                  <a:pt x="13251" y="4866"/>
                  <a:pt x="13271" y="5407"/>
                </a:cubicBezTo>
                <a:cubicBezTo>
                  <a:pt x="13293" y="6005"/>
                  <a:pt x="13695" y="6451"/>
                  <a:pt x="13767" y="7020"/>
                </a:cubicBezTo>
                <a:cubicBezTo>
                  <a:pt x="13871" y="7836"/>
                  <a:pt x="13538" y="8686"/>
                  <a:pt x="13494" y="9500"/>
                </a:cubicBezTo>
                <a:cubicBezTo>
                  <a:pt x="13444" y="10411"/>
                  <a:pt x="13562" y="11283"/>
                  <a:pt x="13320" y="12179"/>
                </a:cubicBezTo>
                <a:cubicBezTo>
                  <a:pt x="13059" y="13146"/>
                  <a:pt x="12443" y="14027"/>
                  <a:pt x="12799" y="15056"/>
                </a:cubicBezTo>
                <a:cubicBezTo>
                  <a:pt x="13010" y="15664"/>
                  <a:pt x="13511" y="15938"/>
                  <a:pt x="13618" y="16619"/>
                </a:cubicBezTo>
                <a:cubicBezTo>
                  <a:pt x="13709" y="17197"/>
                  <a:pt x="13704" y="17775"/>
                  <a:pt x="13816" y="18355"/>
                </a:cubicBezTo>
                <a:cubicBezTo>
                  <a:pt x="14784" y="23361"/>
                  <a:pt x="13662" y="-20383"/>
                  <a:pt x="13990" y="2704"/>
                </a:cubicBezTo>
              </a:path>
              <a:path w="2333" h="16794">
                <a:moveTo>
                  <a:pt x="11658" y="14436"/>
                </a:moveTo>
                <a:cubicBezTo>
                  <a:pt x="11781" y="14485"/>
                  <a:pt x="11866" y="14635"/>
                  <a:pt x="11956" y="14734"/>
                </a:cubicBezTo>
                <a:cubicBezTo>
                  <a:pt x="12012" y="14796"/>
                  <a:pt x="12041" y="14790"/>
                  <a:pt x="12055" y="148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062760" y="3446640"/>
            <a:ext cx="376200" cy="1795320"/>
          </a:xfrm>
          <a:custGeom>
            <a:avLst/>
            <a:gdLst/>
            <a:ahLst/>
            <a:rect l="l" t="t" r="r" b="b"/>
            <a:pathLst>
              <a:path w="1043" h="4986">
                <a:moveTo>
                  <a:pt x="16842" y="9699"/>
                </a:moveTo>
                <a:cubicBezTo>
                  <a:pt x="16981" y="9613"/>
                  <a:pt x="17076" y="9584"/>
                  <a:pt x="17239" y="9575"/>
                </a:cubicBezTo>
              </a:path>
              <a:path w="1043" h="4986">
                <a:moveTo>
                  <a:pt x="17884" y="12948"/>
                </a:moveTo>
                <a:cubicBezTo>
                  <a:pt x="17839" y="13233"/>
                  <a:pt x="17800" y="13523"/>
                  <a:pt x="17686" y="13791"/>
                </a:cubicBezTo>
                <a:cubicBezTo>
                  <a:pt x="17678" y="13799"/>
                  <a:pt x="17669" y="13808"/>
                  <a:pt x="17661" y="13816"/>
                </a:cubicBezTo>
              </a:path>
              <a:path w="1043" h="4986">
                <a:moveTo>
                  <a:pt x="17140" y="14560"/>
                </a:moveTo>
                <a:cubicBezTo>
                  <a:pt x="17248" y="14518"/>
                  <a:pt x="17350" y="14491"/>
                  <a:pt x="17462" y="144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857920" y="884160"/>
            <a:ext cx="822240" cy="1268640"/>
          </a:xfrm>
          <a:custGeom>
            <a:avLst/>
            <a:gdLst/>
            <a:ahLst/>
            <a:rect l="l" t="t" r="r" b="b"/>
            <a:pathLst>
              <a:path w="2283" h="3523">
                <a:moveTo>
                  <a:pt x="17239" y="3696"/>
                </a:moveTo>
                <a:cubicBezTo>
                  <a:pt x="17332" y="3603"/>
                  <a:pt x="17389" y="3551"/>
                  <a:pt x="17512" y="3522"/>
                </a:cubicBezTo>
                <a:cubicBezTo>
                  <a:pt x="17538" y="3680"/>
                  <a:pt x="17510" y="3800"/>
                  <a:pt x="17363" y="3894"/>
                </a:cubicBezTo>
                <a:cubicBezTo>
                  <a:pt x="17355" y="3894"/>
                  <a:pt x="17346" y="3894"/>
                  <a:pt x="17338" y="3894"/>
                </a:cubicBezTo>
                <a:cubicBezTo>
                  <a:pt x="17424" y="3894"/>
                  <a:pt x="17609" y="3919"/>
                  <a:pt x="17562" y="4068"/>
                </a:cubicBezTo>
                <a:cubicBezTo>
                  <a:pt x="17518" y="4208"/>
                  <a:pt x="17239" y="4445"/>
                  <a:pt x="17115" y="4266"/>
                </a:cubicBezTo>
                <a:cubicBezTo>
                  <a:pt x="17115" y="4250"/>
                  <a:pt x="17115" y="4233"/>
                  <a:pt x="17115" y="4217"/>
                </a:cubicBezTo>
              </a:path>
              <a:path w="2283" h="3523">
                <a:moveTo>
                  <a:pt x="17859" y="3497"/>
                </a:moveTo>
                <a:cubicBezTo>
                  <a:pt x="17841" y="3629"/>
                  <a:pt x="17795" y="3760"/>
                  <a:pt x="17785" y="3894"/>
                </a:cubicBezTo>
                <a:cubicBezTo>
                  <a:pt x="17777" y="4005"/>
                  <a:pt x="17741" y="4242"/>
                  <a:pt x="17934" y="4217"/>
                </a:cubicBezTo>
                <a:cubicBezTo>
                  <a:pt x="18068" y="4200"/>
                  <a:pt x="18178" y="4097"/>
                  <a:pt x="18207" y="3969"/>
                </a:cubicBezTo>
                <a:cubicBezTo>
                  <a:pt x="18207" y="3917"/>
                  <a:pt x="18205" y="3899"/>
                  <a:pt x="18157" y="3894"/>
                </a:cubicBezTo>
                <a:cubicBezTo>
                  <a:pt x="18007" y="3954"/>
                  <a:pt x="17941" y="4084"/>
                  <a:pt x="17884" y="4242"/>
                </a:cubicBezTo>
                <a:cubicBezTo>
                  <a:pt x="17884" y="4250"/>
                  <a:pt x="17884" y="4258"/>
                  <a:pt x="17884" y="4266"/>
                </a:cubicBezTo>
              </a:path>
              <a:path w="2283" h="3523">
                <a:moveTo>
                  <a:pt x="16942" y="4514"/>
                </a:moveTo>
                <a:cubicBezTo>
                  <a:pt x="16942" y="4295"/>
                  <a:pt x="16905" y="4087"/>
                  <a:pt x="16892" y="3870"/>
                </a:cubicBezTo>
                <a:cubicBezTo>
                  <a:pt x="16886" y="3766"/>
                  <a:pt x="16887" y="3624"/>
                  <a:pt x="16917" y="3522"/>
                </a:cubicBezTo>
                <a:cubicBezTo>
                  <a:pt x="16928" y="3483"/>
                  <a:pt x="16939" y="3471"/>
                  <a:pt x="16942" y="3423"/>
                </a:cubicBezTo>
                <a:cubicBezTo>
                  <a:pt x="16947" y="3329"/>
                  <a:pt x="17004" y="3354"/>
                  <a:pt x="17140" y="3324"/>
                </a:cubicBezTo>
                <a:cubicBezTo>
                  <a:pt x="17596" y="3223"/>
                  <a:pt x="18065" y="3249"/>
                  <a:pt x="18529" y="3249"/>
                </a:cubicBezTo>
                <a:cubicBezTo>
                  <a:pt x="18537" y="3249"/>
                  <a:pt x="18546" y="3249"/>
                  <a:pt x="18554" y="3249"/>
                </a:cubicBezTo>
              </a:path>
              <a:path w="2283" h="3523">
                <a:moveTo>
                  <a:pt x="16321" y="3646"/>
                </a:moveTo>
                <a:cubicBezTo>
                  <a:pt x="16321" y="3763"/>
                  <a:pt x="16295" y="3857"/>
                  <a:pt x="16272" y="3969"/>
                </a:cubicBezTo>
                <a:cubicBezTo>
                  <a:pt x="16268" y="3989"/>
                  <a:pt x="16297" y="3969"/>
                  <a:pt x="16371" y="3969"/>
                </a:cubicBezTo>
                <a:cubicBezTo>
                  <a:pt x="16504" y="3969"/>
                  <a:pt x="16405" y="3971"/>
                  <a:pt x="16470" y="3994"/>
                </a:cubicBezTo>
              </a:path>
              <a:path w="2283" h="3523">
                <a:moveTo>
                  <a:pt x="16446" y="3572"/>
                </a:moveTo>
                <a:cubicBezTo>
                  <a:pt x="16446" y="3748"/>
                  <a:pt x="16485" y="3918"/>
                  <a:pt x="16495" y="4093"/>
                </a:cubicBezTo>
                <a:cubicBezTo>
                  <a:pt x="16502" y="4215"/>
                  <a:pt x="16503" y="4261"/>
                  <a:pt x="16520" y="4366"/>
                </a:cubicBezTo>
              </a:path>
              <a:path w="2283" h="3523">
                <a:moveTo>
                  <a:pt x="17413" y="2729"/>
                </a:moveTo>
                <a:cubicBezTo>
                  <a:pt x="17321" y="2705"/>
                  <a:pt x="17318" y="2891"/>
                  <a:pt x="17314" y="2977"/>
                </a:cubicBezTo>
                <a:cubicBezTo>
                  <a:pt x="17308" y="3089"/>
                  <a:pt x="17309" y="3094"/>
                  <a:pt x="17388" y="3150"/>
                </a:cubicBezTo>
                <a:cubicBezTo>
                  <a:pt x="17474" y="3103"/>
                  <a:pt x="17566" y="3022"/>
                  <a:pt x="17562" y="2902"/>
                </a:cubicBezTo>
                <a:cubicBezTo>
                  <a:pt x="17558" y="2801"/>
                  <a:pt x="17506" y="2763"/>
                  <a:pt x="17438" y="2704"/>
                </a:cubicBezTo>
                <a:cubicBezTo>
                  <a:pt x="17415" y="2681"/>
                  <a:pt x="17407" y="2670"/>
                  <a:pt x="17413" y="2704"/>
                </a:cubicBezTo>
              </a:path>
              <a:path w="2283" h="3523">
                <a:moveTo>
                  <a:pt x="18033" y="2629"/>
                </a:moveTo>
                <a:cubicBezTo>
                  <a:pt x="18033" y="2553"/>
                  <a:pt x="18037" y="2555"/>
                  <a:pt x="17983" y="2505"/>
                </a:cubicBezTo>
                <a:cubicBezTo>
                  <a:pt x="17887" y="2415"/>
                  <a:pt x="17759" y="2518"/>
                  <a:pt x="17711" y="2629"/>
                </a:cubicBezTo>
                <a:cubicBezTo>
                  <a:pt x="17691" y="2730"/>
                  <a:pt x="17672" y="2750"/>
                  <a:pt x="17711" y="2803"/>
                </a:cubicBezTo>
                <a:cubicBezTo>
                  <a:pt x="17913" y="2803"/>
                  <a:pt x="17940" y="2705"/>
                  <a:pt x="18058" y="2530"/>
                </a:cubicBezTo>
                <a:cubicBezTo>
                  <a:pt x="18044" y="2722"/>
                  <a:pt x="18033" y="2908"/>
                  <a:pt x="18033" y="3101"/>
                </a:cubicBezTo>
                <a:cubicBezTo>
                  <a:pt x="18033" y="3109"/>
                  <a:pt x="18033" y="3117"/>
                  <a:pt x="18033" y="3125"/>
                </a:cubicBezTo>
              </a:path>
              <a:path w="2283" h="3523">
                <a:moveTo>
                  <a:pt x="17363" y="4564"/>
                </a:moveTo>
                <a:cubicBezTo>
                  <a:pt x="17416" y="4458"/>
                  <a:pt x="17473" y="4451"/>
                  <a:pt x="17587" y="4440"/>
                </a:cubicBezTo>
                <a:cubicBezTo>
                  <a:pt x="17586" y="4604"/>
                  <a:pt x="17560" y="4606"/>
                  <a:pt x="17438" y="4738"/>
                </a:cubicBezTo>
                <a:cubicBezTo>
                  <a:pt x="17438" y="4753"/>
                  <a:pt x="17623" y="4735"/>
                  <a:pt x="17562" y="4862"/>
                </a:cubicBezTo>
                <a:cubicBezTo>
                  <a:pt x="17552" y="4883"/>
                  <a:pt x="17254" y="5171"/>
                  <a:pt x="17264" y="4986"/>
                </a:cubicBezTo>
                <a:cubicBezTo>
                  <a:pt x="17272" y="4961"/>
                  <a:pt x="17281" y="4936"/>
                  <a:pt x="17289" y="4911"/>
                </a:cubicBezTo>
              </a:path>
              <a:path w="2283" h="3523">
                <a:moveTo>
                  <a:pt x="17934" y="4490"/>
                </a:moveTo>
                <a:cubicBezTo>
                  <a:pt x="17917" y="4620"/>
                  <a:pt x="17868" y="4754"/>
                  <a:pt x="17884" y="4887"/>
                </a:cubicBezTo>
                <a:cubicBezTo>
                  <a:pt x="17892" y="4912"/>
                  <a:pt x="17901" y="4936"/>
                  <a:pt x="17909" y="4961"/>
                </a:cubicBezTo>
                <a:cubicBezTo>
                  <a:pt x="18073" y="5008"/>
                  <a:pt x="18135" y="4878"/>
                  <a:pt x="18231" y="4762"/>
                </a:cubicBezTo>
                <a:cubicBezTo>
                  <a:pt x="18261" y="4733"/>
                  <a:pt x="18263" y="4722"/>
                  <a:pt x="18207" y="4713"/>
                </a:cubicBezTo>
                <a:cubicBezTo>
                  <a:pt x="18091" y="4799"/>
                  <a:pt x="18058" y="4812"/>
                  <a:pt x="18058" y="4961"/>
                </a:cubicBezTo>
                <a:cubicBezTo>
                  <a:pt x="18058" y="4953"/>
                  <a:pt x="18058" y="4944"/>
                  <a:pt x="18058" y="4936"/>
                </a:cubicBezTo>
              </a:path>
              <a:path w="2283" h="3523">
                <a:moveTo>
                  <a:pt x="16768" y="4812"/>
                </a:moveTo>
                <a:cubicBezTo>
                  <a:pt x="16877" y="4786"/>
                  <a:pt x="17139" y="4680"/>
                  <a:pt x="17239" y="4713"/>
                </a:cubicBezTo>
                <a:cubicBezTo>
                  <a:pt x="17239" y="4729"/>
                  <a:pt x="17239" y="4746"/>
                  <a:pt x="17239" y="4762"/>
                </a:cubicBezTo>
              </a:path>
              <a:path w="2283" h="3523">
                <a:moveTo>
                  <a:pt x="16520" y="5308"/>
                </a:moveTo>
                <a:cubicBezTo>
                  <a:pt x="16890" y="5262"/>
                  <a:pt x="17263" y="5217"/>
                  <a:pt x="17636" y="5184"/>
                </a:cubicBezTo>
                <a:cubicBezTo>
                  <a:pt x="17853" y="5165"/>
                  <a:pt x="18068" y="5166"/>
                  <a:pt x="18281" y="5135"/>
                </a:cubicBezTo>
              </a:path>
              <a:path w="2283" h="3523">
                <a:moveTo>
                  <a:pt x="18083" y="5507"/>
                </a:moveTo>
                <a:cubicBezTo>
                  <a:pt x="17944" y="5654"/>
                  <a:pt x="17870" y="5773"/>
                  <a:pt x="17884" y="5978"/>
                </a:cubicBezTo>
                <a:cubicBezTo>
                  <a:pt x="18040" y="5941"/>
                  <a:pt x="18256" y="5826"/>
                  <a:pt x="18182" y="5606"/>
                </a:cubicBezTo>
                <a:cubicBezTo>
                  <a:pt x="18109" y="5533"/>
                  <a:pt x="18086" y="5508"/>
                  <a:pt x="18008" y="55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892840" y="2697120"/>
            <a:ext cx="814320" cy="1081080"/>
          </a:xfrm>
          <a:custGeom>
            <a:avLst/>
            <a:gdLst/>
            <a:ahLst/>
            <a:rect l="l" t="t" r="r" b="b"/>
            <a:pathLst>
              <a:path w="2258" h="3002">
                <a:moveTo>
                  <a:pt x="17289" y="8657"/>
                </a:moveTo>
                <a:cubicBezTo>
                  <a:pt x="17350" y="8616"/>
                  <a:pt x="17298" y="8686"/>
                  <a:pt x="17289" y="8731"/>
                </a:cubicBezTo>
                <a:cubicBezTo>
                  <a:pt x="17351" y="8683"/>
                  <a:pt x="17517" y="8475"/>
                  <a:pt x="17537" y="8706"/>
                </a:cubicBezTo>
                <a:cubicBezTo>
                  <a:pt x="17559" y="8967"/>
                  <a:pt x="17339" y="9114"/>
                  <a:pt x="17140" y="9203"/>
                </a:cubicBezTo>
                <a:cubicBezTo>
                  <a:pt x="17063" y="9126"/>
                  <a:pt x="17177" y="9028"/>
                  <a:pt x="17289" y="9054"/>
                </a:cubicBezTo>
                <a:cubicBezTo>
                  <a:pt x="17360" y="9101"/>
                  <a:pt x="17384" y="9114"/>
                  <a:pt x="17388" y="9178"/>
                </a:cubicBezTo>
              </a:path>
              <a:path w="2258" h="3002">
                <a:moveTo>
                  <a:pt x="17611" y="8632"/>
                </a:moveTo>
                <a:cubicBezTo>
                  <a:pt x="17634" y="8684"/>
                  <a:pt x="17633" y="8865"/>
                  <a:pt x="17661" y="8880"/>
                </a:cubicBezTo>
                <a:cubicBezTo>
                  <a:pt x="17761" y="8933"/>
                  <a:pt x="17887" y="8823"/>
                  <a:pt x="17959" y="8781"/>
                </a:cubicBezTo>
              </a:path>
              <a:path w="2258" h="3002">
                <a:moveTo>
                  <a:pt x="17959" y="8409"/>
                </a:moveTo>
                <a:cubicBezTo>
                  <a:pt x="17959" y="8583"/>
                  <a:pt x="17935" y="8758"/>
                  <a:pt x="17909" y="8930"/>
                </a:cubicBezTo>
                <a:cubicBezTo>
                  <a:pt x="17897" y="9010"/>
                  <a:pt x="17884" y="9054"/>
                  <a:pt x="17884" y="9128"/>
                </a:cubicBezTo>
              </a:path>
              <a:path w="2258" h="3002">
                <a:moveTo>
                  <a:pt x="16991" y="9550"/>
                </a:moveTo>
                <a:cubicBezTo>
                  <a:pt x="16969" y="9410"/>
                  <a:pt x="16976" y="9234"/>
                  <a:pt x="16966" y="9079"/>
                </a:cubicBezTo>
                <a:cubicBezTo>
                  <a:pt x="16953" y="8867"/>
                  <a:pt x="16922" y="8662"/>
                  <a:pt x="16892" y="8458"/>
                </a:cubicBezTo>
                <a:cubicBezTo>
                  <a:pt x="16892" y="8425"/>
                  <a:pt x="16892" y="8409"/>
                  <a:pt x="16892" y="8384"/>
                </a:cubicBezTo>
                <a:cubicBezTo>
                  <a:pt x="17140" y="8317"/>
                  <a:pt x="17431" y="8306"/>
                  <a:pt x="17686" y="8310"/>
                </a:cubicBezTo>
                <a:cubicBezTo>
                  <a:pt x="17910" y="8313"/>
                  <a:pt x="18464" y="8334"/>
                  <a:pt x="18604" y="8334"/>
                </a:cubicBezTo>
              </a:path>
              <a:path w="2258" h="3002">
                <a:moveTo>
                  <a:pt x="16421" y="8706"/>
                </a:moveTo>
                <a:cubicBezTo>
                  <a:pt x="16519" y="8595"/>
                  <a:pt x="16593" y="8574"/>
                  <a:pt x="16718" y="8632"/>
                </a:cubicBezTo>
                <a:cubicBezTo>
                  <a:pt x="16698" y="8777"/>
                  <a:pt x="16677" y="8854"/>
                  <a:pt x="16545" y="8930"/>
                </a:cubicBezTo>
                <a:cubicBezTo>
                  <a:pt x="16619" y="8911"/>
                  <a:pt x="16669" y="8857"/>
                  <a:pt x="16694" y="8979"/>
                </a:cubicBezTo>
                <a:cubicBezTo>
                  <a:pt x="16733" y="9168"/>
                  <a:pt x="16547" y="9244"/>
                  <a:pt x="16396" y="9203"/>
                </a:cubicBezTo>
                <a:cubicBezTo>
                  <a:pt x="16312" y="9180"/>
                  <a:pt x="16419" y="9159"/>
                  <a:pt x="16470" y="9178"/>
                </a:cubicBezTo>
              </a:path>
              <a:path w="2258" h="3002">
                <a:moveTo>
                  <a:pt x="17909" y="7491"/>
                </a:moveTo>
                <a:cubicBezTo>
                  <a:pt x="17765" y="7491"/>
                  <a:pt x="17607" y="7540"/>
                  <a:pt x="17537" y="7689"/>
                </a:cubicBezTo>
                <a:cubicBezTo>
                  <a:pt x="17447" y="7881"/>
                  <a:pt x="17805" y="7858"/>
                  <a:pt x="17810" y="8012"/>
                </a:cubicBezTo>
                <a:cubicBezTo>
                  <a:pt x="17793" y="8045"/>
                  <a:pt x="17777" y="8078"/>
                  <a:pt x="17760" y="8111"/>
                </a:cubicBezTo>
                <a:cubicBezTo>
                  <a:pt x="17687" y="8148"/>
                  <a:pt x="17682" y="8165"/>
                  <a:pt x="17636" y="8161"/>
                </a:cubicBezTo>
                <a:cubicBezTo>
                  <a:pt x="17665" y="7947"/>
                  <a:pt x="17743" y="7802"/>
                  <a:pt x="17859" y="7615"/>
                </a:cubicBezTo>
              </a:path>
              <a:path w="2258" h="3002">
                <a:moveTo>
                  <a:pt x="17314" y="9376"/>
                </a:moveTo>
                <a:cubicBezTo>
                  <a:pt x="17226" y="9435"/>
                  <a:pt x="17357" y="9305"/>
                  <a:pt x="17363" y="9302"/>
                </a:cubicBezTo>
                <a:cubicBezTo>
                  <a:pt x="17380" y="9302"/>
                  <a:pt x="17396" y="9302"/>
                  <a:pt x="17413" y="9302"/>
                </a:cubicBezTo>
                <a:cubicBezTo>
                  <a:pt x="17440" y="9555"/>
                  <a:pt x="17399" y="9676"/>
                  <a:pt x="17165" y="9798"/>
                </a:cubicBezTo>
                <a:cubicBezTo>
                  <a:pt x="17157" y="9798"/>
                  <a:pt x="17148" y="9798"/>
                  <a:pt x="17140" y="9798"/>
                </a:cubicBezTo>
                <a:cubicBezTo>
                  <a:pt x="17161" y="9639"/>
                  <a:pt x="17235" y="9527"/>
                  <a:pt x="17413" y="9649"/>
                </a:cubicBezTo>
                <a:cubicBezTo>
                  <a:pt x="17455" y="9678"/>
                  <a:pt x="17443" y="9727"/>
                  <a:pt x="17462" y="9649"/>
                </a:cubicBezTo>
              </a:path>
              <a:path w="2258" h="3002">
                <a:moveTo>
                  <a:pt x="17711" y="9302"/>
                </a:moveTo>
                <a:cubicBezTo>
                  <a:pt x="17722" y="9347"/>
                  <a:pt x="17714" y="9440"/>
                  <a:pt x="17735" y="9475"/>
                </a:cubicBezTo>
                <a:cubicBezTo>
                  <a:pt x="17835" y="9644"/>
                  <a:pt x="17974" y="9399"/>
                  <a:pt x="18008" y="9327"/>
                </a:cubicBezTo>
              </a:path>
              <a:path w="2258" h="3002">
                <a:moveTo>
                  <a:pt x="17959" y="9153"/>
                </a:moveTo>
                <a:cubicBezTo>
                  <a:pt x="17942" y="9325"/>
                  <a:pt x="17928" y="9537"/>
                  <a:pt x="17859" y="9699"/>
                </a:cubicBezTo>
                <a:cubicBezTo>
                  <a:pt x="17851" y="9707"/>
                  <a:pt x="17843" y="9715"/>
                  <a:pt x="17835" y="9723"/>
                </a:cubicBezTo>
              </a:path>
              <a:path w="2258" h="3002">
                <a:moveTo>
                  <a:pt x="16768" y="10021"/>
                </a:moveTo>
                <a:cubicBezTo>
                  <a:pt x="17196" y="9919"/>
                  <a:pt x="17621" y="9809"/>
                  <a:pt x="18058" y="9748"/>
                </a:cubicBezTo>
                <a:cubicBezTo>
                  <a:pt x="18083" y="9748"/>
                  <a:pt x="18107" y="9748"/>
                  <a:pt x="18132" y="9748"/>
                </a:cubicBezTo>
              </a:path>
              <a:path w="2258" h="3002">
                <a:moveTo>
                  <a:pt x="17959" y="9996"/>
                </a:moveTo>
                <a:cubicBezTo>
                  <a:pt x="18045" y="9966"/>
                  <a:pt x="17782" y="10274"/>
                  <a:pt x="17760" y="10319"/>
                </a:cubicBezTo>
                <a:cubicBezTo>
                  <a:pt x="17725" y="10426"/>
                  <a:pt x="17709" y="10431"/>
                  <a:pt x="17711" y="10492"/>
                </a:cubicBezTo>
                <a:cubicBezTo>
                  <a:pt x="17868" y="10401"/>
                  <a:pt x="18121" y="10300"/>
                  <a:pt x="18033" y="10071"/>
                </a:cubicBezTo>
                <a:cubicBezTo>
                  <a:pt x="17981" y="10019"/>
                  <a:pt x="17962" y="10002"/>
                  <a:pt x="17909" y="99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983200" y="4249800"/>
            <a:ext cx="955800" cy="1457280"/>
          </a:xfrm>
          <a:custGeom>
            <a:avLst/>
            <a:gdLst/>
            <a:ahLst/>
            <a:rect l="l" t="t" r="r" b="b"/>
            <a:pathLst>
              <a:path w="2655" h="4044">
                <a:moveTo>
                  <a:pt x="18306" y="12948"/>
                </a:moveTo>
                <a:cubicBezTo>
                  <a:pt x="18145" y="13033"/>
                  <a:pt x="17999" y="13076"/>
                  <a:pt x="18132" y="13246"/>
                </a:cubicBezTo>
                <a:cubicBezTo>
                  <a:pt x="18282" y="13438"/>
                  <a:pt x="18313" y="13447"/>
                  <a:pt x="18281" y="13667"/>
                </a:cubicBezTo>
                <a:cubicBezTo>
                  <a:pt x="18021" y="13692"/>
                  <a:pt x="18213" y="13320"/>
                  <a:pt x="18256" y="13171"/>
                </a:cubicBezTo>
                <a:cubicBezTo>
                  <a:pt x="18302" y="13013"/>
                  <a:pt x="18365" y="12973"/>
                  <a:pt x="18207" y="12973"/>
                </a:cubicBezTo>
              </a:path>
              <a:path w="2655" h="4044">
                <a:moveTo>
                  <a:pt x="17314" y="14064"/>
                </a:moveTo>
                <a:cubicBezTo>
                  <a:pt x="17369" y="13838"/>
                  <a:pt x="17401" y="13604"/>
                  <a:pt x="17388" y="13370"/>
                </a:cubicBezTo>
                <a:cubicBezTo>
                  <a:pt x="17378" y="13195"/>
                  <a:pt x="17327" y="13023"/>
                  <a:pt x="17314" y="12849"/>
                </a:cubicBezTo>
                <a:cubicBezTo>
                  <a:pt x="17555" y="12760"/>
                  <a:pt x="17829" y="12766"/>
                  <a:pt x="18083" y="12750"/>
                </a:cubicBezTo>
                <a:cubicBezTo>
                  <a:pt x="18443" y="12727"/>
                  <a:pt x="18888" y="12627"/>
                  <a:pt x="19248" y="12675"/>
                </a:cubicBezTo>
                <a:cubicBezTo>
                  <a:pt x="19256" y="12683"/>
                  <a:pt x="19265" y="12692"/>
                  <a:pt x="19273" y="12700"/>
                </a:cubicBezTo>
              </a:path>
              <a:path w="2655" h="4044">
                <a:moveTo>
                  <a:pt x="16694" y="13047"/>
                </a:moveTo>
                <a:cubicBezTo>
                  <a:pt x="16788" y="13047"/>
                  <a:pt x="16797" y="13065"/>
                  <a:pt x="16768" y="13196"/>
                </a:cubicBezTo>
                <a:cubicBezTo>
                  <a:pt x="16732" y="13362"/>
                  <a:pt x="16600" y="13519"/>
                  <a:pt x="16619" y="13692"/>
                </a:cubicBezTo>
                <a:cubicBezTo>
                  <a:pt x="16632" y="13808"/>
                  <a:pt x="16800" y="13783"/>
                  <a:pt x="16867" y="13767"/>
                </a:cubicBezTo>
                <a:cubicBezTo>
                  <a:pt x="16963" y="13745"/>
                  <a:pt x="17071" y="13712"/>
                  <a:pt x="17115" y="13618"/>
                </a:cubicBezTo>
                <a:cubicBezTo>
                  <a:pt x="17142" y="13560"/>
                  <a:pt x="17034" y="13481"/>
                  <a:pt x="16991" y="13469"/>
                </a:cubicBezTo>
                <a:cubicBezTo>
                  <a:pt x="16884" y="13439"/>
                  <a:pt x="16832" y="13622"/>
                  <a:pt x="16818" y="13692"/>
                </a:cubicBezTo>
                <a:cubicBezTo>
                  <a:pt x="16809" y="13739"/>
                  <a:pt x="16834" y="13773"/>
                  <a:pt x="16842" y="13816"/>
                </a:cubicBezTo>
              </a:path>
              <a:path w="2655" h="4044">
                <a:moveTo>
                  <a:pt x="18083" y="12005"/>
                </a:moveTo>
                <a:cubicBezTo>
                  <a:pt x="17977" y="11971"/>
                  <a:pt x="18244" y="11839"/>
                  <a:pt x="18256" y="11832"/>
                </a:cubicBezTo>
                <a:cubicBezTo>
                  <a:pt x="18273" y="11824"/>
                  <a:pt x="18289" y="11815"/>
                  <a:pt x="18306" y="11807"/>
                </a:cubicBezTo>
                <a:cubicBezTo>
                  <a:pt x="18350" y="12008"/>
                  <a:pt x="18318" y="12060"/>
                  <a:pt x="18157" y="12179"/>
                </a:cubicBezTo>
                <a:cubicBezTo>
                  <a:pt x="18175" y="12088"/>
                  <a:pt x="18335" y="12019"/>
                  <a:pt x="18405" y="12105"/>
                </a:cubicBezTo>
                <a:cubicBezTo>
                  <a:pt x="18543" y="12274"/>
                  <a:pt x="18315" y="12483"/>
                  <a:pt x="18157" y="12477"/>
                </a:cubicBezTo>
                <a:cubicBezTo>
                  <a:pt x="18116" y="12457"/>
                  <a:pt x="18100" y="12459"/>
                  <a:pt x="18107" y="12427"/>
                </a:cubicBezTo>
              </a:path>
              <a:path w="2655" h="4044">
                <a:moveTo>
                  <a:pt x="17686" y="14213"/>
                </a:moveTo>
                <a:cubicBezTo>
                  <a:pt x="17777" y="14152"/>
                  <a:pt x="17636" y="14584"/>
                  <a:pt x="17636" y="14585"/>
                </a:cubicBezTo>
                <a:cubicBezTo>
                  <a:pt x="17611" y="14677"/>
                  <a:pt x="17487" y="14897"/>
                  <a:pt x="17636" y="14635"/>
                </a:cubicBezTo>
              </a:path>
              <a:path w="2655" h="4044">
                <a:moveTo>
                  <a:pt x="18182" y="14039"/>
                </a:moveTo>
                <a:cubicBezTo>
                  <a:pt x="18060" y="14196"/>
                  <a:pt x="17971" y="14211"/>
                  <a:pt x="18132" y="14337"/>
                </a:cubicBezTo>
                <a:cubicBezTo>
                  <a:pt x="18232" y="14412"/>
                  <a:pt x="18265" y="14438"/>
                  <a:pt x="18256" y="14536"/>
                </a:cubicBezTo>
                <a:cubicBezTo>
                  <a:pt x="18223" y="14561"/>
                  <a:pt x="18190" y="14585"/>
                  <a:pt x="18157" y="14610"/>
                </a:cubicBezTo>
                <a:cubicBezTo>
                  <a:pt x="17985" y="14514"/>
                  <a:pt x="18131" y="14332"/>
                  <a:pt x="18207" y="14163"/>
                </a:cubicBezTo>
                <a:cubicBezTo>
                  <a:pt x="18257" y="14052"/>
                  <a:pt x="18212" y="14081"/>
                  <a:pt x="18157" y="14114"/>
                </a:cubicBezTo>
              </a:path>
              <a:path w="2655" h="4044">
                <a:moveTo>
                  <a:pt x="16892" y="15156"/>
                </a:moveTo>
                <a:cubicBezTo>
                  <a:pt x="17355" y="15032"/>
                  <a:pt x="17808" y="14877"/>
                  <a:pt x="18281" y="14784"/>
                </a:cubicBezTo>
                <a:cubicBezTo>
                  <a:pt x="18453" y="14750"/>
                  <a:pt x="18579" y="14741"/>
                  <a:pt x="18752" y="14709"/>
                </a:cubicBezTo>
              </a:path>
              <a:path w="2655" h="4044">
                <a:moveTo>
                  <a:pt x="18355" y="15230"/>
                </a:moveTo>
                <a:cubicBezTo>
                  <a:pt x="18280" y="15380"/>
                  <a:pt x="18054" y="15591"/>
                  <a:pt x="18058" y="15776"/>
                </a:cubicBezTo>
                <a:cubicBezTo>
                  <a:pt x="18083" y="15801"/>
                  <a:pt x="18107" y="15825"/>
                  <a:pt x="18132" y="15850"/>
                </a:cubicBezTo>
                <a:cubicBezTo>
                  <a:pt x="18279" y="15771"/>
                  <a:pt x="18675" y="15516"/>
                  <a:pt x="18405" y="15304"/>
                </a:cubicBezTo>
                <a:cubicBezTo>
                  <a:pt x="18347" y="15288"/>
                  <a:pt x="18289" y="15271"/>
                  <a:pt x="18231" y="152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57800" y="3313080"/>
            <a:ext cx="233280" cy="258840"/>
          </a:xfrm>
          <a:custGeom>
            <a:avLst/>
            <a:gdLst/>
            <a:ahLst/>
            <a:rect l="l" t="t" r="r" b="b"/>
            <a:pathLst>
              <a:path w="646" h="720">
                <a:moveTo>
                  <a:pt x="12204" y="9401"/>
                </a:moveTo>
                <a:cubicBezTo>
                  <a:pt x="12204" y="9509"/>
                  <a:pt x="12287" y="9648"/>
                  <a:pt x="12328" y="9748"/>
                </a:cubicBezTo>
                <a:cubicBezTo>
                  <a:pt x="12352" y="9796"/>
                  <a:pt x="12360" y="9810"/>
                  <a:pt x="12353" y="9847"/>
                </a:cubicBezTo>
              </a:path>
              <a:path w="646" h="720">
                <a:moveTo>
                  <a:pt x="12328" y="9426"/>
                </a:moveTo>
                <a:cubicBezTo>
                  <a:pt x="12252" y="9586"/>
                  <a:pt x="12194" y="9771"/>
                  <a:pt x="12105" y="9922"/>
                </a:cubicBezTo>
                <a:cubicBezTo>
                  <a:pt x="12105" y="9870"/>
                  <a:pt x="12124" y="9843"/>
                  <a:pt x="12179" y="9823"/>
                </a:cubicBezTo>
              </a:path>
              <a:path w="646" h="720">
                <a:moveTo>
                  <a:pt x="12551" y="9302"/>
                </a:moveTo>
                <a:cubicBezTo>
                  <a:pt x="12469" y="9275"/>
                  <a:pt x="12610" y="9225"/>
                  <a:pt x="12650" y="9203"/>
                </a:cubicBezTo>
                <a:cubicBezTo>
                  <a:pt x="12674" y="9346"/>
                  <a:pt x="12626" y="9390"/>
                  <a:pt x="12526" y="9500"/>
                </a:cubicBezTo>
                <a:cubicBezTo>
                  <a:pt x="12570" y="9456"/>
                  <a:pt x="12698" y="9321"/>
                  <a:pt x="12750" y="9451"/>
                </a:cubicBezTo>
                <a:cubicBezTo>
                  <a:pt x="12808" y="9595"/>
                  <a:pt x="12674" y="9804"/>
                  <a:pt x="12526" y="9798"/>
                </a:cubicBezTo>
                <a:cubicBezTo>
                  <a:pt x="12501" y="9790"/>
                  <a:pt x="12477" y="9781"/>
                  <a:pt x="12452" y="97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714680" y="3724200"/>
            <a:ext cx="384120" cy="1946520"/>
          </a:xfrm>
          <a:custGeom>
            <a:avLst/>
            <a:gdLst/>
            <a:ahLst/>
            <a:rect l="l" t="t" r="r" b="b"/>
            <a:pathLst>
              <a:path w="1068" h="5408">
                <a:moveTo>
                  <a:pt x="4762" y="10468"/>
                </a:moveTo>
                <a:cubicBezTo>
                  <a:pt x="4802" y="10438"/>
                  <a:pt x="4840" y="10437"/>
                  <a:pt x="4862" y="10393"/>
                </a:cubicBezTo>
              </a:path>
              <a:path w="1068" h="5408">
                <a:moveTo>
                  <a:pt x="4787" y="10344"/>
                </a:moveTo>
                <a:cubicBezTo>
                  <a:pt x="4787" y="10379"/>
                  <a:pt x="4792" y="10396"/>
                  <a:pt x="4812" y="10418"/>
                </a:cubicBezTo>
              </a:path>
              <a:path w="1068" h="5408">
                <a:moveTo>
                  <a:pt x="4862" y="10691"/>
                </a:moveTo>
                <a:cubicBezTo>
                  <a:pt x="4870" y="10691"/>
                  <a:pt x="4879" y="10691"/>
                  <a:pt x="4887" y="10691"/>
                </a:cubicBezTo>
              </a:path>
              <a:path w="1068" h="5408">
                <a:moveTo>
                  <a:pt x="4887" y="10691"/>
                </a:moveTo>
                <a:lnTo>
                  <a:pt x="4887" y="10691"/>
                </a:lnTo>
              </a:path>
              <a:path w="1068" h="5408">
                <a:moveTo>
                  <a:pt x="5680" y="15577"/>
                </a:moveTo>
                <a:cubicBezTo>
                  <a:pt x="5733" y="15555"/>
                  <a:pt x="5782" y="15519"/>
                  <a:pt x="5829" y="15478"/>
                </a:cubicBezTo>
              </a:path>
              <a:path w="1068" h="5408">
                <a:moveTo>
                  <a:pt x="5730" y="15354"/>
                </a:moveTo>
                <a:cubicBezTo>
                  <a:pt x="5762" y="15451"/>
                  <a:pt x="5775" y="15500"/>
                  <a:pt x="5779" y="15577"/>
                </a:cubicBezTo>
              </a:path>
              <a:path w="1068" h="5408">
                <a:moveTo>
                  <a:pt x="5779" y="15751"/>
                </a:moveTo>
                <a:cubicBezTo>
                  <a:pt x="5787" y="15751"/>
                  <a:pt x="5796" y="15751"/>
                  <a:pt x="5804" y="15751"/>
                </a:cubicBezTo>
              </a:path>
              <a:path w="1068" h="5408">
                <a:moveTo>
                  <a:pt x="5804" y="15751"/>
                </a:moveTo>
                <a:lnTo>
                  <a:pt x="5804" y="15751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97080" y="4116240"/>
            <a:ext cx="177840" cy="277920"/>
          </a:xfrm>
          <a:custGeom>
            <a:avLst/>
            <a:gdLst/>
            <a:ahLst/>
            <a:rect l="l" t="t" r="r" b="b"/>
            <a:pathLst>
              <a:path w="497" h="770">
                <a:moveTo>
                  <a:pt x="6276" y="11435"/>
                </a:moveTo>
                <a:cubicBezTo>
                  <a:pt x="6330" y="11699"/>
                  <a:pt x="6317" y="11937"/>
                  <a:pt x="6300" y="12204"/>
                </a:cubicBezTo>
                <a:cubicBezTo>
                  <a:pt x="6388" y="12195"/>
                  <a:pt x="6515" y="12187"/>
                  <a:pt x="6573" y="12105"/>
                </a:cubicBezTo>
                <a:cubicBezTo>
                  <a:pt x="6573" y="12097"/>
                  <a:pt x="6573" y="12088"/>
                  <a:pt x="6573" y="12080"/>
                </a:cubicBezTo>
              </a:path>
              <a:path w="497" h="770">
                <a:moveTo>
                  <a:pt x="6102" y="11956"/>
                </a:moveTo>
                <a:cubicBezTo>
                  <a:pt x="6227" y="11893"/>
                  <a:pt x="6358" y="11847"/>
                  <a:pt x="6499" y="11832"/>
                </a:cubicBezTo>
                <a:cubicBezTo>
                  <a:pt x="6542" y="11832"/>
                  <a:pt x="6567" y="11838"/>
                  <a:pt x="6598" y="118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678040" y="4680000"/>
            <a:ext cx="250920" cy="374760"/>
          </a:xfrm>
          <a:custGeom>
            <a:avLst/>
            <a:gdLst/>
            <a:ahLst/>
            <a:rect l="l" t="t" r="r" b="b"/>
            <a:pathLst>
              <a:path w="696" h="1042">
                <a:moveTo>
                  <a:pt x="7689" y="12998"/>
                </a:moveTo>
                <a:cubicBezTo>
                  <a:pt x="7704" y="13102"/>
                  <a:pt x="7789" y="13381"/>
                  <a:pt x="7615" y="13395"/>
                </a:cubicBezTo>
                <a:cubicBezTo>
                  <a:pt x="7565" y="13399"/>
                  <a:pt x="7532" y="13355"/>
                  <a:pt x="7491" y="13345"/>
                </a:cubicBezTo>
              </a:path>
              <a:path w="696" h="1042">
                <a:moveTo>
                  <a:pt x="7441" y="13618"/>
                </a:moveTo>
                <a:cubicBezTo>
                  <a:pt x="7566" y="13597"/>
                  <a:pt x="7710" y="13538"/>
                  <a:pt x="7838" y="13543"/>
                </a:cubicBezTo>
                <a:cubicBezTo>
                  <a:pt x="7861" y="13566"/>
                  <a:pt x="7872" y="13574"/>
                  <a:pt x="7838" y="13568"/>
                </a:cubicBezTo>
              </a:path>
              <a:path w="696" h="1042">
                <a:moveTo>
                  <a:pt x="7590" y="13767"/>
                </a:moveTo>
                <a:cubicBezTo>
                  <a:pt x="7580" y="13822"/>
                  <a:pt x="7507" y="14109"/>
                  <a:pt x="7565" y="13990"/>
                </a:cubicBezTo>
              </a:path>
              <a:path w="696" h="1042">
                <a:moveTo>
                  <a:pt x="7938" y="13469"/>
                </a:moveTo>
                <a:cubicBezTo>
                  <a:pt x="7998" y="13428"/>
                  <a:pt x="8062" y="13407"/>
                  <a:pt x="8136" y="133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48040" y="5126040"/>
            <a:ext cx="206280" cy="258840"/>
          </a:xfrm>
          <a:custGeom>
            <a:avLst/>
            <a:gdLst/>
            <a:ahLst/>
            <a:rect l="l" t="t" r="r" b="b"/>
            <a:pathLst>
              <a:path w="571" h="720">
                <a:moveTo>
                  <a:pt x="10790" y="14238"/>
                </a:moveTo>
                <a:cubicBezTo>
                  <a:pt x="10772" y="14310"/>
                  <a:pt x="10756" y="14375"/>
                  <a:pt x="10740" y="14461"/>
                </a:cubicBezTo>
                <a:cubicBezTo>
                  <a:pt x="10713" y="14606"/>
                  <a:pt x="10679" y="14738"/>
                  <a:pt x="10716" y="14883"/>
                </a:cubicBezTo>
                <a:cubicBezTo>
                  <a:pt x="10745" y="14998"/>
                  <a:pt x="10938" y="14961"/>
                  <a:pt x="11013" y="14932"/>
                </a:cubicBezTo>
                <a:cubicBezTo>
                  <a:pt x="11096" y="14900"/>
                  <a:pt x="11235" y="14829"/>
                  <a:pt x="11261" y="14734"/>
                </a:cubicBezTo>
                <a:cubicBezTo>
                  <a:pt x="11286" y="14644"/>
                  <a:pt x="11258" y="14615"/>
                  <a:pt x="11212" y="14585"/>
                </a:cubicBezTo>
                <a:cubicBezTo>
                  <a:pt x="11146" y="14542"/>
                  <a:pt x="11119" y="14560"/>
                  <a:pt x="11088" y="14635"/>
                </a:cubicBezTo>
                <a:cubicBezTo>
                  <a:pt x="11051" y="14727"/>
                  <a:pt x="11045" y="14770"/>
                  <a:pt x="11063" y="148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380520" y="152280"/>
            <a:ext cx="7543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xamples: Solving Division Equa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.)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.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.)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295280" y="914400"/>
          <a:ext cx="1238400" cy="7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914400"/>
                    <a:ext cx="123840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1143000" y="2362320"/>
          <a:ext cx="1143000" cy="95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2362320"/>
                    <a:ext cx="114300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1295280" y="4038480"/>
          <a:ext cx="1130400" cy="939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5280" y="4038480"/>
                    <a:ext cx="113040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"/>
          <p:cNvSpPr/>
          <p:nvPr/>
        </p:nvSpPr>
        <p:spPr>
          <a:xfrm>
            <a:off x="1081080" y="1000080"/>
            <a:ext cx="1892160" cy="3616200"/>
          </a:xfrm>
          <a:custGeom>
            <a:avLst/>
            <a:gdLst/>
            <a:ahLst/>
            <a:rect l="l" t="t" r="r" b="b"/>
            <a:pathLst>
              <a:path w="5260" h="10047">
                <a:moveTo>
                  <a:pt x="4093" y="10294"/>
                </a:moveTo>
                <a:cubicBezTo>
                  <a:pt x="4093" y="10346"/>
                  <a:pt x="4094" y="10363"/>
                  <a:pt x="4142" y="10368"/>
                </a:cubicBezTo>
              </a:path>
              <a:path w="5260" h="10047">
                <a:moveTo>
                  <a:pt x="6995" y="3225"/>
                </a:moveTo>
                <a:cubicBezTo>
                  <a:pt x="7052" y="3315"/>
                  <a:pt x="7108" y="3418"/>
                  <a:pt x="7169" y="3497"/>
                </a:cubicBezTo>
              </a:path>
              <a:path w="5260" h="10047">
                <a:moveTo>
                  <a:pt x="8186" y="2778"/>
                </a:moveTo>
                <a:cubicBezTo>
                  <a:pt x="8186" y="2819"/>
                  <a:pt x="8186" y="2861"/>
                  <a:pt x="8186" y="2902"/>
                </a:cubicBezTo>
              </a:path>
              <a:path w="5260" h="10047">
                <a:moveTo>
                  <a:pt x="8210" y="3299"/>
                </a:moveTo>
                <a:cubicBezTo>
                  <a:pt x="8227" y="3274"/>
                  <a:pt x="8243" y="3250"/>
                  <a:pt x="8260" y="3225"/>
                </a:cubicBezTo>
              </a:path>
              <a:path w="5260" h="10047">
                <a:moveTo>
                  <a:pt x="8260" y="3225"/>
                </a:moveTo>
                <a:lnTo>
                  <a:pt x="8260" y="3225"/>
                </a:lnTo>
              </a:path>
              <a:path w="5260" h="10047">
                <a:moveTo>
                  <a:pt x="6796" y="7764"/>
                </a:moveTo>
                <a:cubicBezTo>
                  <a:pt x="6846" y="7888"/>
                  <a:pt x="6863" y="7929"/>
                  <a:pt x="6896" y="8012"/>
                </a:cubicBezTo>
              </a:path>
              <a:path w="5260" h="10047">
                <a:moveTo>
                  <a:pt x="3125" y="12601"/>
                </a:moveTo>
                <a:cubicBezTo>
                  <a:pt x="3192" y="12675"/>
                  <a:pt x="3256" y="12750"/>
                  <a:pt x="3324" y="12824"/>
                </a:cubicBezTo>
              </a:path>
              <a:path w="5260" h="10047">
                <a:moveTo>
                  <a:pt x="3200" y="12576"/>
                </a:moveTo>
                <a:cubicBezTo>
                  <a:pt x="3108" y="12714"/>
                  <a:pt x="3084" y="12755"/>
                  <a:pt x="3001" y="128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38160" y="839880"/>
            <a:ext cx="2919600" cy="1652400"/>
          </a:xfrm>
          <a:custGeom>
            <a:avLst/>
            <a:gdLst/>
            <a:ahLst/>
            <a:rect l="l" t="t" r="r" b="b"/>
            <a:pathLst>
              <a:path w="8113" h="4590">
                <a:moveTo>
                  <a:pt x="3324" y="3175"/>
                </a:moveTo>
                <a:cubicBezTo>
                  <a:pt x="3324" y="3114"/>
                  <a:pt x="3392" y="3380"/>
                  <a:pt x="3398" y="3398"/>
                </a:cubicBezTo>
                <a:cubicBezTo>
                  <a:pt x="3406" y="3423"/>
                  <a:pt x="3415" y="3448"/>
                  <a:pt x="3423" y="3473"/>
                </a:cubicBezTo>
              </a:path>
              <a:path w="8113" h="4590">
                <a:moveTo>
                  <a:pt x="3497" y="3125"/>
                </a:moveTo>
                <a:cubicBezTo>
                  <a:pt x="3412" y="3239"/>
                  <a:pt x="3340" y="3364"/>
                  <a:pt x="3249" y="3473"/>
                </a:cubicBezTo>
              </a:path>
              <a:path w="8113" h="4590">
                <a:moveTo>
                  <a:pt x="2977" y="3051"/>
                </a:moveTo>
                <a:cubicBezTo>
                  <a:pt x="2936" y="3226"/>
                  <a:pt x="2905" y="3439"/>
                  <a:pt x="2877" y="3621"/>
                </a:cubicBezTo>
                <a:cubicBezTo>
                  <a:pt x="2846" y="3822"/>
                  <a:pt x="2881" y="3659"/>
                  <a:pt x="2853" y="3746"/>
                </a:cubicBezTo>
              </a:path>
              <a:path w="8113" h="4590">
                <a:moveTo>
                  <a:pt x="3225" y="4490"/>
                </a:moveTo>
                <a:cubicBezTo>
                  <a:pt x="3214" y="4608"/>
                  <a:pt x="3205" y="4758"/>
                  <a:pt x="3101" y="4837"/>
                </a:cubicBezTo>
                <a:cubicBezTo>
                  <a:pt x="3101" y="4829"/>
                  <a:pt x="3101" y="4820"/>
                  <a:pt x="3101" y="4812"/>
                </a:cubicBezTo>
                <a:cubicBezTo>
                  <a:pt x="3234" y="4812"/>
                  <a:pt x="3344" y="4836"/>
                  <a:pt x="3473" y="4862"/>
                </a:cubicBezTo>
                <a:cubicBezTo>
                  <a:pt x="3508" y="4862"/>
                  <a:pt x="3520" y="4852"/>
                  <a:pt x="3522" y="4812"/>
                </a:cubicBezTo>
              </a:path>
              <a:path w="8113" h="4590">
                <a:moveTo>
                  <a:pt x="3547" y="4390"/>
                </a:moveTo>
                <a:cubicBezTo>
                  <a:pt x="3511" y="4651"/>
                  <a:pt x="3516" y="4920"/>
                  <a:pt x="3497" y="5184"/>
                </a:cubicBezTo>
                <a:cubicBezTo>
                  <a:pt x="3497" y="5244"/>
                  <a:pt x="3500" y="5251"/>
                  <a:pt x="3522" y="5159"/>
                </a:cubicBezTo>
              </a:path>
              <a:path w="8113" h="4590">
                <a:moveTo>
                  <a:pt x="3919" y="4514"/>
                </a:moveTo>
                <a:cubicBezTo>
                  <a:pt x="3845" y="4580"/>
                  <a:pt x="3712" y="4716"/>
                  <a:pt x="3746" y="4837"/>
                </a:cubicBezTo>
                <a:cubicBezTo>
                  <a:pt x="3789" y="4988"/>
                  <a:pt x="3908" y="4984"/>
                  <a:pt x="3894" y="5159"/>
                </a:cubicBezTo>
                <a:cubicBezTo>
                  <a:pt x="3702" y="5121"/>
                  <a:pt x="3843" y="4893"/>
                  <a:pt x="3870" y="4738"/>
                </a:cubicBezTo>
                <a:cubicBezTo>
                  <a:pt x="3888" y="4605"/>
                  <a:pt x="3896" y="4589"/>
                  <a:pt x="3894" y="4514"/>
                </a:cubicBezTo>
              </a:path>
              <a:path w="8113" h="4590">
                <a:moveTo>
                  <a:pt x="4192" y="4787"/>
                </a:moveTo>
                <a:cubicBezTo>
                  <a:pt x="4293" y="4781"/>
                  <a:pt x="4390" y="4769"/>
                  <a:pt x="4490" y="4762"/>
                </a:cubicBezTo>
              </a:path>
              <a:path w="8113" h="4590">
                <a:moveTo>
                  <a:pt x="4242" y="4986"/>
                </a:moveTo>
                <a:cubicBezTo>
                  <a:pt x="4350" y="4968"/>
                  <a:pt x="4438" y="4931"/>
                  <a:pt x="4539" y="4887"/>
                </a:cubicBezTo>
              </a:path>
              <a:path w="8113" h="4590">
                <a:moveTo>
                  <a:pt x="7293" y="3770"/>
                </a:moveTo>
                <a:cubicBezTo>
                  <a:pt x="7474" y="3750"/>
                  <a:pt x="7656" y="3713"/>
                  <a:pt x="7838" y="3696"/>
                </a:cubicBezTo>
                <a:cubicBezTo>
                  <a:pt x="7896" y="3696"/>
                  <a:pt x="7905" y="3696"/>
                  <a:pt x="7938" y="3696"/>
                </a:cubicBezTo>
              </a:path>
              <a:path w="8113" h="4590">
                <a:moveTo>
                  <a:pt x="7714" y="3994"/>
                </a:moveTo>
                <a:cubicBezTo>
                  <a:pt x="7677" y="4102"/>
                  <a:pt x="7689" y="4242"/>
                  <a:pt x="7689" y="4366"/>
                </a:cubicBezTo>
                <a:cubicBezTo>
                  <a:pt x="7689" y="4390"/>
                  <a:pt x="7689" y="4398"/>
                  <a:pt x="7689" y="4366"/>
                </a:cubicBezTo>
              </a:path>
              <a:path w="8113" h="4590">
                <a:moveTo>
                  <a:pt x="7962" y="3200"/>
                </a:moveTo>
                <a:cubicBezTo>
                  <a:pt x="8066" y="3170"/>
                  <a:pt x="8160" y="3142"/>
                  <a:pt x="8260" y="3101"/>
                </a:cubicBezTo>
              </a:path>
              <a:path w="8113" h="4590">
                <a:moveTo>
                  <a:pt x="8657" y="3150"/>
                </a:moveTo>
                <a:lnTo>
                  <a:pt x="8657" y="3150"/>
                </a:lnTo>
              </a:path>
              <a:path w="8113" h="4590">
                <a:moveTo>
                  <a:pt x="6747" y="4192"/>
                </a:moveTo>
                <a:cubicBezTo>
                  <a:pt x="6842" y="4171"/>
                  <a:pt x="6912" y="4144"/>
                  <a:pt x="6945" y="4068"/>
                </a:cubicBezTo>
              </a:path>
              <a:path w="8113" h="4590">
                <a:moveTo>
                  <a:pt x="6846" y="3870"/>
                </a:moveTo>
                <a:cubicBezTo>
                  <a:pt x="6854" y="3886"/>
                  <a:pt x="6863" y="3903"/>
                  <a:pt x="6871" y="3919"/>
                </a:cubicBezTo>
              </a:path>
              <a:path w="8113" h="4590">
                <a:moveTo>
                  <a:pt x="6871" y="3919"/>
                </a:moveTo>
                <a:lnTo>
                  <a:pt x="6871" y="3919"/>
                </a:lnTo>
              </a:path>
              <a:path w="8113" h="4590">
                <a:moveTo>
                  <a:pt x="6871" y="4316"/>
                </a:moveTo>
                <a:cubicBezTo>
                  <a:pt x="6879" y="4308"/>
                  <a:pt x="6888" y="4299"/>
                  <a:pt x="6896" y="4291"/>
                </a:cubicBezTo>
              </a:path>
              <a:path w="8113" h="4590">
                <a:moveTo>
                  <a:pt x="7020" y="4068"/>
                </a:moveTo>
                <a:cubicBezTo>
                  <a:pt x="7020" y="4109"/>
                  <a:pt x="7020" y="4151"/>
                  <a:pt x="7020" y="4192"/>
                </a:cubicBezTo>
                <a:cubicBezTo>
                  <a:pt x="7168" y="4192"/>
                  <a:pt x="7188" y="4167"/>
                  <a:pt x="7218" y="4018"/>
                </a:cubicBezTo>
                <a:cubicBezTo>
                  <a:pt x="7218" y="3977"/>
                  <a:pt x="7218" y="3953"/>
                  <a:pt x="7218" y="3994"/>
                </a:cubicBezTo>
                <a:cubicBezTo>
                  <a:pt x="7211" y="4113"/>
                  <a:pt x="7193" y="4225"/>
                  <a:pt x="7169" y="4341"/>
                </a:cubicBezTo>
              </a:path>
              <a:path w="8113" h="4590">
                <a:moveTo>
                  <a:pt x="7417" y="3621"/>
                </a:moveTo>
                <a:cubicBezTo>
                  <a:pt x="7894" y="3368"/>
                  <a:pt x="8377" y="3128"/>
                  <a:pt x="8855" y="2877"/>
                </a:cubicBezTo>
              </a:path>
              <a:path w="8113" h="4590">
                <a:moveTo>
                  <a:pt x="7913" y="2332"/>
                </a:moveTo>
                <a:cubicBezTo>
                  <a:pt x="7903" y="2540"/>
                  <a:pt x="7888" y="2746"/>
                  <a:pt x="7863" y="2952"/>
                </a:cubicBezTo>
              </a:path>
              <a:path w="8113" h="4590">
                <a:moveTo>
                  <a:pt x="6400" y="4192"/>
                </a:moveTo>
                <a:cubicBezTo>
                  <a:pt x="6696" y="4080"/>
                  <a:pt x="6990" y="3961"/>
                  <a:pt x="7293" y="3870"/>
                </a:cubicBezTo>
              </a:path>
              <a:path w="8113" h="4590">
                <a:moveTo>
                  <a:pt x="6722" y="4589"/>
                </a:moveTo>
                <a:cubicBezTo>
                  <a:pt x="6722" y="4714"/>
                  <a:pt x="6710" y="4852"/>
                  <a:pt x="6747" y="4961"/>
                </a:cubicBezTo>
              </a:path>
              <a:path w="8113" h="4590">
                <a:moveTo>
                  <a:pt x="9649" y="2604"/>
                </a:moveTo>
                <a:cubicBezTo>
                  <a:pt x="9672" y="2762"/>
                  <a:pt x="9674" y="2915"/>
                  <a:pt x="9674" y="3076"/>
                </a:cubicBezTo>
                <a:cubicBezTo>
                  <a:pt x="9674" y="3109"/>
                  <a:pt x="9674" y="3142"/>
                  <a:pt x="9674" y="3175"/>
                </a:cubicBezTo>
              </a:path>
              <a:path w="8113" h="4590">
                <a:moveTo>
                  <a:pt x="9823" y="2927"/>
                </a:moveTo>
                <a:cubicBezTo>
                  <a:pt x="9823" y="2960"/>
                  <a:pt x="9823" y="2993"/>
                  <a:pt x="9823" y="3026"/>
                </a:cubicBezTo>
                <a:cubicBezTo>
                  <a:pt x="9823" y="3149"/>
                  <a:pt x="9825" y="2900"/>
                  <a:pt x="9872" y="2853"/>
                </a:cubicBezTo>
                <a:cubicBezTo>
                  <a:pt x="10025" y="2699"/>
                  <a:pt x="10204" y="2930"/>
                  <a:pt x="10220" y="3076"/>
                </a:cubicBezTo>
                <a:cubicBezTo>
                  <a:pt x="10201" y="3170"/>
                  <a:pt x="10214" y="3190"/>
                  <a:pt x="10170" y="3225"/>
                </a:cubicBezTo>
              </a:path>
              <a:path w="8113" h="4590">
                <a:moveTo>
                  <a:pt x="9203" y="3423"/>
                </a:moveTo>
                <a:cubicBezTo>
                  <a:pt x="9464" y="3423"/>
                  <a:pt x="9712" y="3379"/>
                  <a:pt x="9971" y="3349"/>
                </a:cubicBezTo>
                <a:cubicBezTo>
                  <a:pt x="10110" y="3333"/>
                  <a:pt x="10212" y="3324"/>
                  <a:pt x="10344" y="3324"/>
                </a:cubicBezTo>
              </a:path>
              <a:path w="8113" h="4590">
                <a:moveTo>
                  <a:pt x="9748" y="3522"/>
                </a:moveTo>
                <a:cubicBezTo>
                  <a:pt x="9748" y="3666"/>
                  <a:pt x="9756" y="3803"/>
                  <a:pt x="9723" y="3944"/>
                </a:cubicBezTo>
                <a:cubicBezTo>
                  <a:pt x="9703" y="4028"/>
                  <a:pt x="9803" y="3795"/>
                  <a:pt x="9847" y="3721"/>
                </a:cubicBezTo>
              </a:path>
              <a:path w="8113" h="4590">
                <a:moveTo>
                  <a:pt x="10344" y="3497"/>
                </a:moveTo>
                <a:cubicBezTo>
                  <a:pt x="10422" y="3497"/>
                  <a:pt x="10490" y="3484"/>
                  <a:pt x="10567" y="3473"/>
                </a:cubicBezTo>
              </a:path>
              <a:path w="8113" h="4590">
                <a:moveTo>
                  <a:pt x="10393" y="3621"/>
                </a:moveTo>
                <a:cubicBezTo>
                  <a:pt x="10552" y="3595"/>
                  <a:pt x="10611" y="3585"/>
                  <a:pt x="10716" y="3547"/>
                </a:cubicBezTo>
              </a:path>
              <a:path w="8113" h="4590">
                <a:moveTo>
                  <a:pt x="10716" y="3547"/>
                </a:moveTo>
                <a:lnTo>
                  <a:pt x="10716" y="3547"/>
                </a:lnTo>
              </a:path>
              <a:path w="8113" h="4590">
                <a:moveTo>
                  <a:pt x="4490" y="6400"/>
                </a:moveTo>
                <a:cubicBezTo>
                  <a:pt x="4695" y="6352"/>
                  <a:pt x="4902" y="6277"/>
                  <a:pt x="5110" y="6251"/>
                </a:cubicBezTo>
              </a:path>
              <a:path w="8113" h="4590">
                <a:moveTo>
                  <a:pt x="4564" y="6548"/>
                </a:moveTo>
                <a:cubicBezTo>
                  <a:pt x="4541" y="6664"/>
                  <a:pt x="4489" y="6791"/>
                  <a:pt x="4514" y="6896"/>
                </a:cubicBezTo>
                <a:cubicBezTo>
                  <a:pt x="4700" y="6882"/>
                  <a:pt x="4729" y="6851"/>
                  <a:pt x="4762" y="6672"/>
                </a:cubicBezTo>
                <a:cubicBezTo>
                  <a:pt x="4722" y="6653"/>
                  <a:pt x="4638" y="6788"/>
                  <a:pt x="4638" y="6871"/>
                </a:cubicBezTo>
                <a:cubicBezTo>
                  <a:pt x="4646" y="6888"/>
                  <a:pt x="4655" y="6904"/>
                  <a:pt x="4663" y="6921"/>
                </a:cubicBezTo>
              </a:path>
              <a:path w="8113" h="4590">
                <a:moveTo>
                  <a:pt x="2629" y="4738"/>
                </a:moveTo>
                <a:cubicBezTo>
                  <a:pt x="2616" y="4652"/>
                  <a:pt x="2595" y="4621"/>
                  <a:pt x="2629" y="4539"/>
                </a:cubicBezTo>
                <a:cubicBezTo>
                  <a:pt x="2642" y="4508"/>
                  <a:pt x="2666" y="4472"/>
                  <a:pt x="2679" y="4440"/>
                </a:cubicBezTo>
                <a:cubicBezTo>
                  <a:pt x="2679" y="4729"/>
                  <a:pt x="2558" y="5334"/>
                  <a:pt x="2704" y="5581"/>
                </a:cubicBezTo>
                <a:cubicBezTo>
                  <a:pt x="2758" y="5672"/>
                  <a:pt x="2835" y="5665"/>
                  <a:pt x="2977" y="5680"/>
                </a:cubicBezTo>
                <a:cubicBezTo>
                  <a:pt x="3381" y="5723"/>
                  <a:pt x="3814" y="5684"/>
                  <a:pt x="4217" y="5631"/>
                </a:cubicBezTo>
                <a:cubicBezTo>
                  <a:pt x="4489" y="5595"/>
                  <a:pt x="4735" y="5511"/>
                  <a:pt x="5011" y="5507"/>
                </a:cubicBezTo>
                <a:cubicBezTo>
                  <a:pt x="5237" y="5503"/>
                  <a:pt x="5458" y="5500"/>
                  <a:pt x="5680" y="5482"/>
                </a:cubicBezTo>
                <a:cubicBezTo>
                  <a:pt x="5804" y="5472"/>
                  <a:pt x="5752" y="5500"/>
                  <a:pt x="5829" y="5507"/>
                </a:cubicBezTo>
                <a:cubicBezTo>
                  <a:pt x="5811" y="5266"/>
                  <a:pt x="5744" y="5053"/>
                  <a:pt x="5705" y="4812"/>
                </a:cubicBezTo>
                <a:cubicBezTo>
                  <a:pt x="5703" y="4800"/>
                  <a:pt x="5694" y="4411"/>
                  <a:pt x="5655" y="4366"/>
                </a:cubicBezTo>
                <a:cubicBezTo>
                  <a:pt x="5614" y="4319"/>
                  <a:pt x="5451" y="4295"/>
                  <a:pt x="5407" y="4291"/>
                </a:cubicBezTo>
                <a:cubicBezTo>
                  <a:pt x="5148" y="4268"/>
                  <a:pt x="4874" y="4269"/>
                  <a:pt x="4614" y="4266"/>
                </a:cubicBezTo>
                <a:cubicBezTo>
                  <a:pt x="4298" y="4262"/>
                  <a:pt x="3985" y="4303"/>
                  <a:pt x="3671" y="4316"/>
                </a:cubicBezTo>
                <a:cubicBezTo>
                  <a:pt x="3437" y="4326"/>
                  <a:pt x="3187" y="4367"/>
                  <a:pt x="2952" y="4341"/>
                </a:cubicBezTo>
                <a:cubicBezTo>
                  <a:pt x="2836" y="4328"/>
                  <a:pt x="2769" y="4322"/>
                  <a:pt x="2654" y="43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990720" y="1177920"/>
            <a:ext cx="73080" cy="46080"/>
          </a:xfrm>
          <a:custGeom>
            <a:avLst/>
            <a:gdLst/>
            <a:ahLst/>
            <a:rect l="l" t="t" r="r" b="b"/>
            <a:pathLst>
              <a:path w="200" h="125">
                <a:moveTo>
                  <a:pt x="2828" y="3274"/>
                </a:moveTo>
                <a:cubicBezTo>
                  <a:pt x="2796" y="3320"/>
                  <a:pt x="2765" y="3351"/>
                  <a:pt x="2753" y="3398"/>
                </a:cubicBezTo>
                <a:cubicBezTo>
                  <a:pt x="2833" y="3382"/>
                  <a:pt x="2888" y="3349"/>
                  <a:pt x="2952" y="32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81120" y="1724040"/>
            <a:ext cx="365040" cy="785880"/>
          </a:xfrm>
          <a:custGeom>
            <a:avLst/>
            <a:gdLst/>
            <a:ahLst/>
            <a:rect l="l" t="t" r="r" b="b"/>
            <a:pathLst>
              <a:path w="1018" h="2184">
                <a:moveTo>
                  <a:pt x="4911" y="4837"/>
                </a:moveTo>
                <a:cubicBezTo>
                  <a:pt x="4936" y="5011"/>
                  <a:pt x="4936" y="5181"/>
                  <a:pt x="4936" y="5358"/>
                </a:cubicBezTo>
                <a:cubicBezTo>
                  <a:pt x="4936" y="5209"/>
                  <a:pt x="4885" y="4970"/>
                  <a:pt x="4961" y="4837"/>
                </a:cubicBezTo>
                <a:cubicBezTo>
                  <a:pt x="4994" y="4820"/>
                  <a:pt x="5027" y="4804"/>
                  <a:pt x="5060" y="4787"/>
                </a:cubicBezTo>
                <a:cubicBezTo>
                  <a:pt x="5278" y="4951"/>
                  <a:pt x="5359" y="5058"/>
                  <a:pt x="5383" y="5333"/>
                </a:cubicBezTo>
                <a:cubicBezTo>
                  <a:pt x="5383" y="5378"/>
                  <a:pt x="5379" y="5391"/>
                  <a:pt x="5407" y="5407"/>
                </a:cubicBezTo>
              </a:path>
              <a:path w="1018" h="2184">
                <a:moveTo>
                  <a:pt x="4465" y="5680"/>
                </a:moveTo>
                <a:cubicBezTo>
                  <a:pt x="4443" y="5836"/>
                  <a:pt x="4406" y="5994"/>
                  <a:pt x="4390" y="6152"/>
                </a:cubicBezTo>
                <a:cubicBezTo>
                  <a:pt x="4390" y="6218"/>
                  <a:pt x="4382" y="6243"/>
                  <a:pt x="4440" y="6226"/>
                </a:cubicBezTo>
                <a:cubicBezTo>
                  <a:pt x="4638" y="6176"/>
                  <a:pt x="4675" y="6109"/>
                  <a:pt x="4663" y="5904"/>
                </a:cubicBezTo>
                <a:cubicBezTo>
                  <a:pt x="4611" y="5921"/>
                  <a:pt x="4344" y="6132"/>
                  <a:pt x="4514" y="6201"/>
                </a:cubicBezTo>
                <a:cubicBezTo>
                  <a:pt x="4539" y="6193"/>
                  <a:pt x="4564" y="6184"/>
                  <a:pt x="4589" y="6176"/>
                </a:cubicBezTo>
              </a:path>
              <a:path w="1018" h="2184">
                <a:moveTo>
                  <a:pt x="4837" y="5755"/>
                </a:moveTo>
                <a:cubicBezTo>
                  <a:pt x="4837" y="5849"/>
                  <a:pt x="4798" y="6022"/>
                  <a:pt x="4862" y="6102"/>
                </a:cubicBezTo>
                <a:cubicBezTo>
                  <a:pt x="4927" y="6182"/>
                  <a:pt x="4939" y="5930"/>
                  <a:pt x="4961" y="5829"/>
                </a:cubicBezTo>
                <a:cubicBezTo>
                  <a:pt x="4953" y="5862"/>
                  <a:pt x="4944" y="5895"/>
                  <a:pt x="4936" y="5928"/>
                </a:cubicBezTo>
                <a:cubicBezTo>
                  <a:pt x="4991" y="6085"/>
                  <a:pt x="5146" y="6184"/>
                  <a:pt x="5159" y="5928"/>
                </a:cubicBezTo>
                <a:cubicBezTo>
                  <a:pt x="5172" y="5675"/>
                  <a:pt x="5009" y="5822"/>
                  <a:pt x="4911" y="5879"/>
                </a:cubicBezTo>
              </a:path>
              <a:path w="1018" h="2184">
                <a:moveTo>
                  <a:pt x="4465" y="5879"/>
                </a:moveTo>
                <a:cubicBezTo>
                  <a:pt x="4465" y="5745"/>
                  <a:pt x="4488" y="6095"/>
                  <a:pt x="4514" y="6226"/>
                </a:cubicBezTo>
                <a:cubicBezTo>
                  <a:pt x="4559" y="6453"/>
                  <a:pt x="4610" y="6763"/>
                  <a:pt x="4688" y="6970"/>
                </a:cubicBezTo>
                <a:cubicBezTo>
                  <a:pt x="4654" y="6765"/>
                  <a:pt x="4594" y="6559"/>
                  <a:pt x="4564" y="6350"/>
                </a:cubicBezTo>
                <a:cubicBezTo>
                  <a:pt x="4543" y="6206"/>
                  <a:pt x="4514" y="6051"/>
                  <a:pt x="4514" y="5904"/>
                </a:cubicBezTo>
                <a:cubicBezTo>
                  <a:pt x="4514" y="5938"/>
                  <a:pt x="4509" y="5956"/>
                  <a:pt x="4490" y="59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509920" y="1054080"/>
            <a:ext cx="339480" cy="258840"/>
          </a:xfrm>
          <a:custGeom>
            <a:avLst/>
            <a:gdLst/>
            <a:ahLst/>
            <a:rect l="l" t="t" r="r" b="b"/>
            <a:pathLst>
              <a:path w="944" h="720">
                <a:moveTo>
                  <a:pt x="7218" y="3076"/>
                </a:moveTo>
                <a:cubicBezTo>
                  <a:pt x="7169" y="3204"/>
                  <a:pt x="7086" y="3542"/>
                  <a:pt x="6970" y="3621"/>
                </a:cubicBezTo>
                <a:cubicBezTo>
                  <a:pt x="6970" y="3605"/>
                  <a:pt x="6970" y="3588"/>
                  <a:pt x="6970" y="3572"/>
                </a:cubicBezTo>
              </a:path>
              <a:path w="944" h="720">
                <a:moveTo>
                  <a:pt x="7516" y="3249"/>
                </a:moveTo>
                <a:cubicBezTo>
                  <a:pt x="7508" y="3257"/>
                  <a:pt x="7499" y="3266"/>
                  <a:pt x="7491" y="3274"/>
                </a:cubicBezTo>
                <a:cubicBezTo>
                  <a:pt x="7556" y="3388"/>
                  <a:pt x="7719" y="3349"/>
                  <a:pt x="7863" y="3349"/>
                </a:cubicBezTo>
                <a:cubicBezTo>
                  <a:pt x="7880" y="3349"/>
                  <a:pt x="7896" y="3349"/>
                  <a:pt x="7913" y="3349"/>
                </a:cubicBezTo>
              </a:path>
              <a:path w="944" h="720">
                <a:moveTo>
                  <a:pt x="7888" y="2927"/>
                </a:moveTo>
                <a:cubicBezTo>
                  <a:pt x="7881" y="3149"/>
                  <a:pt x="7897" y="3431"/>
                  <a:pt x="7838" y="3646"/>
                </a:cubicBezTo>
                <a:cubicBezTo>
                  <a:pt x="7830" y="3646"/>
                  <a:pt x="7821" y="3646"/>
                  <a:pt x="7813" y="36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044880" y="955800"/>
            <a:ext cx="108000" cy="179280"/>
          </a:xfrm>
          <a:custGeom>
            <a:avLst/>
            <a:gdLst/>
            <a:ahLst/>
            <a:rect l="l" t="t" r="r" b="b"/>
            <a:pathLst>
              <a:path w="299" h="497">
                <a:moveTo>
                  <a:pt x="8458" y="2803"/>
                </a:moveTo>
                <a:cubicBezTo>
                  <a:pt x="8458" y="2867"/>
                  <a:pt x="8461" y="2893"/>
                  <a:pt x="8483" y="2952"/>
                </a:cubicBezTo>
                <a:cubicBezTo>
                  <a:pt x="8676" y="2934"/>
                  <a:pt x="8621" y="2929"/>
                  <a:pt x="8756" y="2778"/>
                </a:cubicBezTo>
              </a:path>
              <a:path w="299" h="497">
                <a:moveTo>
                  <a:pt x="8731" y="2654"/>
                </a:moveTo>
                <a:cubicBezTo>
                  <a:pt x="8707" y="2820"/>
                  <a:pt x="8683" y="2985"/>
                  <a:pt x="8657" y="31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919680" y="1197000"/>
            <a:ext cx="144360" cy="133200"/>
          </a:xfrm>
          <a:custGeom>
            <a:avLst/>
            <a:gdLst/>
            <a:ahLst/>
            <a:rect l="l" t="t" r="r" b="b"/>
            <a:pathLst>
              <a:path w="398" h="373">
                <a:moveTo>
                  <a:pt x="10889" y="3349"/>
                </a:moveTo>
                <a:cubicBezTo>
                  <a:pt x="10897" y="3466"/>
                  <a:pt x="10914" y="3577"/>
                  <a:pt x="10914" y="3696"/>
                </a:cubicBezTo>
                <a:cubicBezTo>
                  <a:pt x="10894" y="3554"/>
                  <a:pt x="10869" y="3393"/>
                  <a:pt x="11038" y="3324"/>
                </a:cubicBezTo>
                <a:cubicBezTo>
                  <a:pt x="11272" y="3228"/>
                  <a:pt x="11279" y="3566"/>
                  <a:pt x="11286" y="36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18080" y="812880"/>
            <a:ext cx="903240" cy="4973400"/>
          </a:xfrm>
          <a:custGeom>
            <a:avLst/>
            <a:gdLst/>
            <a:ahLst/>
            <a:rect l="l" t="t" r="r" b="b"/>
            <a:pathLst>
              <a:path w="2507" h="13817">
                <a:moveTo>
                  <a:pt x="15577" y="2257"/>
                </a:moveTo>
                <a:cubicBezTo>
                  <a:pt x="15667" y="2302"/>
                  <a:pt x="15664" y="2485"/>
                  <a:pt x="15652" y="2580"/>
                </a:cubicBezTo>
                <a:cubicBezTo>
                  <a:pt x="15644" y="2596"/>
                  <a:pt x="15635" y="2613"/>
                  <a:pt x="15627" y="2629"/>
                </a:cubicBezTo>
              </a:path>
              <a:path w="2507" h="13817">
                <a:moveTo>
                  <a:pt x="15329" y="4589"/>
                </a:moveTo>
                <a:cubicBezTo>
                  <a:pt x="15597" y="4554"/>
                  <a:pt x="15853" y="4523"/>
                  <a:pt x="16123" y="4514"/>
                </a:cubicBezTo>
              </a:path>
              <a:path w="2507" h="13817">
                <a:moveTo>
                  <a:pt x="15627" y="5680"/>
                </a:moveTo>
                <a:cubicBezTo>
                  <a:pt x="15797" y="5646"/>
                  <a:pt x="15950" y="5636"/>
                  <a:pt x="16123" y="5631"/>
                </a:cubicBezTo>
              </a:path>
              <a:path w="2507" h="13817">
                <a:moveTo>
                  <a:pt x="15751" y="9401"/>
                </a:moveTo>
                <a:cubicBezTo>
                  <a:pt x="15645" y="9517"/>
                  <a:pt x="15631" y="9554"/>
                  <a:pt x="15602" y="9699"/>
                </a:cubicBezTo>
                <a:cubicBezTo>
                  <a:pt x="15763" y="9752"/>
                  <a:pt x="16016" y="9709"/>
                  <a:pt x="16049" y="9475"/>
                </a:cubicBezTo>
                <a:cubicBezTo>
                  <a:pt x="15993" y="9392"/>
                  <a:pt x="15967" y="9360"/>
                  <a:pt x="15900" y="9327"/>
                </a:cubicBezTo>
              </a:path>
              <a:path w="2507" h="13817">
                <a:moveTo>
                  <a:pt x="16297" y="8806"/>
                </a:moveTo>
                <a:cubicBezTo>
                  <a:pt x="16310" y="8948"/>
                  <a:pt x="16340" y="9088"/>
                  <a:pt x="16371" y="9227"/>
                </a:cubicBezTo>
              </a:path>
              <a:path w="2507" h="13817">
                <a:moveTo>
                  <a:pt x="15949" y="10666"/>
                </a:moveTo>
                <a:cubicBezTo>
                  <a:pt x="16299" y="10615"/>
                  <a:pt x="16715" y="10435"/>
                  <a:pt x="17066" y="10517"/>
                </a:cubicBezTo>
                <a:cubicBezTo>
                  <a:pt x="17058" y="10525"/>
                  <a:pt x="17049" y="10534"/>
                  <a:pt x="17041" y="10542"/>
                </a:cubicBezTo>
              </a:path>
              <a:path w="2507" h="13817">
                <a:moveTo>
                  <a:pt x="16867" y="14560"/>
                </a:moveTo>
                <a:cubicBezTo>
                  <a:pt x="16998" y="14535"/>
                  <a:pt x="17047" y="14527"/>
                  <a:pt x="17140" y="14536"/>
                </a:cubicBezTo>
              </a:path>
              <a:path w="2507" h="13817">
                <a:moveTo>
                  <a:pt x="16842" y="15081"/>
                </a:moveTo>
                <a:cubicBezTo>
                  <a:pt x="17166" y="15060"/>
                  <a:pt x="17485" y="14979"/>
                  <a:pt x="17810" y="15032"/>
                </a:cubicBezTo>
                <a:cubicBezTo>
                  <a:pt x="17818" y="15040"/>
                  <a:pt x="17827" y="15048"/>
                  <a:pt x="17835" y="15056"/>
                </a:cubicBezTo>
              </a:path>
              <a:path w="2507" h="13817">
                <a:moveTo>
                  <a:pt x="16892" y="16073"/>
                </a:moveTo>
                <a:cubicBezTo>
                  <a:pt x="16950" y="16073"/>
                  <a:pt x="17008" y="16073"/>
                  <a:pt x="17066" y="160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268960" y="731880"/>
            <a:ext cx="795240" cy="1152360"/>
          </a:xfrm>
          <a:custGeom>
            <a:avLst/>
            <a:gdLst/>
            <a:ahLst/>
            <a:rect l="l" t="t" r="r" b="b"/>
            <a:pathLst>
              <a:path w="2208" h="3201">
                <a:moveTo>
                  <a:pt x="15478" y="3200"/>
                </a:moveTo>
                <a:cubicBezTo>
                  <a:pt x="15500" y="3233"/>
                  <a:pt x="15463" y="3325"/>
                  <a:pt x="15453" y="3398"/>
                </a:cubicBezTo>
                <a:cubicBezTo>
                  <a:pt x="15655" y="3423"/>
                  <a:pt x="15761" y="3396"/>
                  <a:pt x="15949" y="3324"/>
                </a:cubicBezTo>
              </a:path>
              <a:path w="2208" h="3201">
                <a:moveTo>
                  <a:pt x="15726" y="3101"/>
                </a:moveTo>
                <a:cubicBezTo>
                  <a:pt x="15726" y="3250"/>
                  <a:pt x="15684" y="3559"/>
                  <a:pt x="15751" y="3572"/>
                </a:cubicBezTo>
              </a:path>
              <a:path w="2208" h="3201">
                <a:moveTo>
                  <a:pt x="16346" y="2952"/>
                </a:moveTo>
                <a:cubicBezTo>
                  <a:pt x="16181" y="3129"/>
                  <a:pt x="16134" y="3177"/>
                  <a:pt x="16272" y="3398"/>
                </a:cubicBezTo>
                <a:cubicBezTo>
                  <a:pt x="16344" y="3513"/>
                  <a:pt x="16384" y="3498"/>
                  <a:pt x="16297" y="3572"/>
                </a:cubicBezTo>
                <a:cubicBezTo>
                  <a:pt x="16129" y="3349"/>
                  <a:pt x="16317" y="3228"/>
                  <a:pt x="16495" y="3051"/>
                </a:cubicBezTo>
                <a:cubicBezTo>
                  <a:pt x="16518" y="3028"/>
                  <a:pt x="16529" y="3020"/>
                  <a:pt x="16495" y="3026"/>
                </a:cubicBezTo>
              </a:path>
              <a:path w="2208" h="3201">
                <a:moveTo>
                  <a:pt x="15329" y="3746"/>
                </a:moveTo>
                <a:cubicBezTo>
                  <a:pt x="15336" y="3582"/>
                  <a:pt x="15382" y="3411"/>
                  <a:pt x="15379" y="3249"/>
                </a:cubicBezTo>
                <a:cubicBezTo>
                  <a:pt x="15377" y="3116"/>
                  <a:pt x="15315" y="3075"/>
                  <a:pt x="15280" y="2977"/>
                </a:cubicBezTo>
                <a:cubicBezTo>
                  <a:pt x="15280" y="2969"/>
                  <a:pt x="15280" y="2960"/>
                  <a:pt x="15280" y="2952"/>
                </a:cubicBezTo>
                <a:cubicBezTo>
                  <a:pt x="15535" y="2932"/>
                  <a:pt x="15796" y="2896"/>
                  <a:pt x="16049" y="2853"/>
                </a:cubicBezTo>
                <a:cubicBezTo>
                  <a:pt x="16170" y="2832"/>
                  <a:pt x="16691" y="2655"/>
                  <a:pt x="16842" y="2729"/>
                </a:cubicBezTo>
                <a:cubicBezTo>
                  <a:pt x="16842" y="2763"/>
                  <a:pt x="16833" y="2776"/>
                  <a:pt x="16793" y="2778"/>
                </a:cubicBezTo>
              </a:path>
              <a:path w="2208" h="3201">
                <a:moveTo>
                  <a:pt x="14684" y="3150"/>
                </a:moveTo>
                <a:cubicBezTo>
                  <a:pt x="14676" y="3214"/>
                  <a:pt x="14647" y="3262"/>
                  <a:pt x="14635" y="3324"/>
                </a:cubicBezTo>
                <a:cubicBezTo>
                  <a:pt x="14755" y="3324"/>
                  <a:pt x="14813" y="3331"/>
                  <a:pt x="14908" y="3274"/>
                </a:cubicBezTo>
              </a:path>
              <a:path w="2208" h="3201">
                <a:moveTo>
                  <a:pt x="14932" y="3026"/>
                </a:moveTo>
                <a:cubicBezTo>
                  <a:pt x="14922" y="3170"/>
                  <a:pt x="14935" y="3416"/>
                  <a:pt x="14858" y="3547"/>
                </a:cubicBezTo>
                <a:cubicBezTo>
                  <a:pt x="14808" y="3572"/>
                  <a:pt x="14792" y="3580"/>
                  <a:pt x="14759" y="3547"/>
                </a:cubicBezTo>
              </a:path>
              <a:path w="2208" h="3201">
                <a:moveTo>
                  <a:pt x="15553" y="3746"/>
                </a:moveTo>
                <a:cubicBezTo>
                  <a:pt x="15529" y="3800"/>
                  <a:pt x="15528" y="3853"/>
                  <a:pt x="15528" y="3919"/>
                </a:cubicBezTo>
                <a:cubicBezTo>
                  <a:pt x="15689" y="3904"/>
                  <a:pt x="15747" y="3889"/>
                  <a:pt x="15875" y="3795"/>
                </a:cubicBezTo>
              </a:path>
              <a:path w="2208" h="3201">
                <a:moveTo>
                  <a:pt x="15801" y="3696"/>
                </a:moveTo>
                <a:cubicBezTo>
                  <a:pt x="15757" y="3870"/>
                  <a:pt x="15751" y="4012"/>
                  <a:pt x="15751" y="4192"/>
                </a:cubicBezTo>
              </a:path>
              <a:path w="2208" h="3201">
                <a:moveTo>
                  <a:pt x="15180" y="4192"/>
                </a:moveTo>
                <a:cubicBezTo>
                  <a:pt x="15321" y="4192"/>
                  <a:pt x="15362" y="4192"/>
                  <a:pt x="15453" y="4192"/>
                </a:cubicBezTo>
              </a:path>
              <a:path w="2208" h="3201">
                <a:moveTo>
                  <a:pt x="15825" y="4911"/>
                </a:moveTo>
                <a:cubicBezTo>
                  <a:pt x="15743" y="4978"/>
                  <a:pt x="15716" y="5081"/>
                  <a:pt x="15726" y="5184"/>
                </a:cubicBezTo>
                <a:cubicBezTo>
                  <a:pt x="15914" y="5159"/>
                  <a:pt x="16071" y="5097"/>
                  <a:pt x="16049" y="4862"/>
                </a:cubicBezTo>
                <a:cubicBezTo>
                  <a:pt x="16007" y="4779"/>
                  <a:pt x="15999" y="4762"/>
                  <a:pt x="15974" y="4713"/>
                </a:cubicBezTo>
              </a:path>
              <a:path w="2208" h="3201">
                <a:moveTo>
                  <a:pt x="16272" y="3994"/>
                </a:moveTo>
                <a:cubicBezTo>
                  <a:pt x="16322" y="4192"/>
                  <a:pt x="16319" y="4409"/>
                  <a:pt x="16346" y="4614"/>
                </a:cubicBezTo>
                <a:cubicBezTo>
                  <a:pt x="16354" y="4647"/>
                  <a:pt x="16363" y="4680"/>
                  <a:pt x="16371" y="4713"/>
                </a:cubicBezTo>
              </a:path>
              <a:path w="2208" h="3201">
                <a:moveTo>
                  <a:pt x="16545" y="4911"/>
                </a:moveTo>
                <a:cubicBezTo>
                  <a:pt x="16469" y="4899"/>
                  <a:pt x="16308" y="4884"/>
                  <a:pt x="16297" y="5011"/>
                </a:cubicBezTo>
                <a:cubicBezTo>
                  <a:pt x="16285" y="5151"/>
                  <a:pt x="16504" y="5050"/>
                  <a:pt x="16446" y="5209"/>
                </a:cubicBezTo>
                <a:cubicBezTo>
                  <a:pt x="16363" y="5237"/>
                  <a:pt x="16332" y="5239"/>
                  <a:pt x="16297" y="5159"/>
                </a:cubicBezTo>
                <a:cubicBezTo>
                  <a:pt x="16335" y="5083"/>
                  <a:pt x="16524" y="4900"/>
                  <a:pt x="16520" y="4837"/>
                </a:cubicBezTo>
                <a:cubicBezTo>
                  <a:pt x="16512" y="4820"/>
                  <a:pt x="16503" y="4804"/>
                  <a:pt x="16495" y="4787"/>
                </a:cubicBezTo>
              </a:path>
              <a:path w="2208" h="3201">
                <a:moveTo>
                  <a:pt x="15974" y="2108"/>
                </a:moveTo>
                <a:cubicBezTo>
                  <a:pt x="16033" y="2012"/>
                  <a:pt x="16096" y="2028"/>
                  <a:pt x="16197" y="2059"/>
                </a:cubicBezTo>
                <a:cubicBezTo>
                  <a:pt x="16157" y="2248"/>
                  <a:pt x="16035" y="2311"/>
                  <a:pt x="15925" y="2456"/>
                </a:cubicBezTo>
                <a:cubicBezTo>
                  <a:pt x="15933" y="2456"/>
                  <a:pt x="15941" y="2456"/>
                  <a:pt x="15949" y="2456"/>
                </a:cubicBezTo>
                <a:cubicBezTo>
                  <a:pt x="16102" y="2436"/>
                  <a:pt x="16244" y="2376"/>
                  <a:pt x="16396" y="23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643720" y="2160720"/>
            <a:ext cx="482400" cy="214200"/>
          </a:xfrm>
          <a:custGeom>
            <a:avLst/>
            <a:gdLst/>
            <a:ahLst/>
            <a:rect l="l" t="t" r="r" b="b"/>
            <a:pathLst>
              <a:path w="1340" h="596">
                <a:moveTo>
                  <a:pt x="15677" y="6127"/>
                </a:moveTo>
                <a:cubicBezTo>
                  <a:pt x="16126" y="6056"/>
                  <a:pt x="16561" y="6003"/>
                  <a:pt x="17016" y="6003"/>
                </a:cubicBezTo>
                <a:cubicBezTo>
                  <a:pt x="17008" y="6003"/>
                  <a:pt x="16999" y="6003"/>
                  <a:pt x="16991" y="6003"/>
                </a:cubicBezTo>
              </a:path>
              <a:path w="1340" h="596">
                <a:moveTo>
                  <a:pt x="16644" y="6226"/>
                </a:moveTo>
                <a:cubicBezTo>
                  <a:pt x="16536" y="6378"/>
                  <a:pt x="16495" y="6422"/>
                  <a:pt x="16495" y="6598"/>
                </a:cubicBezTo>
                <a:cubicBezTo>
                  <a:pt x="16643" y="6569"/>
                  <a:pt x="16920" y="6451"/>
                  <a:pt x="16768" y="6226"/>
                </a:cubicBezTo>
                <a:cubicBezTo>
                  <a:pt x="16735" y="6209"/>
                  <a:pt x="16702" y="6193"/>
                  <a:pt x="16669" y="61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99040" y="2633760"/>
            <a:ext cx="992160" cy="1376280"/>
          </a:xfrm>
          <a:custGeom>
            <a:avLst/>
            <a:gdLst/>
            <a:ahLst/>
            <a:rect l="l" t="t" r="r" b="b"/>
            <a:pathLst>
              <a:path w="2755" h="3821">
                <a:moveTo>
                  <a:pt x="15081" y="8161"/>
                </a:moveTo>
                <a:cubicBezTo>
                  <a:pt x="15100" y="8319"/>
                  <a:pt x="15131" y="8481"/>
                  <a:pt x="15180" y="8632"/>
                </a:cubicBezTo>
              </a:path>
              <a:path w="2755" h="3821">
                <a:moveTo>
                  <a:pt x="15602" y="8136"/>
                </a:moveTo>
                <a:cubicBezTo>
                  <a:pt x="15722" y="8166"/>
                  <a:pt x="16006" y="8269"/>
                  <a:pt x="15949" y="8458"/>
                </a:cubicBezTo>
                <a:cubicBezTo>
                  <a:pt x="15890" y="8654"/>
                  <a:pt x="15668" y="8540"/>
                  <a:pt x="15553" y="8508"/>
                </a:cubicBezTo>
                <a:cubicBezTo>
                  <a:pt x="15697" y="8319"/>
                  <a:pt x="15795" y="8379"/>
                  <a:pt x="15974" y="8508"/>
                </a:cubicBezTo>
                <a:cubicBezTo>
                  <a:pt x="15991" y="8516"/>
                  <a:pt x="16007" y="8525"/>
                  <a:pt x="16024" y="8533"/>
                </a:cubicBezTo>
              </a:path>
              <a:path w="2755" h="3821">
                <a:moveTo>
                  <a:pt x="16222" y="8062"/>
                </a:moveTo>
                <a:cubicBezTo>
                  <a:pt x="16196" y="8192"/>
                  <a:pt x="16129" y="8424"/>
                  <a:pt x="16272" y="8508"/>
                </a:cubicBezTo>
                <a:cubicBezTo>
                  <a:pt x="16371" y="8566"/>
                  <a:pt x="16769" y="8537"/>
                  <a:pt x="16644" y="8334"/>
                </a:cubicBezTo>
                <a:cubicBezTo>
                  <a:pt x="16500" y="8100"/>
                  <a:pt x="16463" y="8498"/>
                  <a:pt x="16470" y="8558"/>
                </a:cubicBezTo>
              </a:path>
              <a:path w="2755" h="3821">
                <a:moveTo>
                  <a:pt x="15007" y="8756"/>
                </a:moveTo>
                <a:cubicBezTo>
                  <a:pt x="15007" y="8631"/>
                  <a:pt x="14989" y="8558"/>
                  <a:pt x="14957" y="8434"/>
                </a:cubicBezTo>
                <a:cubicBezTo>
                  <a:pt x="14908" y="8244"/>
                  <a:pt x="14848" y="8161"/>
                  <a:pt x="14734" y="8012"/>
                </a:cubicBezTo>
                <a:cubicBezTo>
                  <a:pt x="14836" y="7869"/>
                  <a:pt x="15101" y="7944"/>
                  <a:pt x="15255" y="7938"/>
                </a:cubicBezTo>
                <a:cubicBezTo>
                  <a:pt x="15667" y="7923"/>
                  <a:pt x="16480" y="7671"/>
                  <a:pt x="16867" y="7838"/>
                </a:cubicBezTo>
                <a:cubicBezTo>
                  <a:pt x="16826" y="7855"/>
                  <a:pt x="16784" y="7871"/>
                  <a:pt x="16743" y="7888"/>
                </a:cubicBezTo>
              </a:path>
              <a:path w="2755" h="3821">
                <a:moveTo>
                  <a:pt x="14213" y="8210"/>
                </a:moveTo>
                <a:cubicBezTo>
                  <a:pt x="14200" y="8328"/>
                  <a:pt x="14119" y="8519"/>
                  <a:pt x="14188" y="8632"/>
                </a:cubicBezTo>
                <a:cubicBezTo>
                  <a:pt x="14213" y="8649"/>
                  <a:pt x="14238" y="8665"/>
                  <a:pt x="14263" y="8682"/>
                </a:cubicBezTo>
                <a:cubicBezTo>
                  <a:pt x="14452" y="8610"/>
                  <a:pt x="14479" y="8590"/>
                  <a:pt x="14560" y="8409"/>
                </a:cubicBezTo>
                <a:cubicBezTo>
                  <a:pt x="14439" y="8347"/>
                  <a:pt x="14295" y="8548"/>
                  <a:pt x="14387" y="8632"/>
                </a:cubicBezTo>
                <a:cubicBezTo>
                  <a:pt x="14428" y="8632"/>
                  <a:pt x="14470" y="8632"/>
                  <a:pt x="14511" y="8632"/>
                </a:cubicBezTo>
              </a:path>
              <a:path w="2755" h="3821">
                <a:moveTo>
                  <a:pt x="15503" y="7367"/>
                </a:moveTo>
                <a:cubicBezTo>
                  <a:pt x="15651" y="7313"/>
                  <a:pt x="15907" y="7361"/>
                  <a:pt x="15801" y="7615"/>
                </a:cubicBezTo>
                <a:cubicBezTo>
                  <a:pt x="15737" y="7768"/>
                  <a:pt x="15576" y="7788"/>
                  <a:pt x="15453" y="7789"/>
                </a:cubicBezTo>
                <a:cubicBezTo>
                  <a:pt x="15499" y="7620"/>
                  <a:pt x="15596" y="7651"/>
                  <a:pt x="15751" y="7714"/>
                </a:cubicBezTo>
                <a:cubicBezTo>
                  <a:pt x="15768" y="7722"/>
                  <a:pt x="15784" y="7731"/>
                  <a:pt x="15801" y="7739"/>
                </a:cubicBezTo>
              </a:path>
              <a:path w="2755" h="3821">
                <a:moveTo>
                  <a:pt x="15280" y="8706"/>
                </a:moveTo>
                <a:cubicBezTo>
                  <a:pt x="15287" y="8831"/>
                  <a:pt x="15288" y="8996"/>
                  <a:pt x="15354" y="9079"/>
                </a:cubicBezTo>
              </a:path>
              <a:path w="2755" h="3821">
                <a:moveTo>
                  <a:pt x="15602" y="8706"/>
                </a:moveTo>
                <a:cubicBezTo>
                  <a:pt x="15702" y="8745"/>
                  <a:pt x="16055" y="8891"/>
                  <a:pt x="15850" y="9054"/>
                </a:cubicBezTo>
                <a:cubicBezTo>
                  <a:pt x="15741" y="9140"/>
                  <a:pt x="15629" y="9111"/>
                  <a:pt x="15553" y="9054"/>
                </a:cubicBezTo>
                <a:cubicBezTo>
                  <a:pt x="15706" y="9012"/>
                  <a:pt x="15790" y="9004"/>
                  <a:pt x="15949" y="9029"/>
                </a:cubicBezTo>
              </a:path>
              <a:path w="2755" h="3821">
                <a:moveTo>
                  <a:pt x="14982" y="8930"/>
                </a:moveTo>
                <a:cubicBezTo>
                  <a:pt x="15160" y="8895"/>
                  <a:pt x="15297" y="8880"/>
                  <a:pt x="15478" y="8880"/>
                </a:cubicBezTo>
              </a:path>
              <a:path w="2755" h="3821">
                <a:moveTo>
                  <a:pt x="15007" y="9277"/>
                </a:moveTo>
                <a:cubicBezTo>
                  <a:pt x="15351" y="9249"/>
                  <a:pt x="15702" y="9128"/>
                  <a:pt x="16049" y="9128"/>
                </a:cubicBezTo>
                <a:cubicBezTo>
                  <a:pt x="16049" y="9136"/>
                  <a:pt x="16049" y="9145"/>
                  <a:pt x="16049" y="9153"/>
                </a:cubicBezTo>
              </a:path>
              <a:path w="2755" h="3821">
                <a:moveTo>
                  <a:pt x="16346" y="9475"/>
                </a:moveTo>
                <a:cubicBezTo>
                  <a:pt x="16346" y="9555"/>
                  <a:pt x="16307" y="9615"/>
                  <a:pt x="16321" y="9699"/>
                </a:cubicBezTo>
                <a:cubicBezTo>
                  <a:pt x="16336" y="9790"/>
                  <a:pt x="16448" y="9858"/>
                  <a:pt x="16520" y="9773"/>
                </a:cubicBezTo>
                <a:cubicBezTo>
                  <a:pt x="16575" y="9707"/>
                  <a:pt x="16529" y="9633"/>
                  <a:pt x="16495" y="9599"/>
                </a:cubicBezTo>
                <a:cubicBezTo>
                  <a:pt x="16464" y="9639"/>
                  <a:pt x="16360" y="9777"/>
                  <a:pt x="16446" y="9748"/>
                </a:cubicBezTo>
              </a:path>
              <a:path w="2755" h="3821">
                <a:moveTo>
                  <a:pt x="16173" y="7441"/>
                </a:moveTo>
                <a:cubicBezTo>
                  <a:pt x="16114" y="7480"/>
                  <a:pt x="16181" y="7819"/>
                  <a:pt x="16197" y="7888"/>
                </a:cubicBezTo>
                <a:cubicBezTo>
                  <a:pt x="16214" y="7929"/>
                  <a:pt x="16230" y="7971"/>
                  <a:pt x="16247" y="8012"/>
                </a:cubicBezTo>
              </a:path>
              <a:path w="2755" h="3821">
                <a:moveTo>
                  <a:pt x="16470" y="9947"/>
                </a:moveTo>
                <a:cubicBezTo>
                  <a:pt x="16455" y="10099"/>
                  <a:pt x="16421" y="10263"/>
                  <a:pt x="16446" y="10418"/>
                </a:cubicBezTo>
                <a:cubicBezTo>
                  <a:pt x="16469" y="10559"/>
                  <a:pt x="16654" y="10320"/>
                  <a:pt x="16669" y="10294"/>
                </a:cubicBezTo>
                <a:cubicBezTo>
                  <a:pt x="16552" y="10328"/>
                  <a:pt x="16526" y="10367"/>
                  <a:pt x="16470" y="10468"/>
                </a:cubicBezTo>
              </a:path>
              <a:path w="2755" h="3821">
                <a:moveTo>
                  <a:pt x="16694" y="10790"/>
                </a:moveTo>
                <a:cubicBezTo>
                  <a:pt x="16643" y="10911"/>
                  <a:pt x="16610" y="10987"/>
                  <a:pt x="16594" y="11112"/>
                </a:cubicBezTo>
                <a:cubicBezTo>
                  <a:pt x="16725" y="11130"/>
                  <a:pt x="17006" y="11119"/>
                  <a:pt x="16917" y="10889"/>
                </a:cubicBezTo>
                <a:cubicBezTo>
                  <a:pt x="16894" y="10830"/>
                  <a:pt x="16746" y="10811"/>
                  <a:pt x="16694" y="107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875200" y="4402080"/>
            <a:ext cx="822600" cy="1795680"/>
          </a:xfrm>
          <a:custGeom>
            <a:avLst/>
            <a:gdLst/>
            <a:ahLst/>
            <a:rect l="l" t="t" r="r" b="b"/>
            <a:pathLst>
              <a:path w="2284" h="4986">
                <a:moveTo>
                  <a:pt x="17487" y="13519"/>
                </a:moveTo>
                <a:cubicBezTo>
                  <a:pt x="17658" y="13416"/>
                  <a:pt x="17574" y="13324"/>
                  <a:pt x="17462" y="13196"/>
                </a:cubicBezTo>
                <a:cubicBezTo>
                  <a:pt x="17377" y="13237"/>
                  <a:pt x="17008" y="13588"/>
                  <a:pt x="17314" y="13643"/>
                </a:cubicBezTo>
                <a:cubicBezTo>
                  <a:pt x="17468" y="13671"/>
                  <a:pt x="17579" y="13483"/>
                  <a:pt x="17611" y="13370"/>
                </a:cubicBezTo>
                <a:cubicBezTo>
                  <a:pt x="17603" y="13602"/>
                  <a:pt x="17598" y="13824"/>
                  <a:pt x="17512" y="14039"/>
                </a:cubicBezTo>
                <a:cubicBezTo>
                  <a:pt x="17520" y="14014"/>
                  <a:pt x="17529" y="13990"/>
                  <a:pt x="17537" y="13965"/>
                </a:cubicBezTo>
              </a:path>
              <a:path w="2284" h="4986">
                <a:moveTo>
                  <a:pt x="17983" y="13320"/>
                </a:moveTo>
                <a:cubicBezTo>
                  <a:pt x="17945" y="13518"/>
                  <a:pt x="17780" y="13825"/>
                  <a:pt x="17859" y="14015"/>
                </a:cubicBezTo>
                <a:cubicBezTo>
                  <a:pt x="17961" y="14259"/>
                  <a:pt x="18220" y="13872"/>
                  <a:pt x="18207" y="13742"/>
                </a:cubicBezTo>
                <a:cubicBezTo>
                  <a:pt x="18192" y="13595"/>
                  <a:pt x="17970" y="13961"/>
                  <a:pt x="17959" y="13990"/>
                </a:cubicBezTo>
              </a:path>
              <a:path w="2284" h="4986">
                <a:moveTo>
                  <a:pt x="17041" y="14114"/>
                </a:moveTo>
                <a:cubicBezTo>
                  <a:pt x="17065" y="13900"/>
                  <a:pt x="17062" y="13712"/>
                  <a:pt x="17041" y="13494"/>
                </a:cubicBezTo>
                <a:cubicBezTo>
                  <a:pt x="17027" y="13345"/>
                  <a:pt x="17003" y="13196"/>
                  <a:pt x="16991" y="13047"/>
                </a:cubicBezTo>
                <a:cubicBezTo>
                  <a:pt x="17237" y="13000"/>
                  <a:pt x="17481" y="12988"/>
                  <a:pt x="17735" y="12973"/>
                </a:cubicBezTo>
                <a:cubicBezTo>
                  <a:pt x="17794" y="12969"/>
                  <a:pt x="18699" y="12862"/>
                  <a:pt x="18529" y="12998"/>
                </a:cubicBezTo>
              </a:path>
              <a:path w="2284" h="4986">
                <a:moveTo>
                  <a:pt x="16421" y="13370"/>
                </a:moveTo>
                <a:cubicBezTo>
                  <a:pt x="16398" y="13471"/>
                  <a:pt x="16363" y="13550"/>
                  <a:pt x="16321" y="13643"/>
                </a:cubicBezTo>
                <a:cubicBezTo>
                  <a:pt x="16468" y="13715"/>
                  <a:pt x="16539" y="13680"/>
                  <a:pt x="16669" y="13593"/>
                </a:cubicBezTo>
              </a:path>
              <a:path w="2284" h="4986">
                <a:moveTo>
                  <a:pt x="16594" y="13221"/>
                </a:moveTo>
                <a:cubicBezTo>
                  <a:pt x="16586" y="13448"/>
                  <a:pt x="16596" y="13696"/>
                  <a:pt x="16545" y="13915"/>
                </a:cubicBezTo>
                <a:cubicBezTo>
                  <a:pt x="16545" y="13839"/>
                  <a:pt x="16574" y="13788"/>
                  <a:pt x="16644" y="13742"/>
                </a:cubicBezTo>
              </a:path>
              <a:path w="2284" h="4986">
                <a:moveTo>
                  <a:pt x="17363" y="12229"/>
                </a:moveTo>
                <a:cubicBezTo>
                  <a:pt x="17499" y="12229"/>
                  <a:pt x="17502" y="12373"/>
                  <a:pt x="17462" y="12477"/>
                </a:cubicBezTo>
                <a:cubicBezTo>
                  <a:pt x="17415" y="12599"/>
                  <a:pt x="17286" y="12742"/>
                  <a:pt x="17190" y="12626"/>
                </a:cubicBezTo>
                <a:cubicBezTo>
                  <a:pt x="17239" y="12551"/>
                  <a:pt x="17408" y="12634"/>
                  <a:pt x="17487" y="12675"/>
                </a:cubicBezTo>
                <a:cubicBezTo>
                  <a:pt x="17495" y="12683"/>
                  <a:pt x="17504" y="12692"/>
                  <a:pt x="17512" y="12700"/>
                </a:cubicBezTo>
              </a:path>
              <a:path w="2284" h="4986">
                <a:moveTo>
                  <a:pt x="17438" y="14263"/>
                </a:moveTo>
                <a:cubicBezTo>
                  <a:pt x="17301" y="14288"/>
                  <a:pt x="17271" y="14313"/>
                  <a:pt x="17165" y="14412"/>
                </a:cubicBezTo>
                <a:cubicBezTo>
                  <a:pt x="17216" y="14493"/>
                  <a:pt x="17494" y="14543"/>
                  <a:pt x="17512" y="14660"/>
                </a:cubicBezTo>
                <a:cubicBezTo>
                  <a:pt x="17463" y="14756"/>
                  <a:pt x="17450" y="14789"/>
                  <a:pt x="17363" y="14784"/>
                </a:cubicBezTo>
                <a:cubicBezTo>
                  <a:pt x="17325" y="14578"/>
                  <a:pt x="17472" y="14499"/>
                  <a:pt x="17587" y="14337"/>
                </a:cubicBezTo>
                <a:cubicBezTo>
                  <a:pt x="17610" y="14290"/>
                  <a:pt x="17620" y="14273"/>
                  <a:pt x="17562" y="14288"/>
                </a:cubicBezTo>
              </a:path>
              <a:path w="2284" h="4986">
                <a:moveTo>
                  <a:pt x="17363" y="15255"/>
                </a:moveTo>
                <a:cubicBezTo>
                  <a:pt x="17363" y="15429"/>
                  <a:pt x="17363" y="15602"/>
                  <a:pt x="17363" y="15776"/>
                </a:cubicBezTo>
              </a:path>
              <a:path w="2284" h="4986">
                <a:moveTo>
                  <a:pt x="17934" y="14387"/>
                </a:moveTo>
                <a:cubicBezTo>
                  <a:pt x="17963" y="14358"/>
                  <a:pt x="17979" y="14707"/>
                  <a:pt x="17983" y="14784"/>
                </a:cubicBezTo>
                <a:cubicBezTo>
                  <a:pt x="17983" y="14885"/>
                  <a:pt x="17993" y="14905"/>
                  <a:pt x="17959" y="14957"/>
                </a:cubicBezTo>
              </a:path>
              <a:path w="2284" h="4986">
                <a:moveTo>
                  <a:pt x="17810" y="15404"/>
                </a:moveTo>
                <a:cubicBezTo>
                  <a:pt x="17810" y="15523"/>
                  <a:pt x="17774" y="15629"/>
                  <a:pt x="17785" y="15751"/>
                </a:cubicBezTo>
                <a:cubicBezTo>
                  <a:pt x="17793" y="15784"/>
                  <a:pt x="17802" y="15817"/>
                  <a:pt x="17810" y="15850"/>
                </a:cubicBezTo>
                <a:cubicBezTo>
                  <a:pt x="17976" y="15878"/>
                  <a:pt x="18127" y="15828"/>
                  <a:pt x="18157" y="15627"/>
                </a:cubicBezTo>
                <a:cubicBezTo>
                  <a:pt x="18149" y="15602"/>
                  <a:pt x="18140" y="15578"/>
                  <a:pt x="18132" y="15553"/>
                </a:cubicBezTo>
                <a:cubicBezTo>
                  <a:pt x="17996" y="15598"/>
                  <a:pt x="17983" y="15663"/>
                  <a:pt x="18008" y="15801"/>
                </a:cubicBezTo>
              </a:path>
              <a:path w="2284" h="4986">
                <a:moveTo>
                  <a:pt x="17413" y="16148"/>
                </a:moveTo>
                <a:cubicBezTo>
                  <a:pt x="17413" y="16222"/>
                  <a:pt x="17400" y="16299"/>
                  <a:pt x="17388" y="16371"/>
                </a:cubicBezTo>
                <a:cubicBezTo>
                  <a:pt x="17388" y="16363"/>
                  <a:pt x="17388" y="16354"/>
                  <a:pt x="17388" y="16346"/>
                </a:cubicBezTo>
              </a:path>
              <a:path w="2284" h="4986">
                <a:moveTo>
                  <a:pt x="17884" y="16024"/>
                </a:moveTo>
                <a:cubicBezTo>
                  <a:pt x="17884" y="16122"/>
                  <a:pt x="17866" y="16208"/>
                  <a:pt x="17884" y="16297"/>
                </a:cubicBezTo>
                <a:cubicBezTo>
                  <a:pt x="18064" y="16322"/>
                  <a:pt x="18119" y="16275"/>
                  <a:pt x="18231" y="16123"/>
                </a:cubicBezTo>
                <a:cubicBezTo>
                  <a:pt x="18231" y="16115"/>
                  <a:pt x="18231" y="16106"/>
                  <a:pt x="18231" y="16098"/>
                </a:cubicBezTo>
                <a:cubicBezTo>
                  <a:pt x="18095" y="16130"/>
                  <a:pt x="18055" y="16146"/>
                  <a:pt x="18033" y="16297"/>
                </a:cubicBezTo>
              </a:path>
              <a:path w="2284" h="4986">
                <a:moveTo>
                  <a:pt x="16867" y="16644"/>
                </a:moveTo>
                <a:cubicBezTo>
                  <a:pt x="17431" y="16573"/>
                  <a:pt x="17985" y="16520"/>
                  <a:pt x="18554" y="16520"/>
                </a:cubicBezTo>
                <a:cubicBezTo>
                  <a:pt x="18537" y="16520"/>
                  <a:pt x="18521" y="16520"/>
                  <a:pt x="18504" y="16520"/>
                </a:cubicBezTo>
              </a:path>
              <a:path w="2284" h="4986">
                <a:moveTo>
                  <a:pt x="18008" y="16892"/>
                </a:moveTo>
                <a:cubicBezTo>
                  <a:pt x="17933" y="17023"/>
                  <a:pt x="17872" y="17036"/>
                  <a:pt x="17884" y="17190"/>
                </a:cubicBezTo>
                <a:cubicBezTo>
                  <a:pt x="18076" y="17203"/>
                  <a:pt x="18267" y="17082"/>
                  <a:pt x="18231" y="16842"/>
                </a:cubicBezTo>
                <a:cubicBezTo>
                  <a:pt x="18156" y="16742"/>
                  <a:pt x="18131" y="16709"/>
                  <a:pt x="18033" y="167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830920" y="1982880"/>
            <a:ext cx="142920" cy="152280"/>
          </a:xfrm>
          <a:custGeom>
            <a:avLst/>
            <a:gdLst/>
            <a:ahLst/>
            <a:rect l="l" t="t" r="r" b="b"/>
            <a:pathLst>
              <a:path w="398" h="422">
                <a:moveTo>
                  <a:pt x="16545" y="5531"/>
                </a:moveTo>
                <a:cubicBezTo>
                  <a:pt x="16436" y="5496"/>
                  <a:pt x="16284" y="5515"/>
                  <a:pt x="16197" y="5606"/>
                </a:cubicBezTo>
                <a:cubicBezTo>
                  <a:pt x="16197" y="5622"/>
                  <a:pt x="16197" y="5639"/>
                  <a:pt x="16197" y="5655"/>
                </a:cubicBezTo>
                <a:cubicBezTo>
                  <a:pt x="16329" y="5721"/>
                  <a:pt x="16458" y="5771"/>
                  <a:pt x="16594" y="5829"/>
                </a:cubicBezTo>
                <a:cubicBezTo>
                  <a:pt x="16504" y="5912"/>
                  <a:pt x="16273" y="6024"/>
                  <a:pt x="16396" y="5779"/>
                </a:cubicBezTo>
                <a:cubicBezTo>
                  <a:pt x="16463" y="5646"/>
                  <a:pt x="16568" y="5595"/>
                  <a:pt x="16520" y="55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429240" y="4313160"/>
            <a:ext cx="125640" cy="347760"/>
          </a:xfrm>
          <a:custGeom>
            <a:avLst/>
            <a:gdLst/>
            <a:ahLst/>
            <a:rect l="l" t="t" r="r" b="b"/>
            <a:pathLst>
              <a:path w="349" h="968">
                <a:moveTo>
                  <a:pt x="17909" y="12229"/>
                </a:moveTo>
                <a:cubicBezTo>
                  <a:pt x="17909" y="12164"/>
                  <a:pt x="17863" y="12363"/>
                  <a:pt x="17859" y="12402"/>
                </a:cubicBezTo>
                <a:cubicBezTo>
                  <a:pt x="17842" y="12558"/>
                  <a:pt x="18195" y="12288"/>
                  <a:pt x="18207" y="12278"/>
                </a:cubicBezTo>
              </a:path>
              <a:path w="349" h="968">
                <a:moveTo>
                  <a:pt x="18132" y="11981"/>
                </a:moveTo>
                <a:cubicBezTo>
                  <a:pt x="18103" y="12305"/>
                  <a:pt x="18083" y="12623"/>
                  <a:pt x="18083" y="129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081080" y="2847960"/>
            <a:ext cx="2178000" cy="1554120"/>
          </a:xfrm>
          <a:custGeom>
            <a:avLst/>
            <a:gdLst/>
            <a:ahLst/>
            <a:rect l="l" t="t" r="r" b="b"/>
            <a:pathLst>
              <a:path w="6054" h="4317">
                <a:moveTo>
                  <a:pt x="3001" y="7913"/>
                </a:moveTo>
                <a:cubicBezTo>
                  <a:pt x="3064" y="7975"/>
                  <a:pt x="3082" y="7985"/>
                  <a:pt x="3101" y="8037"/>
                </a:cubicBezTo>
              </a:path>
              <a:path w="6054" h="4317">
                <a:moveTo>
                  <a:pt x="4589" y="9525"/>
                </a:moveTo>
                <a:cubicBezTo>
                  <a:pt x="4672" y="9519"/>
                  <a:pt x="4754" y="9508"/>
                  <a:pt x="4837" y="9500"/>
                </a:cubicBezTo>
              </a:path>
              <a:path w="6054" h="4317">
                <a:moveTo>
                  <a:pt x="4663" y="9699"/>
                </a:moveTo>
                <a:cubicBezTo>
                  <a:pt x="4787" y="9674"/>
                  <a:pt x="4828" y="9666"/>
                  <a:pt x="4911" y="9649"/>
                </a:cubicBezTo>
              </a:path>
              <a:path w="6054" h="4317">
                <a:moveTo>
                  <a:pt x="4911" y="9649"/>
                </a:moveTo>
                <a:lnTo>
                  <a:pt x="4911" y="9649"/>
                </a:lnTo>
              </a:path>
              <a:path w="6054" h="4317">
                <a:moveTo>
                  <a:pt x="8582" y="10889"/>
                </a:moveTo>
                <a:cubicBezTo>
                  <a:pt x="8544" y="11095"/>
                  <a:pt x="8519" y="11300"/>
                  <a:pt x="8508" y="11509"/>
                </a:cubicBezTo>
              </a:path>
              <a:path w="6054" h="4317">
                <a:moveTo>
                  <a:pt x="8359" y="11683"/>
                </a:moveTo>
                <a:cubicBezTo>
                  <a:pt x="8609" y="11639"/>
                  <a:pt x="8804" y="11599"/>
                  <a:pt x="9054" y="11584"/>
                </a:cubicBezTo>
              </a:path>
              <a:path w="6054" h="4317">
                <a:moveTo>
                  <a:pt x="8806" y="11832"/>
                </a:moveTo>
                <a:cubicBezTo>
                  <a:pt x="8762" y="11970"/>
                  <a:pt x="8739" y="12083"/>
                  <a:pt x="8731" y="12229"/>
                </a:cubicBezTo>
              </a:path>
              <a:path w="6054" h="4317">
                <a:moveTo>
                  <a:pt x="8731" y="12229"/>
                </a:moveTo>
                <a:lnTo>
                  <a:pt x="8731" y="12229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84160" y="2786040"/>
            <a:ext cx="2330640" cy="1544760"/>
          </a:xfrm>
          <a:custGeom>
            <a:avLst/>
            <a:gdLst/>
            <a:ahLst/>
            <a:rect l="l" t="t" r="r" b="b"/>
            <a:pathLst>
              <a:path w="6475" h="4292">
                <a:moveTo>
                  <a:pt x="3076" y="7739"/>
                </a:moveTo>
                <a:cubicBezTo>
                  <a:pt x="3029" y="7879"/>
                  <a:pt x="2967" y="8023"/>
                  <a:pt x="2927" y="8161"/>
                </a:cubicBezTo>
              </a:path>
              <a:path w="6475" h="4292">
                <a:moveTo>
                  <a:pt x="2456" y="8657"/>
                </a:moveTo>
                <a:cubicBezTo>
                  <a:pt x="2611" y="8637"/>
                  <a:pt x="2774" y="8557"/>
                  <a:pt x="2927" y="8508"/>
                </a:cubicBezTo>
                <a:cubicBezTo>
                  <a:pt x="3024" y="8477"/>
                  <a:pt x="3003" y="8461"/>
                  <a:pt x="3051" y="8533"/>
                </a:cubicBezTo>
              </a:path>
              <a:path w="6475" h="4292">
                <a:moveTo>
                  <a:pt x="2629" y="8756"/>
                </a:moveTo>
                <a:cubicBezTo>
                  <a:pt x="2629" y="8865"/>
                  <a:pt x="2659" y="8972"/>
                  <a:pt x="2679" y="9079"/>
                </a:cubicBezTo>
              </a:path>
              <a:path w="6475" h="4292">
                <a:moveTo>
                  <a:pt x="3845" y="9525"/>
                </a:moveTo>
                <a:cubicBezTo>
                  <a:pt x="3808" y="9488"/>
                  <a:pt x="3838" y="9754"/>
                  <a:pt x="3845" y="9798"/>
                </a:cubicBezTo>
                <a:cubicBezTo>
                  <a:pt x="3878" y="10000"/>
                  <a:pt x="3984" y="9799"/>
                  <a:pt x="4018" y="9699"/>
                </a:cubicBezTo>
                <a:cubicBezTo>
                  <a:pt x="4026" y="9649"/>
                  <a:pt x="4035" y="9600"/>
                  <a:pt x="4043" y="9550"/>
                </a:cubicBezTo>
                <a:cubicBezTo>
                  <a:pt x="4051" y="9533"/>
                  <a:pt x="4060" y="9517"/>
                  <a:pt x="4068" y="9500"/>
                </a:cubicBezTo>
                <a:cubicBezTo>
                  <a:pt x="4068" y="9708"/>
                  <a:pt x="4062" y="9828"/>
                  <a:pt x="4167" y="9996"/>
                </a:cubicBezTo>
                <a:cubicBezTo>
                  <a:pt x="4370" y="9874"/>
                  <a:pt x="4378" y="9735"/>
                  <a:pt x="4291" y="9500"/>
                </a:cubicBezTo>
                <a:cubicBezTo>
                  <a:pt x="4269" y="9478"/>
                  <a:pt x="4264" y="9469"/>
                  <a:pt x="4242" y="9475"/>
                </a:cubicBezTo>
              </a:path>
              <a:path w="6475" h="4292">
                <a:moveTo>
                  <a:pt x="6648" y="9252"/>
                </a:moveTo>
                <a:cubicBezTo>
                  <a:pt x="6597" y="9354"/>
                  <a:pt x="6567" y="9553"/>
                  <a:pt x="6548" y="9674"/>
                </a:cubicBezTo>
                <a:cubicBezTo>
                  <a:pt x="6548" y="9707"/>
                  <a:pt x="6548" y="9740"/>
                  <a:pt x="6548" y="9773"/>
                </a:cubicBezTo>
                <a:cubicBezTo>
                  <a:pt x="6665" y="9812"/>
                  <a:pt x="6792" y="9824"/>
                  <a:pt x="6896" y="9699"/>
                </a:cubicBezTo>
                <a:cubicBezTo>
                  <a:pt x="6941" y="9585"/>
                  <a:pt x="6957" y="9555"/>
                  <a:pt x="6945" y="9475"/>
                </a:cubicBezTo>
                <a:cubicBezTo>
                  <a:pt x="6792" y="9492"/>
                  <a:pt x="6746" y="9569"/>
                  <a:pt x="6672" y="9699"/>
                </a:cubicBezTo>
                <a:cubicBezTo>
                  <a:pt x="6664" y="9715"/>
                  <a:pt x="6656" y="9732"/>
                  <a:pt x="6648" y="9748"/>
                </a:cubicBezTo>
              </a:path>
              <a:path w="6475" h="4292">
                <a:moveTo>
                  <a:pt x="5904" y="9351"/>
                </a:moveTo>
                <a:cubicBezTo>
                  <a:pt x="5859" y="9514"/>
                  <a:pt x="5874" y="9699"/>
                  <a:pt x="5854" y="9872"/>
                </a:cubicBezTo>
              </a:path>
              <a:path w="6475" h="4292">
                <a:moveTo>
                  <a:pt x="6077" y="9327"/>
                </a:moveTo>
                <a:cubicBezTo>
                  <a:pt x="6170" y="9327"/>
                  <a:pt x="6262" y="9303"/>
                  <a:pt x="6325" y="9401"/>
                </a:cubicBezTo>
                <a:cubicBezTo>
                  <a:pt x="6423" y="9553"/>
                  <a:pt x="6304" y="9897"/>
                  <a:pt x="6077" y="9823"/>
                </a:cubicBezTo>
                <a:cubicBezTo>
                  <a:pt x="6069" y="9798"/>
                  <a:pt x="6060" y="9773"/>
                  <a:pt x="6052" y="9748"/>
                </a:cubicBezTo>
                <a:cubicBezTo>
                  <a:pt x="6140" y="9624"/>
                  <a:pt x="6280" y="9617"/>
                  <a:pt x="6424" y="9723"/>
                </a:cubicBezTo>
                <a:cubicBezTo>
                  <a:pt x="6432" y="9740"/>
                  <a:pt x="6441" y="9756"/>
                  <a:pt x="6449" y="9773"/>
                </a:cubicBezTo>
              </a:path>
              <a:path w="6475" h="4292">
                <a:moveTo>
                  <a:pt x="8409" y="11063"/>
                </a:moveTo>
                <a:cubicBezTo>
                  <a:pt x="8391" y="11136"/>
                  <a:pt x="8361" y="11213"/>
                  <a:pt x="8334" y="11286"/>
                </a:cubicBezTo>
                <a:cubicBezTo>
                  <a:pt x="8466" y="11269"/>
                  <a:pt x="8487" y="11247"/>
                  <a:pt x="8607" y="11187"/>
                </a:cubicBezTo>
              </a:path>
              <a:path w="6475" h="4292">
                <a:moveTo>
                  <a:pt x="8756" y="11162"/>
                </a:moveTo>
                <a:cubicBezTo>
                  <a:pt x="8769" y="11212"/>
                  <a:pt x="8828" y="11510"/>
                  <a:pt x="8905" y="11336"/>
                </a:cubicBezTo>
                <a:cubicBezTo>
                  <a:pt x="8928" y="11244"/>
                  <a:pt x="8939" y="11219"/>
                  <a:pt x="8905" y="11162"/>
                </a:cubicBezTo>
                <a:cubicBezTo>
                  <a:pt x="8905" y="11267"/>
                  <a:pt x="8939" y="11583"/>
                  <a:pt x="8830" y="11658"/>
                </a:cubicBezTo>
                <a:cubicBezTo>
                  <a:pt x="8789" y="11658"/>
                  <a:pt x="8747" y="11658"/>
                  <a:pt x="8706" y="11658"/>
                </a:cubicBezTo>
              </a:path>
              <a:path w="6475" h="4292">
                <a:moveTo>
                  <a:pt x="8558" y="11906"/>
                </a:moveTo>
                <a:cubicBezTo>
                  <a:pt x="8558" y="11995"/>
                  <a:pt x="8647" y="12109"/>
                  <a:pt x="8756" y="12030"/>
                </a:cubicBezTo>
                <a:cubicBezTo>
                  <a:pt x="8773" y="11997"/>
                  <a:pt x="8789" y="11964"/>
                  <a:pt x="8806" y="11931"/>
                </a:cubicBezTo>
              </a:path>
              <a:path w="6475" h="4292">
                <a:moveTo>
                  <a:pt x="3597" y="9723"/>
                </a:moveTo>
                <a:cubicBezTo>
                  <a:pt x="3593" y="9654"/>
                  <a:pt x="3578" y="9591"/>
                  <a:pt x="3572" y="9525"/>
                </a:cubicBezTo>
                <a:cubicBezTo>
                  <a:pt x="3566" y="9457"/>
                  <a:pt x="3572" y="9391"/>
                  <a:pt x="3547" y="9327"/>
                </a:cubicBezTo>
                <a:cubicBezTo>
                  <a:pt x="3539" y="9319"/>
                  <a:pt x="3530" y="9310"/>
                  <a:pt x="3522" y="9302"/>
                </a:cubicBezTo>
                <a:cubicBezTo>
                  <a:pt x="3577" y="9575"/>
                  <a:pt x="3633" y="9848"/>
                  <a:pt x="3696" y="10120"/>
                </a:cubicBezTo>
                <a:cubicBezTo>
                  <a:pt x="3709" y="10176"/>
                  <a:pt x="3728" y="10493"/>
                  <a:pt x="3795" y="10542"/>
                </a:cubicBezTo>
                <a:cubicBezTo>
                  <a:pt x="3847" y="10580"/>
                  <a:pt x="4539" y="10492"/>
                  <a:pt x="4589" y="10492"/>
                </a:cubicBezTo>
                <a:cubicBezTo>
                  <a:pt x="5143" y="10488"/>
                  <a:pt x="5698" y="10477"/>
                  <a:pt x="6251" y="10443"/>
                </a:cubicBezTo>
                <a:cubicBezTo>
                  <a:pt x="6592" y="10422"/>
                  <a:pt x="6883" y="10462"/>
                  <a:pt x="7218" y="10492"/>
                </a:cubicBezTo>
                <a:cubicBezTo>
                  <a:pt x="7277" y="10497"/>
                  <a:pt x="7352" y="10469"/>
                  <a:pt x="7367" y="10468"/>
                </a:cubicBezTo>
                <a:cubicBezTo>
                  <a:pt x="7375" y="10468"/>
                  <a:pt x="7384" y="10468"/>
                  <a:pt x="7392" y="10468"/>
                </a:cubicBezTo>
                <a:cubicBezTo>
                  <a:pt x="7384" y="10219"/>
                  <a:pt x="7358" y="9973"/>
                  <a:pt x="7367" y="9723"/>
                </a:cubicBezTo>
                <a:cubicBezTo>
                  <a:pt x="7373" y="9542"/>
                  <a:pt x="7449" y="9229"/>
                  <a:pt x="7367" y="9054"/>
                </a:cubicBezTo>
                <a:cubicBezTo>
                  <a:pt x="7317" y="8947"/>
                  <a:pt x="7166" y="8927"/>
                  <a:pt x="7069" y="8905"/>
                </a:cubicBezTo>
                <a:cubicBezTo>
                  <a:pt x="6711" y="8823"/>
                  <a:pt x="6289" y="8925"/>
                  <a:pt x="5928" y="8954"/>
                </a:cubicBezTo>
                <a:cubicBezTo>
                  <a:pt x="5607" y="8980"/>
                  <a:pt x="5301" y="9019"/>
                  <a:pt x="4986" y="9079"/>
                </a:cubicBezTo>
                <a:cubicBezTo>
                  <a:pt x="4809" y="9113"/>
                  <a:pt x="4643" y="9168"/>
                  <a:pt x="4465" y="9203"/>
                </a:cubicBezTo>
                <a:cubicBezTo>
                  <a:pt x="4316" y="9232"/>
                  <a:pt x="4166" y="9227"/>
                  <a:pt x="4018" y="9252"/>
                </a:cubicBezTo>
                <a:cubicBezTo>
                  <a:pt x="3895" y="9273"/>
                  <a:pt x="3786" y="9331"/>
                  <a:pt x="3671" y="93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15920" y="4438800"/>
            <a:ext cx="6438960" cy="2232000"/>
          </a:xfrm>
          <a:custGeom>
            <a:avLst/>
            <a:gdLst/>
            <a:ahLst/>
            <a:rect l="l" t="t" r="r" b="b"/>
            <a:pathLst>
              <a:path w="17886" h="6202">
                <a:moveTo>
                  <a:pt x="6921" y="12427"/>
                </a:moveTo>
                <a:cubicBezTo>
                  <a:pt x="6876" y="12582"/>
                  <a:pt x="6828" y="12723"/>
                  <a:pt x="6772" y="12874"/>
                </a:cubicBezTo>
              </a:path>
              <a:path w="17886" h="6202">
                <a:moveTo>
                  <a:pt x="7342" y="12402"/>
                </a:moveTo>
                <a:cubicBezTo>
                  <a:pt x="7334" y="12419"/>
                  <a:pt x="7325" y="12435"/>
                  <a:pt x="7317" y="12452"/>
                </a:cubicBezTo>
                <a:cubicBezTo>
                  <a:pt x="7427" y="12485"/>
                  <a:pt x="7594" y="12497"/>
                  <a:pt x="7689" y="12402"/>
                </a:cubicBezTo>
                <a:cubicBezTo>
                  <a:pt x="7697" y="12377"/>
                  <a:pt x="7706" y="12353"/>
                  <a:pt x="7714" y="12328"/>
                </a:cubicBezTo>
              </a:path>
              <a:path w="17886" h="6202">
                <a:moveTo>
                  <a:pt x="1339" y="14312"/>
                </a:moveTo>
                <a:lnTo>
                  <a:pt x="1339" y="14312"/>
                </a:lnTo>
              </a:path>
              <a:path w="17886" h="6202">
                <a:moveTo>
                  <a:pt x="322" y="12973"/>
                </a:moveTo>
                <a:cubicBezTo>
                  <a:pt x="351" y="13117"/>
                  <a:pt x="387" y="13248"/>
                  <a:pt x="397" y="13395"/>
                </a:cubicBezTo>
              </a:path>
              <a:path w="17886" h="6202">
                <a:moveTo>
                  <a:pt x="5556" y="14610"/>
                </a:moveTo>
                <a:cubicBezTo>
                  <a:pt x="5658" y="14593"/>
                  <a:pt x="5754" y="14542"/>
                  <a:pt x="5854" y="14511"/>
                </a:cubicBezTo>
              </a:path>
              <a:path w="17886" h="6202">
                <a:moveTo>
                  <a:pt x="7689" y="12998"/>
                </a:moveTo>
                <a:cubicBezTo>
                  <a:pt x="7665" y="13106"/>
                  <a:pt x="7644" y="13213"/>
                  <a:pt x="7615" y="13320"/>
                </a:cubicBezTo>
              </a:path>
              <a:path w="17886" h="6202">
                <a:moveTo>
                  <a:pt x="17810" y="14709"/>
                </a:moveTo>
                <a:cubicBezTo>
                  <a:pt x="17878" y="14865"/>
                  <a:pt x="17891" y="14919"/>
                  <a:pt x="18033" y="15007"/>
                </a:cubicBezTo>
                <a:cubicBezTo>
                  <a:pt x="18158" y="14927"/>
                  <a:pt x="18181" y="14842"/>
                  <a:pt x="18207" y="14684"/>
                </a:cubicBezTo>
              </a:path>
              <a:path w="17886" h="6202">
                <a:moveTo>
                  <a:pt x="5904" y="18479"/>
                </a:moveTo>
                <a:cubicBezTo>
                  <a:pt x="5904" y="18514"/>
                  <a:pt x="5895" y="18527"/>
                  <a:pt x="5854" y="185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33200" y="2919240"/>
            <a:ext cx="911520" cy="2617920"/>
          </a:xfrm>
          <a:custGeom>
            <a:avLst/>
            <a:gdLst/>
            <a:ahLst/>
            <a:rect l="l" t="t" r="r" b="b"/>
            <a:pathLst>
              <a:path w="2531" h="7269">
                <a:moveTo>
                  <a:pt x="2604" y="8111"/>
                </a:moveTo>
                <a:cubicBezTo>
                  <a:pt x="2604" y="8202"/>
                  <a:pt x="2604" y="8293"/>
                  <a:pt x="2604" y="8384"/>
                </a:cubicBezTo>
                <a:cubicBezTo>
                  <a:pt x="2746" y="8364"/>
                  <a:pt x="2794" y="8318"/>
                  <a:pt x="2853" y="8186"/>
                </a:cubicBezTo>
                <a:cubicBezTo>
                  <a:pt x="2853" y="8178"/>
                  <a:pt x="2853" y="8169"/>
                  <a:pt x="2853" y="8161"/>
                </a:cubicBezTo>
                <a:cubicBezTo>
                  <a:pt x="2729" y="8269"/>
                  <a:pt x="2727" y="8322"/>
                  <a:pt x="2828" y="8434"/>
                </a:cubicBezTo>
              </a:path>
              <a:path w="2531" h="7269">
                <a:moveTo>
                  <a:pt x="2654" y="12774"/>
                </a:moveTo>
                <a:cubicBezTo>
                  <a:pt x="2672" y="12864"/>
                  <a:pt x="2666" y="12891"/>
                  <a:pt x="2778" y="12874"/>
                </a:cubicBezTo>
                <a:cubicBezTo>
                  <a:pt x="2850" y="12850"/>
                  <a:pt x="2873" y="12844"/>
                  <a:pt x="2902" y="12799"/>
                </a:cubicBezTo>
              </a:path>
              <a:path w="2531" h="7269">
                <a:moveTo>
                  <a:pt x="2902" y="12626"/>
                </a:moveTo>
                <a:cubicBezTo>
                  <a:pt x="2902" y="12761"/>
                  <a:pt x="2909" y="12953"/>
                  <a:pt x="2877" y="13047"/>
                </a:cubicBezTo>
                <a:cubicBezTo>
                  <a:pt x="2877" y="13055"/>
                  <a:pt x="2877" y="13064"/>
                  <a:pt x="2877" y="13072"/>
                </a:cubicBezTo>
              </a:path>
              <a:path w="2531" h="7269">
                <a:moveTo>
                  <a:pt x="2729" y="12576"/>
                </a:moveTo>
                <a:cubicBezTo>
                  <a:pt x="2695" y="12632"/>
                  <a:pt x="2689" y="12703"/>
                  <a:pt x="2679" y="12774"/>
                </a:cubicBezTo>
              </a:path>
              <a:path w="2531" h="7269">
                <a:moveTo>
                  <a:pt x="471" y="13568"/>
                </a:moveTo>
                <a:cubicBezTo>
                  <a:pt x="659" y="13662"/>
                  <a:pt x="704" y="13767"/>
                  <a:pt x="595" y="13965"/>
                </a:cubicBezTo>
                <a:cubicBezTo>
                  <a:pt x="508" y="14074"/>
                  <a:pt x="493" y="14111"/>
                  <a:pt x="397" y="14114"/>
                </a:cubicBezTo>
                <a:cubicBezTo>
                  <a:pt x="359" y="13981"/>
                  <a:pt x="448" y="13892"/>
                  <a:pt x="595" y="13940"/>
                </a:cubicBezTo>
                <a:cubicBezTo>
                  <a:pt x="659" y="13982"/>
                  <a:pt x="670" y="13999"/>
                  <a:pt x="719" y="13990"/>
                </a:cubicBezTo>
              </a:path>
              <a:path w="2531" h="7269">
                <a:moveTo>
                  <a:pt x="769" y="13494"/>
                </a:moveTo>
                <a:cubicBezTo>
                  <a:pt x="798" y="13551"/>
                  <a:pt x="889" y="13769"/>
                  <a:pt x="992" y="13643"/>
                </a:cubicBezTo>
                <a:cubicBezTo>
                  <a:pt x="1009" y="13602"/>
                  <a:pt x="1025" y="13560"/>
                  <a:pt x="1042" y="13519"/>
                </a:cubicBezTo>
              </a:path>
              <a:path w="2531" h="7269">
                <a:moveTo>
                  <a:pt x="967" y="13395"/>
                </a:moveTo>
                <a:cubicBezTo>
                  <a:pt x="1007" y="13570"/>
                  <a:pt x="1049" y="13738"/>
                  <a:pt x="1067" y="13915"/>
                </a:cubicBezTo>
              </a:path>
              <a:path w="2531" h="7269">
                <a:moveTo>
                  <a:pt x="1067" y="14114"/>
                </a:moveTo>
                <a:cubicBezTo>
                  <a:pt x="1067" y="14131"/>
                  <a:pt x="1076" y="14239"/>
                  <a:pt x="1091" y="14238"/>
                </a:cubicBezTo>
                <a:cubicBezTo>
                  <a:pt x="1285" y="14229"/>
                  <a:pt x="1283" y="14082"/>
                  <a:pt x="1265" y="13940"/>
                </a:cubicBezTo>
              </a:path>
              <a:path w="2531" h="7269">
                <a:moveTo>
                  <a:pt x="1240" y="13965"/>
                </a:moveTo>
                <a:cubicBezTo>
                  <a:pt x="1254" y="14090"/>
                  <a:pt x="1269" y="14206"/>
                  <a:pt x="1339" y="14312"/>
                </a:cubicBezTo>
              </a:path>
              <a:path w="2531" h="7269">
                <a:moveTo>
                  <a:pt x="496" y="15007"/>
                </a:moveTo>
                <a:cubicBezTo>
                  <a:pt x="847" y="14813"/>
                  <a:pt x="1130" y="14556"/>
                  <a:pt x="1463" y="14337"/>
                </a:cubicBezTo>
                <a:cubicBezTo>
                  <a:pt x="1537" y="14301"/>
                  <a:pt x="1570" y="14255"/>
                  <a:pt x="1563" y="14312"/>
                </a:cubicBezTo>
              </a:path>
              <a:path w="2531" h="7269">
                <a:moveTo>
                  <a:pt x="1439" y="14734"/>
                </a:moveTo>
                <a:cubicBezTo>
                  <a:pt x="1439" y="14841"/>
                  <a:pt x="1439" y="14949"/>
                  <a:pt x="1439" y="15056"/>
                </a:cubicBezTo>
                <a:cubicBezTo>
                  <a:pt x="1619" y="15045"/>
                  <a:pt x="1658" y="15042"/>
                  <a:pt x="1687" y="14858"/>
                </a:cubicBezTo>
                <a:cubicBezTo>
                  <a:pt x="1616" y="14846"/>
                  <a:pt x="1555" y="14887"/>
                  <a:pt x="1538" y="14982"/>
                </a:cubicBezTo>
                <a:cubicBezTo>
                  <a:pt x="1538" y="14990"/>
                  <a:pt x="1538" y="14999"/>
                  <a:pt x="1538" y="15007"/>
                </a:cubicBezTo>
              </a:path>
              <a:path w="2531" h="7269">
                <a:moveTo>
                  <a:pt x="1215" y="15056"/>
                </a:moveTo>
                <a:cubicBezTo>
                  <a:pt x="1215" y="14985"/>
                  <a:pt x="1228" y="14928"/>
                  <a:pt x="1141" y="14908"/>
                </a:cubicBezTo>
                <a:cubicBezTo>
                  <a:pt x="1124" y="14908"/>
                  <a:pt x="1108" y="14908"/>
                  <a:pt x="1091" y="14908"/>
                </a:cubicBezTo>
                <a:cubicBezTo>
                  <a:pt x="1062" y="14981"/>
                  <a:pt x="963" y="15260"/>
                  <a:pt x="1166" y="15180"/>
                </a:cubicBezTo>
                <a:cubicBezTo>
                  <a:pt x="1268" y="15104"/>
                  <a:pt x="1302" y="15076"/>
                  <a:pt x="1315" y="14982"/>
                </a:cubicBezTo>
                <a:cubicBezTo>
                  <a:pt x="1323" y="14965"/>
                  <a:pt x="1331" y="14949"/>
                  <a:pt x="1339" y="14932"/>
                </a:cubicBezTo>
                <a:cubicBezTo>
                  <a:pt x="1339" y="15081"/>
                  <a:pt x="1339" y="15230"/>
                  <a:pt x="1339" y="153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438200" y="5045040"/>
            <a:ext cx="990720" cy="527040"/>
          </a:xfrm>
          <a:custGeom>
            <a:avLst/>
            <a:gdLst/>
            <a:ahLst/>
            <a:rect l="l" t="t" r="r" b="b"/>
            <a:pathLst>
              <a:path w="2754" h="1464">
                <a:moveTo>
                  <a:pt x="4589" y="14709"/>
                </a:moveTo>
                <a:cubicBezTo>
                  <a:pt x="4563" y="14617"/>
                  <a:pt x="4517" y="14400"/>
                  <a:pt x="4440" y="14337"/>
                </a:cubicBezTo>
                <a:cubicBezTo>
                  <a:pt x="4407" y="14329"/>
                  <a:pt x="4374" y="14320"/>
                  <a:pt x="4341" y="14312"/>
                </a:cubicBezTo>
                <a:cubicBezTo>
                  <a:pt x="4296" y="14386"/>
                  <a:pt x="4073" y="14746"/>
                  <a:pt x="4291" y="14784"/>
                </a:cubicBezTo>
                <a:cubicBezTo>
                  <a:pt x="4409" y="14804"/>
                  <a:pt x="4518" y="14578"/>
                  <a:pt x="4564" y="14511"/>
                </a:cubicBezTo>
                <a:cubicBezTo>
                  <a:pt x="4564" y="14503"/>
                  <a:pt x="4564" y="14494"/>
                  <a:pt x="4564" y="14486"/>
                </a:cubicBezTo>
                <a:cubicBezTo>
                  <a:pt x="4564" y="14666"/>
                  <a:pt x="4539" y="14830"/>
                  <a:pt x="4514" y="15007"/>
                </a:cubicBezTo>
                <a:cubicBezTo>
                  <a:pt x="4514" y="15042"/>
                  <a:pt x="4519" y="15041"/>
                  <a:pt x="4539" y="14982"/>
                </a:cubicBezTo>
              </a:path>
              <a:path w="2754" h="1464">
                <a:moveTo>
                  <a:pt x="4812" y="14412"/>
                </a:moveTo>
                <a:cubicBezTo>
                  <a:pt x="4804" y="14605"/>
                  <a:pt x="4701" y="14901"/>
                  <a:pt x="4787" y="15081"/>
                </a:cubicBezTo>
                <a:cubicBezTo>
                  <a:pt x="4812" y="15098"/>
                  <a:pt x="4837" y="15114"/>
                  <a:pt x="4862" y="15131"/>
                </a:cubicBezTo>
                <a:cubicBezTo>
                  <a:pt x="5076" y="15078"/>
                  <a:pt x="5084" y="15002"/>
                  <a:pt x="5060" y="14784"/>
                </a:cubicBezTo>
                <a:cubicBezTo>
                  <a:pt x="4926" y="14829"/>
                  <a:pt x="4924" y="14891"/>
                  <a:pt x="4911" y="15032"/>
                </a:cubicBezTo>
              </a:path>
              <a:path w="2754" h="1464">
                <a:moveTo>
                  <a:pt x="5507" y="14808"/>
                </a:moveTo>
                <a:cubicBezTo>
                  <a:pt x="5646" y="14784"/>
                  <a:pt x="5750" y="14762"/>
                  <a:pt x="5879" y="14709"/>
                </a:cubicBezTo>
              </a:path>
              <a:path w="2754" h="1464">
                <a:moveTo>
                  <a:pt x="4018" y="14015"/>
                </a:moveTo>
                <a:cubicBezTo>
                  <a:pt x="4005" y="14065"/>
                  <a:pt x="3983" y="14059"/>
                  <a:pt x="3994" y="14188"/>
                </a:cubicBezTo>
                <a:cubicBezTo>
                  <a:pt x="4030" y="14597"/>
                  <a:pt x="4068" y="14993"/>
                  <a:pt x="4068" y="15404"/>
                </a:cubicBezTo>
                <a:cubicBezTo>
                  <a:pt x="4068" y="15412"/>
                  <a:pt x="4068" y="15421"/>
                  <a:pt x="4068" y="15429"/>
                </a:cubicBezTo>
                <a:cubicBezTo>
                  <a:pt x="4353" y="15504"/>
                  <a:pt x="4643" y="15454"/>
                  <a:pt x="4936" y="15429"/>
                </a:cubicBezTo>
                <a:cubicBezTo>
                  <a:pt x="5440" y="15385"/>
                  <a:pt x="6170" y="15171"/>
                  <a:pt x="6672" y="15304"/>
                </a:cubicBezTo>
                <a:cubicBezTo>
                  <a:pt x="6672" y="15312"/>
                  <a:pt x="6672" y="15321"/>
                  <a:pt x="6672" y="15329"/>
                </a:cubicBezTo>
                <a:cubicBezTo>
                  <a:pt x="6682" y="15114"/>
                  <a:pt x="6704" y="14899"/>
                  <a:pt x="6722" y="14684"/>
                </a:cubicBezTo>
                <a:cubicBezTo>
                  <a:pt x="6741" y="14453"/>
                  <a:pt x="6750" y="14420"/>
                  <a:pt x="6747" y="14288"/>
                </a:cubicBezTo>
                <a:cubicBezTo>
                  <a:pt x="6335" y="14288"/>
                  <a:pt x="5940" y="14226"/>
                  <a:pt x="5531" y="14188"/>
                </a:cubicBezTo>
                <a:cubicBezTo>
                  <a:pt x="5086" y="14147"/>
                  <a:pt x="4506" y="14047"/>
                  <a:pt x="4068" y="14188"/>
                </a:cubicBezTo>
                <a:cubicBezTo>
                  <a:pt x="4043" y="14188"/>
                  <a:pt x="4035" y="14188"/>
                  <a:pt x="4043" y="142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463840" y="3857760"/>
            <a:ext cx="617400" cy="803160"/>
          </a:xfrm>
          <a:custGeom>
            <a:avLst/>
            <a:gdLst/>
            <a:ahLst/>
            <a:rect l="l" t="t" r="r" b="b"/>
            <a:pathLst>
              <a:path w="1713" h="2233">
                <a:moveTo>
                  <a:pt x="6846" y="12452"/>
                </a:moveTo>
                <a:cubicBezTo>
                  <a:pt x="6878" y="12507"/>
                  <a:pt x="7020" y="12790"/>
                  <a:pt x="7020" y="12774"/>
                </a:cubicBezTo>
              </a:path>
              <a:path w="1713" h="2233">
                <a:moveTo>
                  <a:pt x="7590" y="12278"/>
                </a:moveTo>
                <a:cubicBezTo>
                  <a:pt x="7582" y="12371"/>
                  <a:pt x="7565" y="12738"/>
                  <a:pt x="7565" y="12750"/>
                </a:cubicBezTo>
              </a:path>
              <a:path w="1713" h="2233">
                <a:moveTo>
                  <a:pt x="7367" y="12948"/>
                </a:moveTo>
                <a:cubicBezTo>
                  <a:pt x="7547" y="12898"/>
                  <a:pt x="7733" y="12832"/>
                  <a:pt x="7913" y="12799"/>
                </a:cubicBezTo>
              </a:path>
              <a:path w="1713" h="2233">
                <a:moveTo>
                  <a:pt x="8483" y="10740"/>
                </a:moveTo>
                <a:cubicBezTo>
                  <a:pt x="8447" y="10729"/>
                  <a:pt x="8432" y="10748"/>
                  <a:pt x="8434" y="10840"/>
                </a:cubicBezTo>
                <a:cubicBezTo>
                  <a:pt x="8444" y="11234"/>
                  <a:pt x="8502" y="11617"/>
                  <a:pt x="8558" y="12005"/>
                </a:cubicBezTo>
                <a:cubicBezTo>
                  <a:pt x="8558" y="12013"/>
                  <a:pt x="8558" y="12022"/>
                  <a:pt x="8558" y="12030"/>
                </a:cubicBezTo>
                <a:cubicBezTo>
                  <a:pt x="8558" y="11838"/>
                  <a:pt x="8521" y="11673"/>
                  <a:pt x="8483" y="11485"/>
                </a:cubicBezTo>
                <a:cubicBezTo>
                  <a:pt x="8439" y="11260"/>
                  <a:pt x="8429" y="11201"/>
                  <a:pt x="8384" y="110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187720" y="5187960"/>
            <a:ext cx="187200" cy="420840"/>
          </a:xfrm>
          <a:custGeom>
            <a:avLst/>
            <a:gdLst/>
            <a:ahLst/>
            <a:rect l="l" t="t" r="r" b="b"/>
            <a:pathLst>
              <a:path w="522" h="1166">
                <a:moveTo>
                  <a:pt x="6251" y="14536"/>
                </a:moveTo>
                <a:cubicBezTo>
                  <a:pt x="6266" y="14683"/>
                  <a:pt x="6252" y="14706"/>
                  <a:pt x="6375" y="14784"/>
                </a:cubicBezTo>
                <a:cubicBezTo>
                  <a:pt x="6539" y="14688"/>
                  <a:pt x="6536" y="14604"/>
                  <a:pt x="6548" y="14412"/>
                </a:cubicBezTo>
                <a:cubicBezTo>
                  <a:pt x="6558" y="14567"/>
                  <a:pt x="6600" y="14728"/>
                  <a:pt x="6598" y="14883"/>
                </a:cubicBezTo>
                <a:cubicBezTo>
                  <a:pt x="6594" y="15202"/>
                  <a:pt x="6546" y="15559"/>
                  <a:pt x="6152" y="15577"/>
                </a:cubicBezTo>
                <a:cubicBezTo>
                  <a:pt x="6127" y="15561"/>
                  <a:pt x="6102" y="15544"/>
                  <a:pt x="6077" y="155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419200" y="2786040"/>
            <a:ext cx="54000" cy="108000"/>
          </a:xfrm>
          <a:custGeom>
            <a:avLst/>
            <a:gdLst/>
            <a:ahLst/>
            <a:rect l="l" t="t" r="r" b="b"/>
            <a:pathLst>
              <a:path w="150" h="299">
                <a:moveTo>
                  <a:pt x="6871" y="7739"/>
                </a:moveTo>
                <a:cubicBezTo>
                  <a:pt x="6837" y="7806"/>
                  <a:pt x="6736" y="7993"/>
                  <a:pt x="6747" y="80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652840" y="2660760"/>
            <a:ext cx="125280" cy="188640"/>
          </a:xfrm>
          <a:custGeom>
            <a:avLst/>
            <a:gdLst/>
            <a:ahLst/>
            <a:rect l="l" t="t" r="r" b="b"/>
            <a:pathLst>
              <a:path w="348" h="522">
                <a:moveTo>
                  <a:pt x="7367" y="7392"/>
                </a:moveTo>
                <a:cubicBezTo>
                  <a:pt x="7367" y="7541"/>
                  <a:pt x="7328" y="7731"/>
                  <a:pt x="7417" y="7863"/>
                </a:cubicBezTo>
                <a:cubicBezTo>
                  <a:pt x="7543" y="8049"/>
                  <a:pt x="7709" y="7746"/>
                  <a:pt x="7714" y="7640"/>
                </a:cubicBezTo>
                <a:cubicBezTo>
                  <a:pt x="7715" y="7625"/>
                  <a:pt x="7576" y="7781"/>
                  <a:pt x="7565" y="78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724280" y="776160"/>
            <a:ext cx="160560" cy="5278680"/>
          </a:xfrm>
          <a:custGeom>
            <a:avLst/>
            <a:gdLst/>
            <a:ahLst/>
            <a:rect l="l" t="t" r="r" b="b"/>
            <a:pathLst>
              <a:path w="447" h="14661">
                <a:moveTo>
                  <a:pt x="13568" y="2158"/>
                </a:moveTo>
                <a:cubicBezTo>
                  <a:pt x="13541" y="2312"/>
                  <a:pt x="13504" y="2513"/>
                  <a:pt x="13469" y="2679"/>
                </a:cubicBezTo>
                <a:cubicBezTo>
                  <a:pt x="13195" y="3966"/>
                  <a:pt x="13128" y="5180"/>
                  <a:pt x="13171" y="6499"/>
                </a:cubicBezTo>
                <a:cubicBezTo>
                  <a:pt x="13199" y="7367"/>
                  <a:pt x="13142" y="8213"/>
                  <a:pt x="13122" y="9079"/>
                </a:cubicBezTo>
                <a:cubicBezTo>
                  <a:pt x="13103" y="9898"/>
                  <a:pt x="13151" y="10717"/>
                  <a:pt x="13196" y="11534"/>
                </a:cubicBezTo>
                <a:cubicBezTo>
                  <a:pt x="13221" y="11983"/>
                  <a:pt x="13286" y="12426"/>
                  <a:pt x="13320" y="12874"/>
                </a:cubicBezTo>
                <a:cubicBezTo>
                  <a:pt x="13354" y="13318"/>
                  <a:pt x="13403" y="13771"/>
                  <a:pt x="13419" y="14213"/>
                </a:cubicBezTo>
                <a:cubicBezTo>
                  <a:pt x="13435" y="14676"/>
                  <a:pt x="13363" y="15140"/>
                  <a:pt x="13345" y="15602"/>
                </a:cubicBezTo>
                <a:cubicBezTo>
                  <a:pt x="13330" y="16001"/>
                  <a:pt x="13410" y="16436"/>
                  <a:pt x="13444" y="168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380520" y="152280"/>
            <a:ext cx="7543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xamples: Solving Division Equa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7.)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.)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9.)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1066680" y="762120"/>
          <a:ext cx="1206720" cy="95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762120"/>
                    <a:ext cx="120672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1143000" y="2362320"/>
          <a:ext cx="1193760" cy="95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2362320"/>
                    <a:ext cx="119376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1143000" y="4038480"/>
          <a:ext cx="1359000" cy="952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4038480"/>
                    <a:ext cx="135900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"/>
          <p:cNvSpPr/>
          <p:nvPr/>
        </p:nvSpPr>
        <p:spPr>
          <a:xfrm>
            <a:off x="5313240" y="3463920"/>
            <a:ext cx="2347920" cy="893880"/>
          </a:xfrm>
          <a:custGeom>
            <a:avLst/>
            <a:gdLst/>
            <a:ahLst/>
            <a:rect l="l" t="t" r="r" b="b"/>
            <a:pathLst>
              <a:path w="6524" h="2482">
                <a:moveTo>
                  <a:pt x="14759" y="12005"/>
                </a:moveTo>
                <a:lnTo>
                  <a:pt x="14759" y="12005"/>
                </a:lnTo>
                <a:lnTo>
                  <a:pt x="14759" y="12005"/>
                </a:lnTo>
              </a:path>
              <a:path w="6524" h="2482">
                <a:moveTo>
                  <a:pt x="14759" y="12005"/>
                </a:moveTo>
                <a:lnTo>
                  <a:pt x="14759" y="12005"/>
                </a:lnTo>
              </a:path>
              <a:path w="6524" h="2482">
                <a:moveTo>
                  <a:pt x="15056" y="12105"/>
                </a:moveTo>
                <a:lnTo>
                  <a:pt x="15056" y="12105"/>
                </a:lnTo>
              </a:path>
              <a:path w="6524" h="2482">
                <a:moveTo>
                  <a:pt x="15255" y="11683"/>
                </a:moveTo>
                <a:cubicBezTo>
                  <a:pt x="15339" y="11734"/>
                  <a:pt x="15509" y="11807"/>
                  <a:pt x="15429" y="11931"/>
                </a:cubicBezTo>
                <a:cubicBezTo>
                  <a:pt x="15354" y="11969"/>
                  <a:pt x="15317" y="11957"/>
                  <a:pt x="15280" y="11857"/>
                </a:cubicBezTo>
              </a:path>
              <a:path w="6524" h="2482">
                <a:moveTo>
                  <a:pt x="15379" y="11485"/>
                </a:moveTo>
                <a:cubicBezTo>
                  <a:pt x="15447" y="11485"/>
                  <a:pt x="15468" y="11479"/>
                  <a:pt x="15478" y="11534"/>
                </a:cubicBezTo>
              </a:path>
              <a:path w="6524" h="2482">
                <a:moveTo>
                  <a:pt x="15478" y="11534"/>
                </a:moveTo>
                <a:lnTo>
                  <a:pt x="15478" y="11534"/>
                </a:lnTo>
              </a:path>
              <a:path w="6524" h="2482">
                <a:moveTo>
                  <a:pt x="20811" y="10120"/>
                </a:moveTo>
                <a:cubicBezTo>
                  <a:pt x="20768" y="10258"/>
                  <a:pt x="20630" y="10662"/>
                  <a:pt x="20712" y="10542"/>
                </a:cubicBezTo>
                <a:cubicBezTo>
                  <a:pt x="20720" y="10517"/>
                  <a:pt x="20729" y="10493"/>
                  <a:pt x="20737" y="10468"/>
                </a:cubicBezTo>
              </a:path>
              <a:path w="6524" h="2482">
                <a:moveTo>
                  <a:pt x="20985" y="10120"/>
                </a:moveTo>
                <a:cubicBezTo>
                  <a:pt x="21106" y="10046"/>
                  <a:pt x="21176" y="9978"/>
                  <a:pt x="21282" y="10071"/>
                </a:cubicBezTo>
              </a:path>
              <a:path w="6524" h="2482">
                <a:moveTo>
                  <a:pt x="20836" y="9624"/>
                </a:moveTo>
                <a:cubicBezTo>
                  <a:pt x="20772" y="9767"/>
                  <a:pt x="20770" y="9935"/>
                  <a:pt x="20762" y="10096"/>
                </a:cubicBezTo>
              </a:path>
              <a:path w="6524" h="2482">
                <a:moveTo>
                  <a:pt x="19918" y="11460"/>
                </a:moveTo>
                <a:cubicBezTo>
                  <a:pt x="19878" y="11629"/>
                  <a:pt x="19857" y="11792"/>
                  <a:pt x="19794" y="119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180040" y="3732120"/>
            <a:ext cx="1481040" cy="723960"/>
          </a:xfrm>
          <a:custGeom>
            <a:avLst/>
            <a:gdLst/>
            <a:ahLst/>
            <a:rect l="l" t="t" r="r" b="b"/>
            <a:pathLst>
              <a:path w="4118" h="2011">
                <a:moveTo>
                  <a:pt x="16272" y="11633"/>
                </a:moveTo>
                <a:cubicBezTo>
                  <a:pt x="16307" y="11622"/>
                  <a:pt x="16297" y="11626"/>
                  <a:pt x="16297" y="11584"/>
                </a:cubicBezTo>
                <a:cubicBezTo>
                  <a:pt x="16297" y="11791"/>
                  <a:pt x="16190" y="11944"/>
                  <a:pt x="16123" y="12129"/>
                </a:cubicBezTo>
                <a:cubicBezTo>
                  <a:pt x="16104" y="12204"/>
                  <a:pt x="16096" y="12263"/>
                  <a:pt x="16098" y="12204"/>
                </a:cubicBezTo>
              </a:path>
              <a:path w="4118" h="2011">
                <a:moveTo>
                  <a:pt x="16470" y="11633"/>
                </a:moveTo>
                <a:cubicBezTo>
                  <a:pt x="16382" y="11810"/>
                  <a:pt x="16299" y="11959"/>
                  <a:pt x="16371" y="12129"/>
                </a:cubicBezTo>
                <a:cubicBezTo>
                  <a:pt x="16539" y="12050"/>
                  <a:pt x="16739" y="11885"/>
                  <a:pt x="16545" y="11683"/>
                </a:cubicBezTo>
                <a:cubicBezTo>
                  <a:pt x="16472" y="11646"/>
                  <a:pt x="16467" y="11629"/>
                  <a:pt x="16421" y="11633"/>
                </a:cubicBezTo>
              </a:path>
              <a:path w="4118" h="2011">
                <a:moveTo>
                  <a:pt x="17016" y="11559"/>
                </a:moveTo>
                <a:cubicBezTo>
                  <a:pt x="17104" y="11500"/>
                  <a:pt x="17123" y="11474"/>
                  <a:pt x="17214" y="11485"/>
                </a:cubicBezTo>
                <a:cubicBezTo>
                  <a:pt x="17222" y="11589"/>
                  <a:pt x="17227" y="11663"/>
                  <a:pt x="17115" y="11708"/>
                </a:cubicBezTo>
                <a:cubicBezTo>
                  <a:pt x="17261" y="11664"/>
                  <a:pt x="17412" y="11723"/>
                  <a:pt x="17289" y="11906"/>
                </a:cubicBezTo>
                <a:cubicBezTo>
                  <a:pt x="17178" y="12071"/>
                  <a:pt x="17117" y="11969"/>
                  <a:pt x="17066" y="11881"/>
                </a:cubicBezTo>
              </a:path>
              <a:path w="4118" h="2011">
                <a:moveTo>
                  <a:pt x="17512" y="11435"/>
                </a:moveTo>
                <a:cubicBezTo>
                  <a:pt x="17495" y="11492"/>
                  <a:pt x="17473" y="11553"/>
                  <a:pt x="17462" y="11609"/>
                </a:cubicBezTo>
                <a:cubicBezTo>
                  <a:pt x="17603" y="11652"/>
                  <a:pt x="17774" y="11702"/>
                  <a:pt x="17636" y="11881"/>
                </a:cubicBezTo>
                <a:cubicBezTo>
                  <a:pt x="17556" y="11935"/>
                  <a:pt x="17524" y="11949"/>
                  <a:pt x="17462" y="11881"/>
                </a:cubicBezTo>
              </a:path>
              <a:path w="4118" h="2011">
                <a:moveTo>
                  <a:pt x="17636" y="11385"/>
                </a:moveTo>
                <a:cubicBezTo>
                  <a:pt x="17767" y="11339"/>
                  <a:pt x="17970" y="11277"/>
                  <a:pt x="17835" y="11311"/>
                </a:cubicBezTo>
              </a:path>
              <a:path w="4118" h="2011">
                <a:moveTo>
                  <a:pt x="15776" y="12378"/>
                </a:moveTo>
                <a:cubicBezTo>
                  <a:pt x="15839" y="12260"/>
                  <a:pt x="15868" y="12071"/>
                  <a:pt x="15875" y="11906"/>
                </a:cubicBezTo>
                <a:cubicBezTo>
                  <a:pt x="15882" y="11738"/>
                  <a:pt x="15833" y="11389"/>
                  <a:pt x="15949" y="11237"/>
                </a:cubicBezTo>
                <a:cubicBezTo>
                  <a:pt x="16095" y="11045"/>
                  <a:pt x="16918" y="11129"/>
                  <a:pt x="17115" y="11112"/>
                </a:cubicBezTo>
                <a:cubicBezTo>
                  <a:pt x="17577" y="11072"/>
                  <a:pt x="18057" y="10985"/>
                  <a:pt x="18504" y="11013"/>
                </a:cubicBezTo>
                <a:cubicBezTo>
                  <a:pt x="18496" y="11013"/>
                  <a:pt x="18487" y="11013"/>
                  <a:pt x="18479" y="11013"/>
                </a:cubicBezTo>
              </a:path>
              <a:path w="4118" h="2011">
                <a:moveTo>
                  <a:pt x="14461" y="11658"/>
                </a:moveTo>
                <a:cubicBezTo>
                  <a:pt x="14483" y="11570"/>
                  <a:pt x="14554" y="11563"/>
                  <a:pt x="14635" y="11534"/>
                </a:cubicBezTo>
                <a:cubicBezTo>
                  <a:pt x="14726" y="11688"/>
                  <a:pt x="14648" y="11750"/>
                  <a:pt x="14536" y="11881"/>
                </a:cubicBezTo>
                <a:cubicBezTo>
                  <a:pt x="14653" y="11768"/>
                  <a:pt x="14649" y="12039"/>
                  <a:pt x="14610" y="12105"/>
                </a:cubicBezTo>
                <a:cubicBezTo>
                  <a:pt x="14528" y="12242"/>
                  <a:pt x="14411" y="12224"/>
                  <a:pt x="14387" y="12105"/>
                </a:cubicBezTo>
              </a:path>
              <a:path w="4118" h="2011">
                <a:moveTo>
                  <a:pt x="14908" y="11733"/>
                </a:moveTo>
                <a:cubicBezTo>
                  <a:pt x="14908" y="11774"/>
                  <a:pt x="14908" y="11816"/>
                  <a:pt x="14908" y="11857"/>
                </a:cubicBezTo>
                <a:cubicBezTo>
                  <a:pt x="15018" y="11857"/>
                  <a:pt x="15158" y="11885"/>
                  <a:pt x="15180" y="11733"/>
                </a:cubicBezTo>
                <a:cubicBezTo>
                  <a:pt x="15172" y="11708"/>
                  <a:pt x="15164" y="11683"/>
                  <a:pt x="15156" y="11658"/>
                </a:cubicBezTo>
              </a:path>
              <a:path w="4118" h="2011">
                <a:moveTo>
                  <a:pt x="15131" y="11658"/>
                </a:moveTo>
                <a:cubicBezTo>
                  <a:pt x="15100" y="11806"/>
                  <a:pt x="15070" y="11955"/>
                  <a:pt x="15056" y="12105"/>
                </a:cubicBezTo>
              </a:path>
              <a:path w="4118" h="2011">
                <a:moveTo>
                  <a:pt x="15478" y="11485"/>
                </a:moveTo>
                <a:cubicBezTo>
                  <a:pt x="15470" y="11477"/>
                  <a:pt x="15461" y="11468"/>
                  <a:pt x="15453" y="11460"/>
                </a:cubicBezTo>
                <a:cubicBezTo>
                  <a:pt x="15420" y="11480"/>
                  <a:pt x="15323" y="11466"/>
                  <a:pt x="15304" y="11485"/>
                </a:cubicBezTo>
                <a:cubicBezTo>
                  <a:pt x="15258" y="11531"/>
                  <a:pt x="15266" y="11653"/>
                  <a:pt x="15255" y="11708"/>
                </a:cubicBezTo>
                <a:cubicBezTo>
                  <a:pt x="15255" y="11716"/>
                  <a:pt x="15255" y="11725"/>
                  <a:pt x="15255" y="11733"/>
                </a:cubicBezTo>
              </a:path>
              <a:path w="4118" h="2011">
                <a:moveTo>
                  <a:pt x="14734" y="12030"/>
                </a:moveTo>
                <a:cubicBezTo>
                  <a:pt x="14815" y="12030"/>
                  <a:pt x="14806" y="12092"/>
                  <a:pt x="14858" y="12154"/>
                </a:cubicBezTo>
                <a:cubicBezTo>
                  <a:pt x="14968" y="12285"/>
                  <a:pt x="15091" y="12267"/>
                  <a:pt x="15230" y="12179"/>
                </a:cubicBezTo>
                <a:cubicBezTo>
                  <a:pt x="15269" y="12154"/>
                  <a:pt x="15295" y="12132"/>
                  <a:pt x="15304" y="12105"/>
                </a:cubicBezTo>
                <a:cubicBezTo>
                  <a:pt x="15324" y="12204"/>
                  <a:pt x="15397" y="12250"/>
                  <a:pt x="15503" y="12229"/>
                </a:cubicBezTo>
                <a:cubicBezTo>
                  <a:pt x="15654" y="12199"/>
                  <a:pt x="15700" y="12119"/>
                  <a:pt x="15776" y="12005"/>
                </a:cubicBezTo>
              </a:path>
              <a:path w="4118" h="2011">
                <a:moveTo>
                  <a:pt x="16842" y="12055"/>
                </a:moveTo>
                <a:cubicBezTo>
                  <a:pt x="16772" y="12007"/>
                  <a:pt x="16895" y="12120"/>
                  <a:pt x="16942" y="12129"/>
                </a:cubicBezTo>
                <a:cubicBezTo>
                  <a:pt x="17105" y="12159"/>
                  <a:pt x="17238" y="12099"/>
                  <a:pt x="17363" y="12005"/>
                </a:cubicBezTo>
                <a:cubicBezTo>
                  <a:pt x="17440" y="11934"/>
                  <a:pt x="17508" y="12095"/>
                  <a:pt x="17611" y="12080"/>
                </a:cubicBezTo>
                <a:cubicBezTo>
                  <a:pt x="17781" y="12055"/>
                  <a:pt x="17961" y="11953"/>
                  <a:pt x="18058" y="11807"/>
                </a:cubicBezTo>
                <a:cubicBezTo>
                  <a:pt x="18058" y="11799"/>
                  <a:pt x="18058" y="11790"/>
                  <a:pt x="18058" y="11782"/>
                </a:cubicBezTo>
              </a:path>
              <a:path w="4118" h="2011">
                <a:moveTo>
                  <a:pt x="18058" y="10790"/>
                </a:moveTo>
                <a:cubicBezTo>
                  <a:pt x="18058" y="10742"/>
                  <a:pt x="18042" y="10830"/>
                  <a:pt x="18083" y="10840"/>
                </a:cubicBezTo>
                <a:cubicBezTo>
                  <a:pt x="18139" y="10854"/>
                  <a:pt x="18120" y="10803"/>
                  <a:pt x="18107" y="10790"/>
                </a:cubicBezTo>
                <a:cubicBezTo>
                  <a:pt x="18059" y="10890"/>
                  <a:pt x="18132" y="10790"/>
                  <a:pt x="18132" y="10790"/>
                </a:cubicBezTo>
                <a:cubicBezTo>
                  <a:pt x="18107" y="10815"/>
                  <a:pt x="18099" y="10823"/>
                  <a:pt x="18083" y="10840"/>
                </a:cubicBezTo>
              </a:path>
              <a:path w="4118" h="2011">
                <a:moveTo>
                  <a:pt x="17661" y="10368"/>
                </a:moveTo>
                <a:cubicBezTo>
                  <a:pt x="17661" y="10393"/>
                  <a:pt x="17661" y="10401"/>
                  <a:pt x="17661" y="10418"/>
                </a:cubicBezTo>
                <a:cubicBezTo>
                  <a:pt x="17668" y="10416"/>
                  <a:pt x="17848" y="10333"/>
                  <a:pt x="17859" y="10368"/>
                </a:cubicBezTo>
                <a:cubicBezTo>
                  <a:pt x="17886" y="10450"/>
                  <a:pt x="17786" y="10536"/>
                  <a:pt x="17735" y="10567"/>
                </a:cubicBezTo>
                <a:cubicBezTo>
                  <a:pt x="17846" y="10512"/>
                  <a:pt x="17970" y="10562"/>
                  <a:pt x="17859" y="10716"/>
                </a:cubicBezTo>
                <a:cubicBezTo>
                  <a:pt x="17781" y="10824"/>
                  <a:pt x="17649" y="10845"/>
                  <a:pt x="17587" y="107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232760" y="3456000"/>
            <a:ext cx="384120" cy="822240"/>
          </a:xfrm>
          <a:custGeom>
            <a:avLst/>
            <a:gdLst/>
            <a:ahLst/>
            <a:rect l="l" t="t" r="r" b="b"/>
            <a:pathLst>
              <a:path w="1067" h="2283">
                <a:moveTo>
                  <a:pt x="20290" y="10195"/>
                </a:moveTo>
                <a:cubicBezTo>
                  <a:pt x="20405" y="10156"/>
                  <a:pt x="20460" y="10127"/>
                  <a:pt x="20588" y="10145"/>
                </a:cubicBezTo>
                <a:cubicBezTo>
                  <a:pt x="20535" y="10267"/>
                  <a:pt x="20498" y="10310"/>
                  <a:pt x="20389" y="10393"/>
                </a:cubicBezTo>
                <a:cubicBezTo>
                  <a:pt x="20490" y="10393"/>
                  <a:pt x="20558" y="10398"/>
                  <a:pt x="20414" y="10517"/>
                </a:cubicBezTo>
                <a:cubicBezTo>
                  <a:pt x="20256" y="10647"/>
                  <a:pt x="20221" y="10613"/>
                  <a:pt x="20141" y="10492"/>
                </a:cubicBezTo>
              </a:path>
              <a:path w="1067" h="2283">
                <a:moveTo>
                  <a:pt x="20538" y="10170"/>
                </a:moveTo>
                <a:cubicBezTo>
                  <a:pt x="20538" y="10230"/>
                  <a:pt x="20575" y="10324"/>
                  <a:pt x="20638" y="10344"/>
                </a:cubicBezTo>
                <a:cubicBezTo>
                  <a:pt x="20773" y="10387"/>
                  <a:pt x="20776" y="10310"/>
                  <a:pt x="20811" y="10220"/>
                </a:cubicBezTo>
              </a:path>
              <a:path w="1067" h="2283">
                <a:moveTo>
                  <a:pt x="20985" y="10120"/>
                </a:moveTo>
                <a:cubicBezTo>
                  <a:pt x="20985" y="10224"/>
                  <a:pt x="21041" y="10233"/>
                  <a:pt x="21109" y="10319"/>
                </a:cubicBezTo>
                <a:cubicBezTo>
                  <a:pt x="21151" y="10382"/>
                  <a:pt x="21167" y="10394"/>
                  <a:pt x="21158" y="10443"/>
                </a:cubicBezTo>
                <a:cubicBezTo>
                  <a:pt x="21001" y="10503"/>
                  <a:pt x="21017" y="10381"/>
                  <a:pt x="20985" y="10244"/>
                </a:cubicBezTo>
              </a:path>
              <a:path w="1067" h="2283">
                <a:moveTo>
                  <a:pt x="20910" y="10517"/>
                </a:moveTo>
                <a:cubicBezTo>
                  <a:pt x="20845" y="10517"/>
                  <a:pt x="21037" y="10493"/>
                  <a:pt x="21059" y="10492"/>
                </a:cubicBezTo>
                <a:cubicBezTo>
                  <a:pt x="21067" y="10492"/>
                  <a:pt x="21076" y="10492"/>
                  <a:pt x="21084" y="10492"/>
                </a:cubicBezTo>
              </a:path>
              <a:path w="1067" h="2283">
                <a:moveTo>
                  <a:pt x="20662" y="11410"/>
                </a:moveTo>
                <a:cubicBezTo>
                  <a:pt x="20638" y="11410"/>
                  <a:pt x="20629" y="11410"/>
                  <a:pt x="20613" y="11410"/>
                </a:cubicBezTo>
                <a:cubicBezTo>
                  <a:pt x="20634" y="11375"/>
                  <a:pt x="20751" y="11265"/>
                  <a:pt x="20737" y="11385"/>
                </a:cubicBezTo>
                <a:cubicBezTo>
                  <a:pt x="20728" y="11465"/>
                  <a:pt x="20615" y="11587"/>
                  <a:pt x="20662" y="11559"/>
                </a:cubicBezTo>
                <a:cubicBezTo>
                  <a:pt x="20789" y="11484"/>
                  <a:pt x="20821" y="11640"/>
                  <a:pt x="20762" y="11733"/>
                </a:cubicBezTo>
                <a:cubicBezTo>
                  <a:pt x="20733" y="11778"/>
                  <a:pt x="20588" y="11896"/>
                  <a:pt x="20538" y="11807"/>
                </a:cubicBezTo>
                <a:cubicBezTo>
                  <a:pt x="20530" y="11782"/>
                  <a:pt x="20521" y="11758"/>
                  <a:pt x="20513" y="11733"/>
                </a:cubicBezTo>
              </a:path>
              <a:path w="1067" h="2283">
                <a:moveTo>
                  <a:pt x="20290" y="9599"/>
                </a:moveTo>
                <a:cubicBezTo>
                  <a:pt x="20276" y="9734"/>
                  <a:pt x="20265" y="9860"/>
                  <a:pt x="20265" y="9996"/>
                </a:cubicBezTo>
              </a:path>
              <a:path w="1067" h="2283">
                <a:moveTo>
                  <a:pt x="20191" y="11485"/>
                </a:moveTo>
                <a:cubicBezTo>
                  <a:pt x="20111" y="11627"/>
                  <a:pt x="20098" y="11725"/>
                  <a:pt x="20117" y="11881"/>
                </a:cubicBezTo>
                <a:cubicBezTo>
                  <a:pt x="20282" y="11840"/>
                  <a:pt x="20451" y="11712"/>
                  <a:pt x="20315" y="11509"/>
                </a:cubicBezTo>
                <a:cubicBezTo>
                  <a:pt x="20229" y="11445"/>
                  <a:pt x="20212" y="11420"/>
                  <a:pt x="20141" y="114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581800" y="4384800"/>
            <a:ext cx="795240" cy="357120"/>
          </a:xfrm>
          <a:custGeom>
            <a:avLst/>
            <a:gdLst/>
            <a:ahLst/>
            <a:rect l="l" t="t" r="r" b="b"/>
            <a:pathLst>
              <a:path w="2209" h="993">
                <a:moveTo>
                  <a:pt x="16371" y="12254"/>
                </a:moveTo>
                <a:cubicBezTo>
                  <a:pt x="16328" y="12421"/>
                  <a:pt x="16264" y="12589"/>
                  <a:pt x="16197" y="12750"/>
                </a:cubicBezTo>
                <a:cubicBezTo>
                  <a:pt x="16176" y="12793"/>
                  <a:pt x="16163" y="12814"/>
                  <a:pt x="16197" y="12774"/>
                </a:cubicBezTo>
              </a:path>
              <a:path w="2209" h="993">
                <a:moveTo>
                  <a:pt x="16495" y="12452"/>
                </a:moveTo>
                <a:cubicBezTo>
                  <a:pt x="16456" y="12581"/>
                  <a:pt x="16423" y="12651"/>
                  <a:pt x="16446" y="12774"/>
                </a:cubicBezTo>
                <a:cubicBezTo>
                  <a:pt x="16527" y="12715"/>
                  <a:pt x="16741" y="12559"/>
                  <a:pt x="16570" y="12452"/>
                </a:cubicBezTo>
                <a:cubicBezTo>
                  <a:pt x="16511" y="12452"/>
                  <a:pt x="16497" y="12443"/>
                  <a:pt x="16545" y="12378"/>
                </a:cubicBezTo>
              </a:path>
              <a:path w="2209" h="993">
                <a:moveTo>
                  <a:pt x="16917" y="12303"/>
                </a:moveTo>
                <a:cubicBezTo>
                  <a:pt x="16980" y="12303"/>
                  <a:pt x="17106" y="12263"/>
                  <a:pt x="17090" y="12353"/>
                </a:cubicBezTo>
                <a:cubicBezTo>
                  <a:pt x="17081" y="12403"/>
                  <a:pt x="17033" y="12435"/>
                  <a:pt x="17016" y="12477"/>
                </a:cubicBezTo>
                <a:cubicBezTo>
                  <a:pt x="17080" y="12455"/>
                  <a:pt x="17210" y="12480"/>
                  <a:pt x="17115" y="12601"/>
                </a:cubicBezTo>
                <a:cubicBezTo>
                  <a:pt x="17023" y="12718"/>
                  <a:pt x="16838" y="12780"/>
                  <a:pt x="16917" y="12576"/>
                </a:cubicBezTo>
              </a:path>
              <a:path w="2209" h="993">
                <a:moveTo>
                  <a:pt x="17338" y="12303"/>
                </a:moveTo>
                <a:cubicBezTo>
                  <a:pt x="17338" y="12336"/>
                  <a:pt x="17338" y="12369"/>
                  <a:pt x="17338" y="12402"/>
                </a:cubicBezTo>
                <a:cubicBezTo>
                  <a:pt x="17401" y="12410"/>
                  <a:pt x="17606" y="12408"/>
                  <a:pt x="17587" y="12526"/>
                </a:cubicBezTo>
                <a:cubicBezTo>
                  <a:pt x="17548" y="12766"/>
                  <a:pt x="17333" y="12531"/>
                  <a:pt x="17289" y="12477"/>
                </a:cubicBezTo>
              </a:path>
              <a:path w="2209" h="993">
                <a:moveTo>
                  <a:pt x="17363" y="12278"/>
                </a:moveTo>
                <a:cubicBezTo>
                  <a:pt x="17485" y="12232"/>
                  <a:pt x="17686" y="12179"/>
                  <a:pt x="17686" y="12179"/>
                </a:cubicBezTo>
              </a:path>
              <a:path w="2209" h="993">
                <a:moveTo>
                  <a:pt x="15751" y="12502"/>
                </a:moveTo>
                <a:cubicBezTo>
                  <a:pt x="15817" y="12502"/>
                  <a:pt x="15883" y="12502"/>
                  <a:pt x="15949" y="12502"/>
                </a:cubicBezTo>
              </a:path>
              <a:path w="2209" h="993">
                <a:moveTo>
                  <a:pt x="15503" y="12998"/>
                </a:moveTo>
                <a:cubicBezTo>
                  <a:pt x="16088" y="12876"/>
                  <a:pt x="16672" y="12805"/>
                  <a:pt x="17264" y="12725"/>
                </a:cubicBezTo>
                <a:cubicBezTo>
                  <a:pt x="17512" y="12687"/>
                  <a:pt x="17544" y="12670"/>
                  <a:pt x="17686" y="12675"/>
                </a:cubicBezTo>
              </a:path>
              <a:path w="2209" h="993">
                <a:moveTo>
                  <a:pt x="17462" y="12799"/>
                </a:moveTo>
                <a:cubicBezTo>
                  <a:pt x="17364" y="12931"/>
                  <a:pt x="17347" y="13012"/>
                  <a:pt x="17338" y="13171"/>
                </a:cubicBezTo>
                <a:cubicBezTo>
                  <a:pt x="17454" y="13158"/>
                  <a:pt x="17738" y="13091"/>
                  <a:pt x="17587" y="12898"/>
                </a:cubicBezTo>
                <a:cubicBezTo>
                  <a:pt x="17494" y="12852"/>
                  <a:pt x="17466" y="12840"/>
                  <a:pt x="17413" y="127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705640" y="1000080"/>
            <a:ext cx="339480" cy="3330720"/>
          </a:xfrm>
          <a:custGeom>
            <a:avLst/>
            <a:gdLst/>
            <a:ahLst/>
            <a:rect l="l" t="t" r="r" b="b"/>
            <a:pathLst>
              <a:path w="944" h="9253">
                <a:moveTo>
                  <a:pt x="16346" y="2778"/>
                </a:moveTo>
                <a:cubicBezTo>
                  <a:pt x="16354" y="2778"/>
                  <a:pt x="16363" y="2778"/>
                  <a:pt x="16371" y="2778"/>
                </a:cubicBezTo>
              </a:path>
              <a:path w="944" h="9253">
                <a:moveTo>
                  <a:pt x="16371" y="2778"/>
                </a:moveTo>
                <a:lnTo>
                  <a:pt x="16371" y="2778"/>
                </a:lnTo>
              </a:path>
              <a:path w="944" h="9253">
                <a:moveTo>
                  <a:pt x="16173" y="3621"/>
                </a:moveTo>
                <a:cubicBezTo>
                  <a:pt x="16131" y="3674"/>
                  <a:pt x="16066" y="3770"/>
                  <a:pt x="16197" y="3770"/>
                </a:cubicBezTo>
                <a:cubicBezTo>
                  <a:pt x="16309" y="3748"/>
                  <a:pt x="16340" y="3747"/>
                  <a:pt x="16396" y="3696"/>
                </a:cubicBezTo>
              </a:path>
              <a:path w="944" h="9253">
                <a:moveTo>
                  <a:pt x="15850" y="4316"/>
                </a:moveTo>
                <a:cubicBezTo>
                  <a:pt x="15903" y="4255"/>
                  <a:pt x="15914" y="4251"/>
                  <a:pt x="15999" y="4242"/>
                </a:cubicBezTo>
              </a:path>
              <a:path w="944" h="9253">
                <a:moveTo>
                  <a:pt x="16768" y="12005"/>
                </a:moveTo>
                <a:cubicBezTo>
                  <a:pt x="16768" y="12040"/>
                  <a:pt x="16773" y="12039"/>
                  <a:pt x="16793" y="119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419800" y="598320"/>
            <a:ext cx="804960" cy="1160640"/>
          </a:xfrm>
          <a:custGeom>
            <a:avLst/>
            <a:gdLst/>
            <a:ahLst/>
            <a:rect l="l" t="t" r="r" b="b"/>
            <a:pathLst>
              <a:path w="2234" h="3226">
                <a:moveTo>
                  <a:pt x="15602" y="2406"/>
                </a:moveTo>
                <a:cubicBezTo>
                  <a:pt x="15602" y="2539"/>
                  <a:pt x="15644" y="2668"/>
                  <a:pt x="15652" y="2803"/>
                </a:cubicBezTo>
                <a:cubicBezTo>
                  <a:pt x="15652" y="2845"/>
                  <a:pt x="15652" y="2870"/>
                  <a:pt x="15652" y="2828"/>
                </a:cubicBezTo>
              </a:path>
              <a:path w="2234" h="3226">
                <a:moveTo>
                  <a:pt x="15900" y="2456"/>
                </a:moveTo>
                <a:cubicBezTo>
                  <a:pt x="16057" y="2395"/>
                  <a:pt x="16169" y="2449"/>
                  <a:pt x="16173" y="2654"/>
                </a:cubicBezTo>
                <a:cubicBezTo>
                  <a:pt x="16178" y="2881"/>
                  <a:pt x="16036" y="2875"/>
                  <a:pt x="15900" y="2778"/>
                </a:cubicBezTo>
                <a:cubicBezTo>
                  <a:pt x="16024" y="2721"/>
                  <a:pt x="16100" y="2704"/>
                  <a:pt x="16197" y="2828"/>
                </a:cubicBezTo>
                <a:cubicBezTo>
                  <a:pt x="16205" y="2844"/>
                  <a:pt x="16214" y="2861"/>
                  <a:pt x="16222" y="2877"/>
                </a:cubicBezTo>
              </a:path>
              <a:path w="2234" h="3226">
                <a:moveTo>
                  <a:pt x="16694" y="2332"/>
                </a:moveTo>
                <a:cubicBezTo>
                  <a:pt x="16641" y="2368"/>
                  <a:pt x="16612" y="2388"/>
                  <a:pt x="16570" y="2431"/>
                </a:cubicBezTo>
                <a:cubicBezTo>
                  <a:pt x="16616" y="2517"/>
                  <a:pt x="16811" y="2669"/>
                  <a:pt x="16768" y="2778"/>
                </a:cubicBezTo>
                <a:cubicBezTo>
                  <a:pt x="16751" y="2786"/>
                  <a:pt x="16735" y="2795"/>
                  <a:pt x="16718" y="2803"/>
                </a:cubicBezTo>
                <a:cubicBezTo>
                  <a:pt x="16613" y="2697"/>
                  <a:pt x="16640" y="2580"/>
                  <a:pt x="16743" y="2456"/>
                </a:cubicBezTo>
                <a:cubicBezTo>
                  <a:pt x="16784" y="2436"/>
                  <a:pt x="16800" y="2438"/>
                  <a:pt x="16793" y="2406"/>
                </a:cubicBezTo>
              </a:path>
              <a:path w="2234" h="3226">
                <a:moveTo>
                  <a:pt x="15577" y="2927"/>
                </a:moveTo>
                <a:cubicBezTo>
                  <a:pt x="15565" y="2878"/>
                  <a:pt x="15563" y="2878"/>
                  <a:pt x="15553" y="2828"/>
                </a:cubicBezTo>
                <a:cubicBezTo>
                  <a:pt x="15517" y="2644"/>
                  <a:pt x="15503" y="2468"/>
                  <a:pt x="15503" y="2282"/>
                </a:cubicBezTo>
                <a:cubicBezTo>
                  <a:pt x="15503" y="2274"/>
                  <a:pt x="15503" y="2265"/>
                  <a:pt x="15503" y="2257"/>
                </a:cubicBezTo>
                <a:cubicBezTo>
                  <a:pt x="15645" y="2244"/>
                  <a:pt x="15780" y="2213"/>
                  <a:pt x="15925" y="2208"/>
                </a:cubicBezTo>
                <a:cubicBezTo>
                  <a:pt x="16326" y="2194"/>
                  <a:pt x="16954" y="2208"/>
                  <a:pt x="17264" y="2208"/>
                </a:cubicBezTo>
              </a:path>
              <a:path w="2234" h="3226">
                <a:moveTo>
                  <a:pt x="15230" y="2406"/>
                </a:moveTo>
                <a:cubicBezTo>
                  <a:pt x="15193" y="2351"/>
                  <a:pt x="15120" y="2402"/>
                  <a:pt x="15056" y="2431"/>
                </a:cubicBezTo>
                <a:cubicBezTo>
                  <a:pt x="15056" y="2589"/>
                  <a:pt x="15170" y="2609"/>
                  <a:pt x="15280" y="2704"/>
                </a:cubicBezTo>
                <a:cubicBezTo>
                  <a:pt x="15305" y="2729"/>
                  <a:pt x="15329" y="2753"/>
                  <a:pt x="15354" y="2778"/>
                </a:cubicBezTo>
                <a:cubicBezTo>
                  <a:pt x="15270" y="2831"/>
                  <a:pt x="15043" y="2983"/>
                  <a:pt x="15081" y="2753"/>
                </a:cubicBezTo>
                <a:cubicBezTo>
                  <a:pt x="15090" y="2699"/>
                  <a:pt x="15158" y="2445"/>
                  <a:pt x="15205" y="2406"/>
                </a:cubicBezTo>
                <a:cubicBezTo>
                  <a:pt x="15213" y="2406"/>
                  <a:pt x="15222" y="2406"/>
                  <a:pt x="15230" y="2406"/>
                </a:cubicBezTo>
              </a:path>
              <a:path w="2234" h="3226">
                <a:moveTo>
                  <a:pt x="16073" y="1786"/>
                </a:moveTo>
                <a:cubicBezTo>
                  <a:pt x="16073" y="1910"/>
                  <a:pt x="16073" y="2034"/>
                  <a:pt x="16073" y="2158"/>
                </a:cubicBezTo>
              </a:path>
              <a:path w="2234" h="3226">
                <a:moveTo>
                  <a:pt x="16173" y="3076"/>
                </a:moveTo>
                <a:cubicBezTo>
                  <a:pt x="16095" y="3037"/>
                  <a:pt x="16048" y="3051"/>
                  <a:pt x="15974" y="3101"/>
                </a:cubicBezTo>
                <a:cubicBezTo>
                  <a:pt x="16018" y="3209"/>
                  <a:pt x="16157" y="3210"/>
                  <a:pt x="16222" y="3299"/>
                </a:cubicBezTo>
                <a:cubicBezTo>
                  <a:pt x="16222" y="3316"/>
                  <a:pt x="16222" y="3332"/>
                  <a:pt x="16222" y="3349"/>
                </a:cubicBezTo>
                <a:cubicBezTo>
                  <a:pt x="16173" y="3373"/>
                  <a:pt x="15970" y="3479"/>
                  <a:pt x="16049" y="3299"/>
                </a:cubicBezTo>
                <a:cubicBezTo>
                  <a:pt x="16086" y="3213"/>
                  <a:pt x="16156" y="3180"/>
                  <a:pt x="16222" y="3125"/>
                </a:cubicBezTo>
              </a:path>
              <a:path w="2234" h="3226">
                <a:moveTo>
                  <a:pt x="15677" y="3522"/>
                </a:moveTo>
                <a:cubicBezTo>
                  <a:pt x="15925" y="3480"/>
                  <a:pt x="16631" y="3259"/>
                  <a:pt x="16421" y="3398"/>
                </a:cubicBezTo>
                <a:cubicBezTo>
                  <a:pt x="16396" y="3406"/>
                  <a:pt x="16371" y="3415"/>
                  <a:pt x="16346" y="3423"/>
                </a:cubicBezTo>
              </a:path>
              <a:path w="2234" h="3226">
                <a:moveTo>
                  <a:pt x="16321" y="3547"/>
                </a:moveTo>
                <a:cubicBezTo>
                  <a:pt x="16321" y="3627"/>
                  <a:pt x="16280" y="4028"/>
                  <a:pt x="16346" y="3919"/>
                </a:cubicBezTo>
              </a:path>
              <a:path w="2234" h="3226">
                <a:moveTo>
                  <a:pt x="16346" y="2059"/>
                </a:moveTo>
                <a:cubicBezTo>
                  <a:pt x="16302" y="2102"/>
                  <a:pt x="16285" y="2208"/>
                  <a:pt x="16346" y="2208"/>
                </a:cubicBezTo>
                <a:cubicBezTo>
                  <a:pt x="16413" y="2208"/>
                  <a:pt x="16397" y="2076"/>
                  <a:pt x="16371" y="2059"/>
                </a:cubicBezTo>
                <a:cubicBezTo>
                  <a:pt x="16329" y="2101"/>
                  <a:pt x="16338" y="2125"/>
                  <a:pt x="16421" y="2158"/>
                </a:cubicBezTo>
              </a:path>
              <a:path w="2234" h="3226">
                <a:moveTo>
                  <a:pt x="16694" y="2803"/>
                </a:moveTo>
                <a:cubicBezTo>
                  <a:pt x="16694" y="2938"/>
                  <a:pt x="16710" y="3066"/>
                  <a:pt x="16718" y="3200"/>
                </a:cubicBezTo>
                <a:cubicBezTo>
                  <a:pt x="16718" y="3225"/>
                  <a:pt x="16718" y="3233"/>
                  <a:pt x="16718" y="3249"/>
                </a:cubicBezTo>
              </a:path>
              <a:path w="2234" h="3226">
                <a:moveTo>
                  <a:pt x="16619" y="3150"/>
                </a:moveTo>
                <a:cubicBezTo>
                  <a:pt x="16665" y="3196"/>
                  <a:pt x="16680" y="3208"/>
                  <a:pt x="16694" y="3249"/>
                </a:cubicBezTo>
                <a:cubicBezTo>
                  <a:pt x="16762" y="3203"/>
                  <a:pt x="16782" y="3152"/>
                  <a:pt x="16818" y="3076"/>
                </a:cubicBezTo>
              </a:path>
              <a:path w="2234" h="3226">
                <a:moveTo>
                  <a:pt x="16768" y="3597"/>
                </a:moveTo>
                <a:cubicBezTo>
                  <a:pt x="16725" y="3597"/>
                  <a:pt x="16700" y="3602"/>
                  <a:pt x="16669" y="3621"/>
                </a:cubicBezTo>
                <a:cubicBezTo>
                  <a:pt x="16669" y="3715"/>
                  <a:pt x="16739" y="3763"/>
                  <a:pt x="16768" y="3845"/>
                </a:cubicBezTo>
                <a:cubicBezTo>
                  <a:pt x="16810" y="3965"/>
                  <a:pt x="16700" y="3944"/>
                  <a:pt x="16644" y="3944"/>
                </a:cubicBezTo>
                <a:cubicBezTo>
                  <a:pt x="16662" y="3835"/>
                  <a:pt x="16676" y="3726"/>
                  <a:pt x="16768" y="3671"/>
                </a:cubicBezTo>
              </a:path>
              <a:path w="2234" h="3226">
                <a:moveTo>
                  <a:pt x="16743" y="1687"/>
                </a:moveTo>
                <a:cubicBezTo>
                  <a:pt x="16684" y="1647"/>
                  <a:pt x="16668" y="1884"/>
                  <a:pt x="16669" y="1935"/>
                </a:cubicBezTo>
                <a:cubicBezTo>
                  <a:pt x="16671" y="2019"/>
                  <a:pt x="16702" y="2232"/>
                  <a:pt x="16842" y="2133"/>
                </a:cubicBezTo>
                <a:cubicBezTo>
                  <a:pt x="16932" y="2044"/>
                  <a:pt x="16965" y="2025"/>
                  <a:pt x="16942" y="1935"/>
                </a:cubicBezTo>
                <a:cubicBezTo>
                  <a:pt x="16831" y="1995"/>
                  <a:pt x="16812" y="2023"/>
                  <a:pt x="16793" y="2158"/>
                </a:cubicBezTo>
              </a:path>
              <a:path w="2234" h="3226">
                <a:moveTo>
                  <a:pt x="16197" y="4167"/>
                </a:moveTo>
                <a:cubicBezTo>
                  <a:pt x="16190" y="4201"/>
                  <a:pt x="16180" y="4232"/>
                  <a:pt x="16173" y="4266"/>
                </a:cubicBezTo>
                <a:cubicBezTo>
                  <a:pt x="16281" y="4286"/>
                  <a:pt x="16321" y="4266"/>
                  <a:pt x="16421" y="4217"/>
                </a:cubicBezTo>
              </a:path>
              <a:path w="2234" h="3226">
                <a:moveTo>
                  <a:pt x="16346" y="4093"/>
                </a:moveTo>
                <a:cubicBezTo>
                  <a:pt x="16346" y="4181"/>
                  <a:pt x="16344" y="4310"/>
                  <a:pt x="16371" y="4390"/>
                </a:cubicBezTo>
                <a:cubicBezTo>
                  <a:pt x="16379" y="4390"/>
                  <a:pt x="16388" y="4390"/>
                  <a:pt x="16396" y="4390"/>
                </a:cubicBezTo>
              </a:path>
              <a:path w="2234" h="3226">
                <a:moveTo>
                  <a:pt x="16743" y="4093"/>
                </a:moveTo>
                <a:cubicBezTo>
                  <a:pt x="16676" y="4100"/>
                  <a:pt x="16580" y="4109"/>
                  <a:pt x="16619" y="4217"/>
                </a:cubicBezTo>
                <a:cubicBezTo>
                  <a:pt x="16638" y="4269"/>
                  <a:pt x="16772" y="4406"/>
                  <a:pt x="16594" y="4390"/>
                </a:cubicBezTo>
                <a:cubicBezTo>
                  <a:pt x="16594" y="4382"/>
                  <a:pt x="16594" y="4374"/>
                  <a:pt x="16594" y="4366"/>
                </a:cubicBezTo>
                <a:cubicBezTo>
                  <a:pt x="16629" y="4287"/>
                  <a:pt x="16713" y="4240"/>
                  <a:pt x="16743" y="4142"/>
                </a:cubicBezTo>
                <a:cubicBezTo>
                  <a:pt x="16743" y="4118"/>
                  <a:pt x="16743" y="4110"/>
                  <a:pt x="16718" y="4118"/>
                </a:cubicBezTo>
              </a:path>
              <a:path w="2234" h="3226">
                <a:moveTo>
                  <a:pt x="15875" y="4514"/>
                </a:moveTo>
                <a:cubicBezTo>
                  <a:pt x="16192" y="4505"/>
                  <a:pt x="16503" y="4475"/>
                  <a:pt x="16818" y="4440"/>
                </a:cubicBezTo>
                <a:cubicBezTo>
                  <a:pt x="16868" y="4440"/>
                  <a:pt x="16851" y="4446"/>
                  <a:pt x="16743" y="4465"/>
                </a:cubicBezTo>
              </a:path>
              <a:path w="2234" h="3226">
                <a:moveTo>
                  <a:pt x="16694" y="4614"/>
                </a:moveTo>
                <a:cubicBezTo>
                  <a:pt x="16616" y="4684"/>
                  <a:pt x="16572" y="4741"/>
                  <a:pt x="16520" y="4837"/>
                </a:cubicBezTo>
                <a:cubicBezTo>
                  <a:pt x="16652" y="4881"/>
                  <a:pt x="16806" y="4856"/>
                  <a:pt x="16793" y="4663"/>
                </a:cubicBezTo>
                <a:cubicBezTo>
                  <a:pt x="16787" y="4567"/>
                  <a:pt x="16759" y="4589"/>
                  <a:pt x="16694" y="45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643720" y="2820960"/>
            <a:ext cx="652320" cy="403200"/>
          </a:xfrm>
          <a:custGeom>
            <a:avLst/>
            <a:gdLst/>
            <a:ahLst/>
            <a:rect l="l" t="t" r="r" b="b"/>
            <a:pathLst>
              <a:path w="1811" h="1117">
                <a:moveTo>
                  <a:pt x="16346" y="7938"/>
                </a:moveTo>
                <a:cubicBezTo>
                  <a:pt x="16317" y="8098"/>
                  <a:pt x="16142" y="8551"/>
                  <a:pt x="16222" y="8409"/>
                </a:cubicBezTo>
                <a:cubicBezTo>
                  <a:pt x="16239" y="8368"/>
                  <a:pt x="16255" y="8326"/>
                  <a:pt x="16272" y="8285"/>
                </a:cubicBezTo>
              </a:path>
              <a:path w="1811" h="1117">
                <a:moveTo>
                  <a:pt x="16470" y="8012"/>
                </a:moveTo>
                <a:cubicBezTo>
                  <a:pt x="16491" y="8097"/>
                  <a:pt x="16640" y="8040"/>
                  <a:pt x="16718" y="8037"/>
                </a:cubicBezTo>
                <a:cubicBezTo>
                  <a:pt x="16735" y="8037"/>
                  <a:pt x="16751" y="8037"/>
                  <a:pt x="16768" y="8037"/>
                </a:cubicBezTo>
              </a:path>
              <a:path w="1811" h="1117">
                <a:moveTo>
                  <a:pt x="16768" y="7838"/>
                </a:moveTo>
                <a:cubicBezTo>
                  <a:pt x="16747" y="8005"/>
                  <a:pt x="16726" y="8169"/>
                  <a:pt x="16694" y="8334"/>
                </a:cubicBezTo>
              </a:path>
              <a:path w="1811" h="1117">
                <a:moveTo>
                  <a:pt x="15677" y="8582"/>
                </a:moveTo>
                <a:cubicBezTo>
                  <a:pt x="16212" y="8492"/>
                  <a:pt x="16751" y="8427"/>
                  <a:pt x="17289" y="8359"/>
                </a:cubicBezTo>
                <a:cubicBezTo>
                  <a:pt x="17920" y="8280"/>
                  <a:pt x="17396" y="8327"/>
                  <a:pt x="17413" y="8359"/>
                </a:cubicBezTo>
              </a:path>
              <a:path w="1811" h="1117">
                <a:moveTo>
                  <a:pt x="17214" y="8558"/>
                </a:moveTo>
                <a:cubicBezTo>
                  <a:pt x="17093" y="8714"/>
                  <a:pt x="17032" y="8786"/>
                  <a:pt x="17066" y="8954"/>
                </a:cubicBezTo>
                <a:cubicBezTo>
                  <a:pt x="17218" y="8882"/>
                  <a:pt x="17488" y="8767"/>
                  <a:pt x="17264" y="8582"/>
                </a:cubicBezTo>
                <a:cubicBezTo>
                  <a:pt x="17191" y="8546"/>
                  <a:pt x="17158" y="8558"/>
                  <a:pt x="17165" y="85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36920" y="669960"/>
            <a:ext cx="4929120" cy="3990960"/>
          </a:xfrm>
          <a:custGeom>
            <a:avLst/>
            <a:gdLst/>
            <a:ahLst/>
            <a:rect l="l" t="t" r="r" b="b"/>
            <a:pathLst>
              <a:path w="13693" h="11089">
                <a:moveTo>
                  <a:pt x="11237" y="1860"/>
                </a:moveTo>
                <a:cubicBezTo>
                  <a:pt x="11252" y="1969"/>
                  <a:pt x="11266" y="2075"/>
                  <a:pt x="11286" y="2183"/>
                </a:cubicBezTo>
              </a:path>
              <a:path w="13693" h="11089">
                <a:moveTo>
                  <a:pt x="16793" y="7441"/>
                </a:moveTo>
                <a:lnTo>
                  <a:pt x="16793" y="7441"/>
                </a:lnTo>
                <a:lnTo>
                  <a:pt x="16793" y="7441"/>
                </a:lnTo>
                <a:lnTo>
                  <a:pt x="16793" y="7441"/>
                </a:lnTo>
              </a:path>
              <a:path w="13693" h="11089">
                <a:moveTo>
                  <a:pt x="16793" y="7441"/>
                </a:moveTo>
                <a:lnTo>
                  <a:pt x="16793" y="7441"/>
                </a:lnTo>
              </a:path>
              <a:path w="13693" h="11089">
                <a:moveTo>
                  <a:pt x="14932" y="7367"/>
                </a:moveTo>
                <a:cubicBezTo>
                  <a:pt x="14905" y="7401"/>
                  <a:pt x="14892" y="7424"/>
                  <a:pt x="14883" y="7466"/>
                </a:cubicBezTo>
                <a:cubicBezTo>
                  <a:pt x="14970" y="7419"/>
                  <a:pt x="15015" y="7433"/>
                  <a:pt x="14982" y="7367"/>
                </a:cubicBezTo>
              </a:path>
              <a:path w="13693" h="11089">
                <a:moveTo>
                  <a:pt x="20737" y="6499"/>
                </a:moveTo>
                <a:cubicBezTo>
                  <a:pt x="20649" y="6696"/>
                  <a:pt x="20573" y="6883"/>
                  <a:pt x="20464" y="7069"/>
                </a:cubicBezTo>
              </a:path>
              <a:path w="13693" h="11089">
                <a:moveTo>
                  <a:pt x="20464" y="7069"/>
                </a:moveTo>
                <a:lnTo>
                  <a:pt x="20464" y="7069"/>
                </a:lnTo>
              </a:path>
              <a:path w="13693" h="11089">
                <a:moveTo>
                  <a:pt x="15677" y="8285"/>
                </a:moveTo>
                <a:cubicBezTo>
                  <a:pt x="15823" y="8236"/>
                  <a:pt x="15870" y="8219"/>
                  <a:pt x="15974" y="8235"/>
                </a:cubicBezTo>
              </a:path>
              <a:path w="13693" h="11089">
                <a:moveTo>
                  <a:pt x="7218" y="12378"/>
                </a:moveTo>
                <a:cubicBezTo>
                  <a:pt x="7155" y="12566"/>
                  <a:pt x="7092" y="12758"/>
                  <a:pt x="7045" y="129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153040" y="2017800"/>
            <a:ext cx="1276200" cy="947520"/>
          </a:xfrm>
          <a:custGeom>
            <a:avLst/>
            <a:gdLst/>
            <a:ahLst/>
            <a:rect l="l" t="t" r="r" b="b"/>
            <a:pathLst>
              <a:path w="3548" h="2630">
                <a:moveTo>
                  <a:pt x="16148" y="7094"/>
                </a:moveTo>
                <a:cubicBezTo>
                  <a:pt x="16148" y="7045"/>
                  <a:pt x="16148" y="7028"/>
                  <a:pt x="16148" y="6995"/>
                </a:cubicBezTo>
                <a:cubicBezTo>
                  <a:pt x="16148" y="7163"/>
                  <a:pt x="16112" y="7324"/>
                  <a:pt x="16098" y="7491"/>
                </a:cubicBezTo>
                <a:cubicBezTo>
                  <a:pt x="16098" y="7565"/>
                  <a:pt x="16098" y="7623"/>
                  <a:pt x="16098" y="7565"/>
                </a:cubicBezTo>
              </a:path>
              <a:path w="3548" h="2630">
                <a:moveTo>
                  <a:pt x="16371" y="7169"/>
                </a:moveTo>
                <a:cubicBezTo>
                  <a:pt x="16316" y="7256"/>
                  <a:pt x="16324" y="7299"/>
                  <a:pt x="16247" y="7317"/>
                </a:cubicBezTo>
                <a:cubicBezTo>
                  <a:pt x="16316" y="7227"/>
                  <a:pt x="16430" y="7311"/>
                  <a:pt x="16520" y="7367"/>
                </a:cubicBezTo>
                <a:cubicBezTo>
                  <a:pt x="16553" y="7400"/>
                  <a:pt x="16570" y="7400"/>
                  <a:pt x="16594" y="7342"/>
                </a:cubicBezTo>
              </a:path>
              <a:path w="3548" h="2630">
                <a:moveTo>
                  <a:pt x="16545" y="6921"/>
                </a:moveTo>
                <a:cubicBezTo>
                  <a:pt x="16545" y="7143"/>
                  <a:pt x="16526" y="7346"/>
                  <a:pt x="16495" y="7565"/>
                </a:cubicBezTo>
                <a:cubicBezTo>
                  <a:pt x="16495" y="7573"/>
                  <a:pt x="16495" y="7582"/>
                  <a:pt x="16495" y="7590"/>
                </a:cubicBezTo>
              </a:path>
              <a:path w="3548" h="2630">
                <a:moveTo>
                  <a:pt x="17016" y="7119"/>
                </a:moveTo>
                <a:cubicBezTo>
                  <a:pt x="17016" y="7147"/>
                  <a:pt x="17014" y="7158"/>
                  <a:pt x="16991" y="7169"/>
                </a:cubicBezTo>
                <a:cubicBezTo>
                  <a:pt x="17008" y="7119"/>
                  <a:pt x="17115" y="7178"/>
                  <a:pt x="17165" y="7193"/>
                </a:cubicBezTo>
                <a:cubicBezTo>
                  <a:pt x="17226" y="7212"/>
                  <a:pt x="17253" y="7218"/>
                  <a:pt x="17314" y="7218"/>
                </a:cubicBezTo>
              </a:path>
              <a:path w="3548" h="2630">
                <a:moveTo>
                  <a:pt x="17314" y="6821"/>
                </a:moveTo>
                <a:cubicBezTo>
                  <a:pt x="17282" y="7010"/>
                  <a:pt x="17285" y="7297"/>
                  <a:pt x="17190" y="7466"/>
                </a:cubicBezTo>
                <a:cubicBezTo>
                  <a:pt x="17182" y="7466"/>
                  <a:pt x="17173" y="7466"/>
                  <a:pt x="17165" y="7466"/>
                </a:cubicBezTo>
              </a:path>
              <a:path w="3548" h="2630">
                <a:moveTo>
                  <a:pt x="15627" y="7838"/>
                </a:moveTo>
                <a:cubicBezTo>
                  <a:pt x="15647" y="7681"/>
                  <a:pt x="15679" y="7575"/>
                  <a:pt x="15677" y="7417"/>
                </a:cubicBezTo>
                <a:cubicBezTo>
                  <a:pt x="15674" y="7182"/>
                  <a:pt x="15601" y="6970"/>
                  <a:pt x="15577" y="6747"/>
                </a:cubicBezTo>
                <a:cubicBezTo>
                  <a:pt x="15577" y="6739"/>
                  <a:pt x="15577" y="6730"/>
                  <a:pt x="15577" y="6722"/>
                </a:cubicBezTo>
                <a:cubicBezTo>
                  <a:pt x="15926" y="6589"/>
                  <a:pt x="16380" y="6584"/>
                  <a:pt x="16743" y="6548"/>
                </a:cubicBezTo>
                <a:cubicBezTo>
                  <a:pt x="17009" y="6522"/>
                  <a:pt x="17614" y="6422"/>
                  <a:pt x="17859" y="6524"/>
                </a:cubicBezTo>
                <a:cubicBezTo>
                  <a:pt x="17834" y="6532"/>
                  <a:pt x="17810" y="6540"/>
                  <a:pt x="17785" y="6548"/>
                </a:cubicBezTo>
              </a:path>
              <a:path w="3548" h="2630">
                <a:moveTo>
                  <a:pt x="14461" y="7045"/>
                </a:moveTo>
                <a:cubicBezTo>
                  <a:pt x="14483" y="7174"/>
                  <a:pt x="14537" y="6988"/>
                  <a:pt x="14635" y="6995"/>
                </a:cubicBezTo>
                <a:cubicBezTo>
                  <a:pt x="14974" y="7019"/>
                  <a:pt x="14597" y="7525"/>
                  <a:pt x="14511" y="7590"/>
                </a:cubicBezTo>
                <a:cubicBezTo>
                  <a:pt x="14400" y="7635"/>
                  <a:pt x="14371" y="7659"/>
                  <a:pt x="14312" y="7590"/>
                </a:cubicBezTo>
                <a:cubicBezTo>
                  <a:pt x="14368" y="7467"/>
                  <a:pt x="14525" y="7408"/>
                  <a:pt x="14684" y="7491"/>
                </a:cubicBezTo>
                <a:cubicBezTo>
                  <a:pt x="14765" y="7533"/>
                  <a:pt x="14670" y="7565"/>
                  <a:pt x="14784" y="7516"/>
                </a:cubicBezTo>
              </a:path>
              <a:path w="3548" h="2630">
                <a:moveTo>
                  <a:pt x="15081" y="7094"/>
                </a:moveTo>
                <a:cubicBezTo>
                  <a:pt x="15081" y="7136"/>
                  <a:pt x="15099" y="7261"/>
                  <a:pt x="15131" y="7268"/>
                </a:cubicBezTo>
                <a:cubicBezTo>
                  <a:pt x="15312" y="7308"/>
                  <a:pt x="15335" y="7193"/>
                  <a:pt x="15404" y="7069"/>
                </a:cubicBezTo>
              </a:path>
              <a:path w="3548" h="2630">
                <a:moveTo>
                  <a:pt x="15329" y="6896"/>
                </a:moveTo>
                <a:cubicBezTo>
                  <a:pt x="15341" y="7087"/>
                  <a:pt x="15354" y="7274"/>
                  <a:pt x="15354" y="7466"/>
                </a:cubicBezTo>
                <a:cubicBezTo>
                  <a:pt x="15354" y="7474"/>
                  <a:pt x="15354" y="7483"/>
                  <a:pt x="15354" y="7491"/>
                </a:cubicBezTo>
              </a:path>
              <a:path w="3548" h="2630">
                <a:moveTo>
                  <a:pt x="14957" y="7541"/>
                </a:moveTo>
                <a:cubicBezTo>
                  <a:pt x="14871" y="7484"/>
                  <a:pt x="14995" y="7682"/>
                  <a:pt x="15032" y="7689"/>
                </a:cubicBezTo>
                <a:cubicBezTo>
                  <a:pt x="15244" y="7727"/>
                  <a:pt x="15421" y="7552"/>
                  <a:pt x="15478" y="7392"/>
                </a:cubicBezTo>
              </a:path>
              <a:path w="3548" h="2630">
                <a:moveTo>
                  <a:pt x="16743" y="7491"/>
                </a:moveTo>
                <a:cubicBezTo>
                  <a:pt x="16778" y="7632"/>
                  <a:pt x="16978" y="7626"/>
                  <a:pt x="17090" y="7615"/>
                </a:cubicBezTo>
                <a:cubicBezTo>
                  <a:pt x="17233" y="7601"/>
                  <a:pt x="17665" y="7459"/>
                  <a:pt x="17562" y="7243"/>
                </a:cubicBezTo>
                <a:cubicBezTo>
                  <a:pt x="17544" y="7206"/>
                  <a:pt x="17510" y="7197"/>
                  <a:pt x="17487" y="7144"/>
                </a:cubicBezTo>
              </a:path>
              <a:path w="3548" h="2630">
                <a:moveTo>
                  <a:pt x="17562" y="6077"/>
                </a:moveTo>
                <a:cubicBezTo>
                  <a:pt x="17571" y="6120"/>
                  <a:pt x="17578" y="6193"/>
                  <a:pt x="17611" y="6201"/>
                </a:cubicBezTo>
                <a:cubicBezTo>
                  <a:pt x="17667" y="6215"/>
                  <a:pt x="17655" y="6138"/>
                  <a:pt x="17661" y="6102"/>
                </a:cubicBezTo>
                <a:cubicBezTo>
                  <a:pt x="17560" y="6122"/>
                  <a:pt x="17576" y="6167"/>
                  <a:pt x="17611" y="6251"/>
                </a:cubicBezTo>
                <a:cubicBezTo>
                  <a:pt x="17719" y="6215"/>
                  <a:pt x="17684" y="6072"/>
                  <a:pt x="17636" y="6102"/>
                </a:cubicBezTo>
                <a:cubicBezTo>
                  <a:pt x="17616" y="6142"/>
                  <a:pt x="17607" y="6149"/>
                  <a:pt x="17611" y="6176"/>
                </a:cubicBezTo>
              </a:path>
              <a:path w="3548" h="2630">
                <a:moveTo>
                  <a:pt x="17140" y="5631"/>
                </a:moveTo>
                <a:cubicBezTo>
                  <a:pt x="17140" y="5513"/>
                  <a:pt x="17105" y="5811"/>
                  <a:pt x="17090" y="5928"/>
                </a:cubicBezTo>
                <a:cubicBezTo>
                  <a:pt x="17071" y="6073"/>
                  <a:pt x="17066" y="6205"/>
                  <a:pt x="17066" y="6350"/>
                </a:cubicBezTo>
                <a:cubicBezTo>
                  <a:pt x="17235" y="6333"/>
                  <a:pt x="17302" y="6300"/>
                  <a:pt x="17338" y="6127"/>
                </a:cubicBezTo>
                <a:cubicBezTo>
                  <a:pt x="17338" y="6061"/>
                  <a:pt x="17347" y="6036"/>
                  <a:pt x="17289" y="6052"/>
                </a:cubicBezTo>
                <a:cubicBezTo>
                  <a:pt x="17155" y="6174"/>
                  <a:pt x="17131" y="6298"/>
                  <a:pt x="17190" y="6474"/>
                </a:cubicBezTo>
              </a:path>
              <a:path w="3548" h="2630">
                <a:moveTo>
                  <a:pt x="17438" y="7665"/>
                </a:moveTo>
                <a:cubicBezTo>
                  <a:pt x="17376" y="7848"/>
                  <a:pt x="17327" y="7988"/>
                  <a:pt x="17314" y="8186"/>
                </a:cubicBezTo>
                <a:cubicBezTo>
                  <a:pt x="17314" y="8210"/>
                  <a:pt x="17314" y="8219"/>
                  <a:pt x="17314" y="82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035840" y="2419200"/>
            <a:ext cx="216000" cy="196920"/>
          </a:xfrm>
          <a:custGeom>
            <a:avLst/>
            <a:gdLst/>
            <a:ahLst/>
            <a:rect l="l" t="t" r="r" b="b"/>
            <a:pathLst>
              <a:path w="596" h="547">
                <a:moveTo>
                  <a:pt x="19645" y="6896"/>
                </a:moveTo>
                <a:cubicBezTo>
                  <a:pt x="19645" y="6914"/>
                  <a:pt x="19576" y="7159"/>
                  <a:pt x="19546" y="7268"/>
                </a:cubicBezTo>
              </a:path>
              <a:path w="596" h="547">
                <a:moveTo>
                  <a:pt x="19819" y="6821"/>
                </a:moveTo>
                <a:cubicBezTo>
                  <a:pt x="19819" y="6896"/>
                  <a:pt x="19819" y="6920"/>
                  <a:pt x="19819" y="6970"/>
                </a:cubicBezTo>
                <a:cubicBezTo>
                  <a:pt x="20009" y="6980"/>
                  <a:pt x="20006" y="6981"/>
                  <a:pt x="20141" y="6846"/>
                </a:cubicBezTo>
              </a:path>
              <a:path w="596" h="547">
                <a:moveTo>
                  <a:pt x="20141" y="6722"/>
                </a:moveTo>
                <a:cubicBezTo>
                  <a:pt x="20086" y="6896"/>
                  <a:pt x="20037" y="7066"/>
                  <a:pt x="19993" y="72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840040" y="2786040"/>
            <a:ext cx="3463920" cy="1741680"/>
          </a:xfrm>
          <a:custGeom>
            <a:avLst/>
            <a:gdLst/>
            <a:ahLst/>
            <a:rect l="l" t="t" r="r" b="b"/>
            <a:pathLst>
              <a:path w="9625" h="4838">
                <a:moveTo>
                  <a:pt x="17214" y="7739"/>
                </a:moveTo>
                <a:cubicBezTo>
                  <a:pt x="17165" y="7819"/>
                  <a:pt x="17142" y="7896"/>
                  <a:pt x="17115" y="7987"/>
                </a:cubicBezTo>
                <a:cubicBezTo>
                  <a:pt x="17274" y="8047"/>
                  <a:pt x="17379" y="7979"/>
                  <a:pt x="17512" y="7888"/>
                </a:cubicBezTo>
              </a:path>
              <a:path w="9625" h="4838">
                <a:moveTo>
                  <a:pt x="7888" y="12576"/>
                </a:moveTo>
                <a:lnTo>
                  <a:pt x="7888" y="12576"/>
                </a:lnTo>
              </a:path>
              <a:path w="9625" h="4838">
                <a:moveTo>
                  <a:pt x="11038" y="11112"/>
                </a:moveTo>
                <a:cubicBezTo>
                  <a:pt x="11038" y="11120"/>
                  <a:pt x="11038" y="11129"/>
                  <a:pt x="11038" y="11137"/>
                </a:cubicBezTo>
              </a:path>
              <a:path w="9625" h="4838">
                <a:moveTo>
                  <a:pt x="11038" y="11137"/>
                </a:moveTo>
                <a:lnTo>
                  <a:pt x="11038" y="11137"/>
                </a:lnTo>
              </a:path>
              <a:path w="9625" h="4838">
                <a:moveTo>
                  <a:pt x="11906" y="10468"/>
                </a:moveTo>
                <a:cubicBezTo>
                  <a:pt x="12030" y="10426"/>
                  <a:pt x="12055" y="10418"/>
                  <a:pt x="12129" y="10393"/>
                </a:cubicBezTo>
              </a:path>
              <a:path w="9625" h="4838">
                <a:moveTo>
                  <a:pt x="12129" y="10393"/>
                </a:moveTo>
                <a:lnTo>
                  <a:pt x="12129" y="10393"/>
                </a:lnTo>
              </a:path>
              <a:path w="9625" h="4838">
                <a:moveTo>
                  <a:pt x="12303" y="10914"/>
                </a:moveTo>
                <a:cubicBezTo>
                  <a:pt x="12557" y="10843"/>
                  <a:pt x="12842" y="10715"/>
                  <a:pt x="12725" y="10368"/>
                </a:cubicBezTo>
                <a:cubicBezTo>
                  <a:pt x="12599" y="9997"/>
                  <a:pt x="12054" y="10003"/>
                  <a:pt x="12005" y="10418"/>
                </a:cubicBezTo>
                <a:cubicBezTo>
                  <a:pt x="12048" y="10675"/>
                  <a:pt x="12042" y="10740"/>
                  <a:pt x="12154" y="108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366920" y="1820880"/>
            <a:ext cx="295200" cy="189000"/>
          </a:xfrm>
          <a:custGeom>
            <a:avLst/>
            <a:gdLst/>
            <a:ahLst/>
            <a:rect l="l" t="t" r="r" b="b"/>
            <a:pathLst>
              <a:path w="820" h="522">
                <a:moveTo>
                  <a:pt x="3795" y="5110"/>
                </a:moveTo>
                <a:cubicBezTo>
                  <a:pt x="3987" y="5150"/>
                  <a:pt x="4143" y="5275"/>
                  <a:pt x="3994" y="5507"/>
                </a:cubicBezTo>
                <a:cubicBezTo>
                  <a:pt x="3912" y="5634"/>
                  <a:pt x="3839" y="5578"/>
                  <a:pt x="3820" y="5482"/>
                </a:cubicBezTo>
                <a:cubicBezTo>
                  <a:pt x="3887" y="5453"/>
                  <a:pt x="3984" y="5433"/>
                  <a:pt x="4043" y="5507"/>
                </a:cubicBezTo>
                <a:cubicBezTo>
                  <a:pt x="4051" y="5523"/>
                  <a:pt x="4060" y="5540"/>
                  <a:pt x="4068" y="5556"/>
                </a:cubicBezTo>
              </a:path>
              <a:path w="820" h="522">
                <a:moveTo>
                  <a:pt x="4490" y="5060"/>
                </a:moveTo>
                <a:cubicBezTo>
                  <a:pt x="4425" y="5104"/>
                  <a:pt x="4405" y="5110"/>
                  <a:pt x="4390" y="5159"/>
                </a:cubicBezTo>
                <a:cubicBezTo>
                  <a:pt x="4502" y="5263"/>
                  <a:pt x="4623" y="5302"/>
                  <a:pt x="4564" y="5432"/>
                </a:cubicBezTo>
                <a:cubicBezTo>
                  <a:pt x="4400" y="5412"/>
                  <a:pt x="4501" y="5285"/>
                  <a:pt x="4564" y="5159"/>
                </a:cubicBezTo>
                <a:cubicBezTo>
                  <a:pt x="4572" y="5143"/>
                  <a:pt x="4581" y="5126"/>
                  <a:pt x="4589" y="51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84160" y="1776240"/>
            <a:ext cx="1258920" cy="1563840"/>
          </a:xfrm>
          <a:custGeom>
            <a:avLst/>
            <a:gdLst/>
            <a:ahLst/>
            <a:rect l="l" t="t" r="r" b="b"/>
            <a:pathLst>
              <a:path w="3498" h="4342">
                <a:moveTo>
                  <a:pt x="5904" y="5358"/>
                </a:moveTo>
                <a:cubicBezTo>
                  <a:pt x="5952" y="5341"/>
                  <a:pt x="5929" y="5276"/>
                  <a:pt x="5879" y="5259"/>
                </a:cubicBezTo>
                <a:cubicBezTo>
                  <a:pt x="5690" y="5196"/>
                  <a:pt x="5670" y="5397"/>
                  <a:pt x="5680" y="5531"/>
                </a:cubicBezTo>
                <a:cubicBezTo>
                  <a:pt x="5849" y="5542"/>
                  <a:pt x="5834" y="5535"/>
                  <a:pt x="5953" y="5407"/>
                </a:cubicBezTo>
              </a:path>
              <a:path w="3498" h="4342">
                <a:moveTo>
                  <a:pt x="5904" y="4936"/>
                </a:moveTo>
                <a:cubicBezTo>
                  <a:pt x="5904" y="5128"/>
                  <a:pt x="5923" y="5315"/>
                  <a:pt x="5928" y="5507"/>
                </a:cubicBezTo>
                <a:cubicBezTo>
                  <a:pt x="5928" y="5523"/>
                  <a:pt x="5928" y="5540"/>
                  <a:pt x="5928" y="5556"/>
                </a:cubicBezTo>
              </a:path>
              <a:path w="3498" h="4342">
                <a:moveTo>
                  <a:pt x="2456" y="8855"/>
                </a:moveTo>
                <a:cubicBezTo>
                  <a:pt x="2456" y="8999"/>
                  <a:pt x="2468" y="9135"/>
                  <a:pt x="2480" y="92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411280" y="2197080"/>
            <a:ext cx="1697040" cy="2394000"/>
          </a:xfrm>
          <a:custGeom>
            <a:avLst/>
            <a:gdLst/>
            <a:ahLst/>
            <a:rect l="l" t="t" r="r" b="b"/>
            <a:pathLst>
              <a:path w="4714" h="6649">
                <a:moveTo>
                  <a:pt x="6921" y="7565"/>
                </a:moveTo>
                <a:cubicBezTo>
                  <a:pt x="6860" y="7707"/>
                  <a:pt x="6697" y="7955"/>
                  <a:pt x="6697" y="8111"/>
                </a:cubicBezTo>
                <a:cubicBezTo>
                  <a:pt x="6705" y="8103"/>
                  <a:pt x="6714" y="8094"/>
                  <a:pt x="6722" y="8086"/>
                </a:cubicBezTo>
              </a:path>
              <a:path w="4714" h="6649">
                <a:moveTo>
                  <a:pt x="7169" y="7466"/>
                </a:moveTo>
                <a:cubicBezTo>
                  <a:pt x="7117" y="7483"/>
                  <a:pt x="7106" y="7481"/>
                  <a:pt x="7144" y="7441"/>
                </a:cubicBezTo>
                <a:cubicBezTo>
                  <a:pt x="7230" y="7377"/>
                  <a:pt x="7246" y="7352"/>
                  <a:pt x="7317" y="7367"/>
                </a:cubicBezTo>
                <a:cubicBezTo>
                  <a:pt x="7375" y="7619"/>
                  <a:pt x="7370" y="7751"/>
                  <a:pt x="7169" y="7913"/>
                </a:cubicBezTo>
                <a:cubicBezTo>
                  <a:pt x="7114" y="7842"/>
                  <a:pt x="7024" y="7739"/>
                  <a:pt x="7169" y="7714"/>
                </a:cubicBezTo>
                <a:cubicBezTo>
                  <a:pt x="7326" y="7687"/>
                  <a:pt x="7440" y="7742"/>
                  <a:pt x="7491" y="7888"/>
                </a:cubicBezTo>
                <a:cubicBezTo>
                  <a:pt x="7491" y="7896"/>
                  <a:pt x="7491" y="7905"/>
                  <a:pt x="7491" y="7913"/>
                </a:cubicBezTo>
              </a:path>
              <a:path w="4714" h="6649">
                <a:moveTo>
                  <a:pt x="7764" y="7491"/>
                </a:moveTo>
                <a:cubicBezTo>
                  <a:pt x="7773" y="7538"/>
                  <a:pt x="7790" y="7675"/>
                  <a:pt x="7838" y="7689"/>
                </a:cubicBezTo>
                <a:cubicBezTo>
                  <a:pt x="7977" y="7729"/>
                  <a:pt x="8037" y="7601"/>
                  <a:pt x="8111" y="7516"/>
                </a:cubicBezTo>
              </a:path>
              <a:path w="4714" h="6649">
                <a:moveTo>
                  <a:pt x="9227" y="6995"/>
                </a:moveTo>
                <a:cubicBezTo>
                  <a:pt x="9092" y="6995"/>
                  <a:pt x="9278" y="6945"/>
                  <a:pt x="9327" y="6921"/>
                </a:cubicBezTo>
                <a:cubicBezTo>
                  <a:pt x="9437" y="7110"/>
                  <a:pt x="9371" y="7326"/>
                  <a:pt x="9153" y="7441"/>
                </a:cubicBezTo>
                <a:cubicBezTo>
                  <a:pt x="9112" y="7441"/>
                  <a:pt x="9070" y="7441"/>
                  <a:pt x="9029" y="7441"/>
                </a:cubicBezTo>
                <a:cubicBezTo>
                  <a:pt x="9101" y="7261"/>
                  <a:pt x="9237" y="7212"/>
                  <a:pt x="9426" y="7293"/>
                </a:cubicBezTo>
                <a:cubicBezTo>
                  <a:pt x="9536" y="7340"/>
                  <a:pt x="9525" y="7454"/>
                  <a:pt x="9525" y="7441"/>
                </a:cubicBezTo>
              </a:path>
              <a:path w="4714" h="6649">
                <a:moveTo>
                  <a:pt x="10170" y="6672"/>
                </a:moveTo>
                <a:cubicBezTo>
                  <a:pt x="10170" y="6854"/>
                  <a:pt x="10170" y="7036"/>
                  <a:pt x="10170" y="7218"/>
                </a:cubicBezTo>
              </a:path>
              <a:path w="4714" h="6649">
                <a:moveTo>
                  <a:pt x="9029" y="7714"/>
                </a:moveTo>
                <a:cubicBezTo>
                  <a:pt x="9150" y="7851"/>
                  <a:pt x="9226" y="7970"/>
                  <a:pt x="9302" y="8136"/>
                </a:cubicBezTo>
              </a:path>
              <a:path w="4714" h="6649">
                <a:moveTo>
                  <a:pt x="10120" y="7441"/>
                </a:moveTo>
                <a:cubicBezTo>
                  <a:pt x="10085" y="7583"/>
                  <a:pt x="9987" y="7734"/>
                  <a:pt x="10021" y="7888"/>
                </a:cubicBezTo>
                <a:cubicBezTo>
                  <a:pt x="10038" y="7913"/>
                  <a:pt x="10054" y="7937"/>
                  <a:pt x="10071" y="7962"/>
                </a:cubicBezTo>
                <a:cubicBezTo>
                  <a:pt x="10303" y="7916"/>
                  <a:pt x="10341" y="7845"/>
                  <a:pt x="10418" y="7615"/>
                </a:cubicBezTo>
                <a:cubicBezTo>
                  <a:pt x="10274" y="7663"/>
                  <a:pt x="10249" y="7767"/>
                  <a:pt x="10220" y="7913"/>
                </a:cubicBezTo>
              </a:path>
              <a:path w="4714" h="6649">
                <a:moveTo>
                  <a:pt x="8979" y="8210"/>
                </a:moveTo>
                <a:cubicBezTo>
                  <a:pt x="9438" y="8121"/>
                  <a:pt x="9902" y="8032"/>
                  <a:pt x="10368" y="7987"/>
                </a:cubicBezTo>
                <a:cubicBezTo>
                  <a:pt x="10559" y="7969"/>
                  <a:pt x="10470" y="7990"/>
                  <a:pt x="10592" y="7962"/>
                </a:cubicBezTo>
              </a:path>
              <a:path w="4714" h="6649">
                <a:moveTo>
                  <a:pt x="10492" y="8235"/>
                </a:moveTo>
                <a:cubicBezTo>
                  <a:pt x="10440" y="8412"/>
                  <a:pt x="10414" y="8619"/>
                  <a:pt x="10344" y="8781"/>
                </a:cubicBezTo>
              </a:path>
              <a:path w="4714" h="6649">
                <a:moveTo>
                  <a:pt x="9178" y="6226"/>
                </a:moveTo>
                <a:cubicBezTo>
                  <a:pt x="9088" y="6286"/>
                  <a:pt x="9264" y="6124"/>
                  <a:pt x="9302" y="6102"/>
                </a:cubicBezTo>
                <a:cubicBezTo>
                  <a:pt x="9422" y="6277"/>
                  <a:pt x="9397" y="6517"/>
                  <a:pt x="9153" y="6623"/>
                </a:cubicBezTo>
                <a:cubicBezTo>
                  <a:pt x="9112" y="6623"/>
                  <a:pt x="9070" y="6623"/>
                  <a:pt x="9029" y="6623"/>
                </a:cubicBezTo>
                <a:cubicBezTo>
                  <a:pt x="9108" y="6425"/>
                  <a:pt x="9182" y="6402"/>
                  <a:pt x="9376" y="6524"/>
                </a:cubicBezTo>
                <a:cubicBezTo>
                  <a:pt x="9415" y="6562"/>
                  <a:pt x="9432" y="6564"/>
                  <a:pt x="9426" y="6598"/>
                </a:cubicBezTo>
              </a:path>
              <a:path w="4714" h="6649">
                <a:moveTo>
                  <a:pt x="9203" y="8434"/>
                </a:moveTo>
                <a:cubicBezTo>
                  <a:pt x="9223" y="8615"/>
                  <a:pt x="9151" y="9145"/>
                  <a:pt x="9227" y="8979"/>
                </a:cubicBezTo>
                <a:cubicBezTo>
                  <a:pt x="9235" y="8946"/>
                  <a:pt x="9244" y="8913"/>
                  <a:pt x="9252" y="8880"/>
                </a:cubicBezTo>
              </a:path>
              <a:path w="4714" h="6649">
                <a:moveTo>
                  <a:pt x="9451" y="8508"/>
                </a:moveTo>
                <a:cubicBezTo>
                  <a:pt x="9451" y="8673"/>
                  <a:pt x="9490" y="8680"/>
                  <a:pt x="9674" y="8632"/>
                </a:cubicBezTo>
                <a:cubicBezTo>
                  <a:pt x="9774" y="8592"/>
                  <a:pt x="9803" y="8599"/>
                  <a:pt x="9823" y="8533"/>
                </a:cubicBezTo>
              </a:path>
              <a:path w="4714" h="6649">
                <a:moveTo>
                  <a:pt x="9748" y="8310"/>
                </a:moveTo>
                <a:cubicBezTo>
                  <a:pt x="9724" y="8462"/>
                  <a:pt x="9699" y="8741"/>
                  <a:pt x="9699" y="8806"/>
                </a:cubicBezTo>
              </a:path>
              <a:path w="4714" h="6649">
                <a:moveTo>
                  <a:pt x="10790" y="7069"/>
                </a:moveTo>
                <a:cubicBezTo>
                  <a:pt x="11118" y="7035"/>
                  <a:pt x="11491" y="6997"/>
                  <a:pt x="11410" y="6548"/>
                </a:cubicBezTo>
                <a:cubicBezTo>
                  <a:pt x="11377" y="6482"/>
                  <a:pt x="11344" y="6416"/>
                  <a:pt x="11311" y="6350"/>
                </a:cubicBezTo>
                <a:cubicBezTo>
                  <a:pt x="10955" y="6341"/>
                  <a:pt x="10409" y="6488"/>
                  <a:pt x="10765" y="6995"/>
                </a:cubicBezTo>
                <a:cubicBezTo>
                  <a:pt x="10823" y="7020"/>
                  <a:pt x="10881" y="7044"/>
                  <a:pt x="10939" y="7069"/>
                </a:cubicBezTo>
              </a:path>
              <a:path w="4714" h="6649">
                <a:moveTo>
                  <a:pt x="9872" y="8830"/>
                </a:moveTo>
                <a:cubicBezTo>
                  <a:pt x="9956" y="8893"/>
                  <a:pt x="9959" y="8799"/>
                  <a:pt x="9971" y="8731"/>
                </a:cubicBezTo>
                <a:cubicBezTo>
                  <a:pt x="9905" y="8772"/>
                  <a:pt x="9854" y="8815"/>
                  <a:pt x="9947" y="8830"/>
                </a:cubicBezTo>
              </a:path>
              <a:path w="4714" h="6649">
                <a:moveTo>
                  <a:pt x="7119" y="12303"/>
                </a:moveTo>
                <a:cubicBezTo>
                  <a:pt x="7132" y="12460"/>
                  <a:pt x="7176" y="12599"/>
                  <a:pt x="7218" y="127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705120" y="3687840"/>
            <a:ext cx="849240" cy="1009440"/>
          </a:xfrm>
          <a:custGeom>
            <a:avLst/>
            <a:gdLst/>
            <a:ahLst/>
            <a:rect l="l" t="t" r="r" b="b"/>
            <a:pathLst>
              <a:path w="2357" h="2804">
                <a:moveTo>
                  <a:pt x="10641" y="10840"/>
                </a:moveTo>
                <a:cubicBezTo>
                  <a:pt x="10680" y="10763"/>
                  <a:pt x="10762" y="10757"/>
                  <a:pt x="10840" y="10765"/>
                </a:cubicBezTo>
                <a:cubicBezTo>
                  <a:pt x="10812" y="10923"/>
                  <a:pt x="10785" y="10952"/>
                  <a:pt x="10666" y="11063"/>
                </a:cubicBezTo>
                <a:cubicBezTo>
                  <a:pt x="10778" y="11035"/>
                  <a:pt x="10933" y="11035"/>
                  <a:pt x="10840" y="11212"/>
                </a:cubicBezTo>
                <a:cubicBezTo>
                  <a:pt x="10748" y="11387"/>
                  <a:pt x="10576" y="11476"/>
                  <a:pt x="10592" y="11237"/>
                </a:cubicBezTo>
              </a:path>
              <a:path w="2357" h="2804">
                <a:moveTo>
                  <a:pt x="11237" y="10790"/>
                </a:moveTo>
                <a:cubicBezTo>
                  <a:pt x="11237" y="10874"/>
                  <a:pt x="11231" y="10894"/>
                  <a:pt x="11261" y="10939"/>
                </a:cubicBezTo>
                <a:cubicBezTo>
                  <a:pt x="11486" y="10939"/>
                  <a:pt x="11506" y="10939"/>
                  <a:pt x="11584" y="10740"/>
                </a:cubicBezTo>
              </a:path>
              <a:path w="2357" h="2804">
                <a:moveTo>
                  <a:pt x="11534" y="10641"/>
                </a:moveTo>
                <a:cubicBezTo>
                  <a:pt x="11502" y="10779"/>
                  <a:pt x="11423" y="11101"/>
                  <a:pt x="11460" y="11137"/>
                </a:cubicBezTo>
              </a:path>
              <a:path w="2357" h="2804">
                <a:moveTo>
                  <a:pt x="11832" y="10567"/>
                </a:moveTo>
                <a:cubicBezTo>
                  <a:pt x="11798" y="10609"/>
                  <a:pt x="11751" y="10654"/>
                  <a:pt x="11733" y="10691"/>
                </a:cubicBezTo>
                <a:cubicBezTo>
                  <a:pt x="11804" y="10711"/>
                  <a:pt x="12027" y="10761"/>
                  <a:pt x="12030" y="10864"/>
                </a:cubicBezTo>
                <a:cubicBezTo>
                  <a:pt x="12037" y="11085"/>
                  <a:pt x="11811" y="10966"/>
                  <a:pt x="11733" y="10939"/>
                </a:cubicBezTo>
              </a:path>
              <a:path w="2357" h="2804">
                <a:moveTo>
                  <a:pt x="11807" y="11212"/>
                </a:moveTo>
                <a:cubicBezTo>
                  <a:pt x="11826" y="11188"/>
                  <a:pt x="12030" y="11029"/>
                  <a:pt x="12080" y="11088"/>
                </a:cubicBezTo>
                <a:cubicBezTo>
                  <a:pt x="12154" y="11174"/>
                  <a:pt x="11954" y="11274"/>
                  <a:pt x="11906" y="11311"/>
                </a:cubicBezTo>
                <a:cubicBezTo>
                  <a:pt x="11991" y="11297"/>
                  <a:pt x="12158" y="11209"/>
                  <a:pt x="12105" y="11385"/>
                </a:cubicBezTo>
                <a:cubicBezTo>
                  <a:pt x="12038" y="11609"/>
                  <a:pt x="11810" y="11673"/>
                  <a:pt x="11708" y="11534"/>
                </a:cubicBezTo>
              </a:path>
              <a:path w="2357" h="2804">
                <a:moveTo>
                  <a:pt x="10319" y="12055"/>
                </a:moveTo>
                <a:cubicBezTo>
                  <a:pt x="11020" y="11908"/>
                  <a:pt x="11731" y="11780"/>
                  <a:pt x="12427" y="11609"/>
                </a:cubicBezTo>
                <a:cubicBezTo>
                  <a:pt x="12468" y="11589"/>
                  <a:pt x="12484" y="11591"/>
                  <a:pt x="12477" y="11559"/>
                </a:cubicBezTo>
              </a:path>
              <a:path w="2357" h="2804">
                <a:moveTo>
                  <a:pt x="10294" y="11584"/>
                </a:moveTo>
                <a:cubicBezTo>
                  <a:pt x="10379" y="11658"/>
                  <a:pt x="10396" y="11839"/>
                  <a:pt x="10418" y="11708"/>
                </a:cubicBezTo>
              </a:path>
              <a:path w="2357" h="2804">
                <a:moveTo>
                  <a:pt x="12204" y="11881"/>
                </a:moveTo>
                <a:cubicBezTo>
                  <a:pt x="12181" y="11836"/>
                  <a:pt x="12126" y="11928"/>
                  <a:pt x="12080" y="11956"/>
                </a:cubicBezTo>
                <a:cubicBezTo>
                  <a:pt x="12046" y="11977"/>
                  <a:pt x="12040" y="12047"/>
                  <a:pt x="12030" y="12105"/>
                </a:cubicBezTo>
                <a:cubicBezTo>
                  <a:pt x="12128" y="12105"/>
                  <a:pt x="12237" y="12048"/>
                  <a:pt x="12328" y="12105"/>
                </a:cubicBezTo>
                <a:cubicBezTo>
                  <a:pt x="12590" y="12269"/>
                  <a:pt x="11987" y="12238"/>
                  <a:pt x="11956" y="12229"/>
                </a:cubicBezTo>
              </a:path>
              <a:path w="2357" h="2804">
                <a:moveTo>
                  <a:pt x="11336" y="10244"/>
                </a:moveTo>
                <a:cubicBezTo>
                  <a:pt x="11318" y="10393"/>
                  <a:pt x="11311" y="10841"/>
                  <a:pt x="11311" y="10691"/>
                </a:cubicBezTo>
                <a:cubicBezTo>
                  <a:pt x="11311" y="10666"/>
                  <a:pt x="11311" y="10641"/>
                  <a:pt x="11311" y="10616"/>
                </a:cubicBezTo>
              </a:path>
              <a:path w="2357" h="2804">
                <a:moveTo>
                  <a:pt x="11509" y="11981"/>
                </a:moveTo>
                <a:cubicBezTo>
                  <a:pt x="11421" y="11981"/>
                  <a:pt x="11501" y="11924"/>
                  <a:pt x="11559" y="11881"/>
                </a:cubicBezTo>
                <a:cubicBezTo>
                  <a:pt x="11576" y="11873"/>
                  <a:pt x="11592" y="11865"/>
                  <a:pt x="11609" y="11857"/>
                </a:cubicBezTo>
                <a:cubicBezTo>
                  <a:pt x="11617" y="11976"/>
                  <a:pt x="11597" y="12020"/>
                  <a:pt x="11534" y="12129"/>
                </a:cubicBezTo>
                <a:cubicBezTo>
                  <a:pt x="11656" y="12109"/>
                  <a:pt x="11754" y="12157"/>
                  <a:pt x="11658" y="12328"/>
                </a:cubicBezTo>
                <a:cubicBezTo>
                  <a:pt x="11522" y="12568"/>
                  <a:pt x="11449" y="12474"/>
                  <a:pt x="11286" y="12378"/>
                </a:cubicBezTo>
              </a:path>
              <a:path w="2357" h="2804">
                <a:moveTo>
                  <a:pt x="10294" y="10319"/>
                </a:moveTo>
                <a:cubicBezTo>
                  <a:pt x="10311" y="10434"/>
                  <a:pt x="10319" y="10782"/>
                  <a:pt x="10319" y="10666"/>
                </a:cubicBezTo>
                <a:cubicBezTo>
                  <a:pt x="10319" y="10658"/>
                  <a:pt x="10319" y="10649"/>
                  <a:pt x="10319" y="10641"/>
                </a:cubicBezTo>
              </a:path>
              <a:path w="2357" h="2804">
                <a:moveTo>
                  <a:pt x="10492" y="12427"/>
                </a:moveTo>
                <a:cubicBezTo>
                  <a:pt x="10459" y="12597"/>
                  <a:pt x="10492" y="12812"/>
                  <a:pt x="10492" y="12998"/>
                </a:cubicBezTo>
                <a:cubicBezTo>
                  <a:pt x="10492" y="13072"/>
                  <a:pt x="10492" y="13063"/>
                  <a:pt x="10492" y="12923"/>
                </a:cubicBezTo>
              </a:path>
              <a:path w="2357" h="2804">
                <a:moveTo>
                  <a:pt x="10691" y="12328"/>
                </a:moveTo>
                <a:cubicBezTo>
                  <a:pt x="10670" y="12499"/>
                  <a:pt x="10665" y="12590"/>
                  <a:pt x="10716" y="12750"/>
                </a:cubicBezTo>
                <a:cubicBezTo>
                  <a:pt x="10812" y="12683"/>
                  <a:pt x="11031" y="12486"/>
                  <a:pt x="10864" y="12353"/>
                </a:cubicBezTo>
                <a:cubicBezTo>
                  <a:pt x="10775" y="12331"/>
                  <a:pt x="10750" y="12330"/>
                  <a:pt x="10716" y="12278"/>
                </a:cubicBezTo>
              </a:path>
              <a:path w="2357" h="2804">
                <a:moveTo>
                  <a:pt x="12477" y="10344"/>
                </a:moveTo>
                <a:cubicBezTo>
                  <a:pt x="12441" y="10320"/>
                  <a:pt x="12409" y="10375"/>
                  <a:pt x="12378" y="10443"/>
                </a:cubicBezTo>
                <a:cubicBezTo>
                  <a:pt x="12378" y="10451"/>
                  <a:pt x="12378" y="10460"/>
                  <a:pt x="12378" y="10468"/>
                </a:cubicBezTo>
                <a:cubicBezTo>
                  <a:pt x="12384" y="10434"/>
                  <a:pt x="12406" y="10302"/>
                  <a:pt x="12452" y="10319"/>
                </a:cubicBezTo>
                <a:cubicBezTo>
                  <a:pt x="12685" y="10404"/>
                  <a:pt x="12528" y="10664"/>
                  <a:pt x="12402" y="10765"/>
                </a:cubicBezTo>
                <a:cubicBezTo>
                  <a:pt x="12328" y="10790"/>
                  <a:pt x="12303" y="10798"/>
                  <a:pt x="12303" y="10716"/>
                </a:cubicBezTo>
                <a:cubicBezTo>
                  <a:pt x="12372" y="10664"/>
                  <a:pt x="12505" y="10728"/>
                  <a:pt x="12601" y="10691"/>
                </a:cubicBezTo>
                <a:cubicBezTo>
                  <a:pt x="12617" y="10674"/>
                  <a:pt x="12634" y="10658"/>
                  <a:pt x="12650" y="10641"/>
                </a:cubicBezTo>
              </a:path>
              <a:path w="2357" h="2804">
                <a:moveTo>
                  <a:pt x="11137" y="12725"/>
                </a:moveTo>
                <a:cubicBezTo>
                  <a:pt x="11091" y="12740"/>
                  <a:pt x="11115" y="12831"/>
                  <a:pt x="11137" y="12774"/>
                </a:cubicBezTo>
                <a:cubicBezTo>
                  <a:pt x="11157" y="12697"/>
                  <a:pt x="11181" y="12679"/>
                  <a:pt x="11137" y="12650"/>
                </a:cubicBezTo>
                <a:cubicBezTo>
                  <a:pt x="11124" y="12672"/>
                  <a:pt x="11112" y="12759"/>
                  <a:pt x="11112" y="127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41240" y="2625840"/>
            <a:ext cx="2143080" cy="588960"/>
          </a:xfrm>
          <a:custGeom>
            <a:avLst/>
            <a:gdLst/>
            <a:ahLst/>
            <a:rect l="l" t="t" r="r" b="b"/>
            <a:pathLst>
              <a:path w="5954" h="1638">
                <a:moveTo>
                  <a:pt x="2381" y="8582"/>
                </a:moveTo>
                <a:lnTo>
                  <a:pt x="2381" y="8582"/>
                </a:lnTo>
                <a:lnTo>
                  <a:pt x="2381" y="8582"/>
                </a:lnTo>
              </a:path>
              <a:path w="5954" h="1638">
                <a:moveTo>
                  <a:pt x="2381" y="8582"/>
                </a:moveTo>
                <a:lnTo>
                  <a:pt x="2381" y="8582"/>
                </a:lnTo>
              </a:path>
              <a:path w="5954" h="1638">
                <a:moveTo>
                  <a:pt x="2480" y="8310"/>
                </a:moveTo>
                <a:cubicBezTo>
                  <a:pt x="2531" y="8427"/>
                  <a:pt x="2607" y="8377"/>
                  <a:pt x="2704" y="8310"/>
                </a:cubicBezTo>
              </a:path>
              <a:path w="5954" h="1638">
                <a:moveTo>
                  <a:pt x="2629" y="8111"/>
                </a:moveTo>
                <a:cubicBezTo>
                  <a:pt x="2642" y="8264"/>
                  <a:pt x="2685" y="8408"/>
                  <a:pt x="2704" y="8558"/>
                </a:cubicBezTo>
              </a:path>
              <a:path w="5954" h="1638">
                <a:moveTo>
                  <a:pt x="6772" y="7615"/>
                </a:moveTo>
                <a:cubicBezTo>
                  <a:pt x="6827" y="7755"/>
                  <a:pt x="6801" y="8128"/>
                  <a:pt x="6921" y="8037"/>
                </a:cubicBezTo>
                <a:cubicBezTo>
                  <a:pt x="6921" y="8012"/>
                  <a:pt x="6921" y="7987"/>
                  <a:pt x="6921" y="7962"/>
                </a:cubicBezTo>
              </a:path>
              <a:path w="5954" h="1638">
                <a:moveTo>
                  <a:pt x="7094" y="7813"/>
                </a:moveTo>
                <a:lnTo>
                  <a:pt x="7094" y="7813"/>
                </a:lnTo>
              </a:path>
              <a:path w="5954" h="1638">
                <a:moveTo>
                  <a:pt x="7590" y="7813"/>
                </a:moveTo>
                <a:cubicBezTo>
                  <a:pt x="7598" y="7830"/>
                  <a:pt x="7607" y="7846"/>
                  <a:pt x="7615" y="7863"/>
                </a:cubicBezTo>
              </a:path>
              <a:path w="5954" h="1638">
                <a:moveTo>
                  <a:pt x="8012" y="7293"/>
                </a:moveTo>
                <a:cubicBezTo>
                  <a:pt x="7978" y="7478"/>
                  <a:pt x="7961" y="7652"/>
                  <a:pt x="7938" y="7838"/>
                </a:cubicBezTo>
              </a:path>
              <a:path w="5954" h="1638">
                <a:moveTo>
                  <a:pt x="2059" y="8930"/>
                </a:moveTo>
                <a:cubicBezTo>
                  <a:pt x="2235" y="8766"/>
                  <a:pt x="2402" y="8643"/>
                  <a:pt x="2629" y="8558"/>
                </a:cubicBezTo>
                <a:cubicBezTo>
                  <a:pt x="2637" y="8558"/>
                  <a:pt x="2646" y="8558"/>
                  <a:pt x="2654" y="85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8840" y="750960"/>
            <a:ext cx="2778120" cy="2500200"/>
          </a:xfrm>
          <a:custGeom>
            <a:avLst/>
            <a:gdLst/>
            <a:ahLst/>
            <a:rect l="l" t="t" r="r" b="b"/>
            <a:pathLst>
              <a:path w="7716" h="6946">
                <a:moveTo>
                  <a:pt x="6424" y="3175"/>
                </a:moveTo>
                <a:cubicBezTo>
                  <a:pt x="6454" y="3325"/>
                  <a:pt x="6504" y="3534"/>
                  <a:pt x="6573" y="3671"/>
                </a:cubicBezTo>
                <a:cubicBezTo>
                  <a:pt x="6581" y="3671"/>
                  <a:pt x="6590" y="3671"/>
                  <a:pt x="6598" y="3671"/>
                </a:cubicBezTo>
              </a:path>
              <a:path w="7716" h="6946">
                <a:moveTo>
                  <a:pt x="6176" y="3522"/>
                </a:moveTo>
                <a:cubicBezTo>
                  <a:pt x="6349" y="3479"/>
                  <a:pt x="6522" y="3436"/>
                  <a:pt x="6697" y="3398"/>
                </a:cubicBezTo>
              </a:path>
              <a:path w="7716" h="6946">
                <a:moveTo>
                  <a:pt x="7367" y="2902"/>
                </a:moveTo>
                <a:cubicBezTo>
                  <a:pt x="7192" y="2882"/>
                  <a:pt x="7090" y="2897"/>
                  <a:pt x="6945" y="3001"/>
                </a:cubicBezTo>
                <a:cubicBezTo>
                  <a:pt x="7025" y="3096"/>
                  <a:pt x="7259" y="3241"/>
                  <a:pt x="7218" y="3398"/>
                </a:cubicBezTo>
                <a:cubicBezTo>
                  <a:pt x="7151" y="3466"/>
                  <a:pt x="7137" y="3491"/>
                  <a:pt x="7069" y="3473"/>
                </a:cubicBezTo>
                <a:cubicBezTo>
                  <a:pt x="7013" y="3272"/>
                  <a:pt x="7155" y="3183"/>
                  <a:pt x="7268" y="3001"/>
                </a:cubicBezTo>
                <a:cubicBezTo>
                  <a:pt x="7293" y="2952"/>
                  <a:pt x="7301" y="2935"/>
                  <a:pt x="7268" y="2902"/>
                </a:cubicBezTo>
              </a:path>
              <a:path w="7716" h="6946">
                <a:moveTo>
                  <a:pt x="6350" y="3200"/>
                </a:moveTo>
                <a:cubicBezTo>
                  <a:pt x="6397" y="3339"/>
                  <a:pt x="6540" y="3424"/>
                  <a:pt x="6623" y="3547"/>
                </a:cubicBezTo>
                <a:cubicBezTo>
                  <a:pt x="6664" y="3630"/>
                  <a:pt x="6672" y="3646"/>
                  <a:pt x="6697" y="3696"/>
                </a:cubicBezTo>
                <a:cubicBezTo>
                  <a:pt x="6685" y="3649"/>
                  <a:pt x="6655" y="3618"/>
                  <a:pt x="6623" y="3572"/>
                </a:cubicBezTo>
              </a:path>
              <a:path w="7716" h="6946">
                <a:moveTo>
                  <a:pt x="6623" y="3001"/>
                </a:moveTo>
                <a:cubicBezTo>
                  <a:pt x="6605" y="3202"/>
                  <a:pt x="6504" y="3350"/>
                  <a:pt x="6400" y="3522"/>
                </a:cubicBezTo>
                <a:cubicBezTo>
                  <a:pt x="6383" y="3547"/>
                  <a:pt x="6367" y="3572"/>
                  <a:pt x="6350" y="3597"/>
                </a:cubicBezTo>
                <a:cubicBezTo>
                  <a:pt x="6300" y="3580"/>
                  <a:pt x="6375" y="3514"/>
                  <a:pt x="6424" y="3448"/>
                </a:cubicBezTo>
                <a:cubicBezTo>
                  <a:pt x="6472" y="3384"/>
                  <a:pt x="6590" y="3194"/>
                  <a:pt x="6648" y="3175"/>
                </a:cubicBezTo>
              </a:path>
              <a:path w="7716" h="6946">
                <a:moveTo>
                  <a:pt x="6945" y="3572"/>
                </a:moveTo>
                <a:cubicBezTo>
                  <a:pt x="7067" y="3557"/>
                  <a:pt x="7191" y="3516"/>
                  <a:pt x="7317" y="3497"/>
                </a:cubicBezTo>
                <a:cubicBezTo>
                  <a:pt x="7342" y="3497"/>
                  <a:pt x="7350" y="3497"/>
                  <a:pt x="7367" y="3497"/>
                </a:cubicBezTo>
              </a:path>
              <a:path w="7716" h="6946">
                <a:moveTo>
                  <a:pt x="7169" y="3621"/>
                </a:moveTo>
                <a:cubicBezTo>
                  <a:pt x="7146" y="3738"/>
                  <a:pt x="7144" y="3848"/>
                  <a:pt x="7144" y="3969"/>
                </a:cubicBezTo>
              </a:path>
              <a:path w="7716" h="6946">
                <a:moveTo>
                  <a:pt x="8012" y="2307"/>
                </a:moveTo>
                <a:cubicBezTo>
                  <a:pt x="8020" y="2299"/>
                  <a:pt x="8029" y="2290"/>
                  <a:pt x="8037" y="2282"/>
                </a:cubicBezTo>
                <a:cubicBezTo>
                  <a:pt x="8015" y="2192"/>
                  <a:pt x="7908" y="2226"/>
                  <a:pt x="7838" y="2257"/>
                </a:cubicBezTo>
                <a:cubicBezTo>
                  <a:pt x="7815" y="2280"/>
                  <a:pt x="7807" y="2284"/>
                  <a:pt x="7813" y="2307"/>
                </a:cubicBezTo>
                <a:cubicBezTo>
                  <a:pt x="7882" y="2389"/>
                  <a:pt x="8059" y="2482"/>
                  <a:pt x="7987" y="2604"/>
                </a:cubicBezTo>
                <a:cubicBezTo>
                  <a:pt x="7932" y="2660"/>
                  <a:pt x="7934" y="2685"/>
                  <a:pt x="7888" y="2679"/>
                </a:cubicBezTo>
                <a:cubicBezTo>
                  <a:pt x="7888" y="2540"/>
                  <a:pt x="7907" y="2450"/>
                  <a:pt x="7987" y="2332"/>
                </a:cubicBezTo>
                <a:cubicBezTo>
                  <a:pt x="8010" y="2309"/>
                  <a:pt x="8014" y="2301"/>
                  <a:pt x="8037" y="2307"/>
                </a:cubicBezTo>
              </a:path>
              <a:path w="7716" h="6946">
                <a:moveTo>
                  <a:pt x="8359" y="2356"/>
                </a:moveTo>
                <a:cubicBezTo>
                  <a:pt x="8244" y="2281"/>
                  <a:pt x="8185" y="2325"/>
                  <a:pt x="8136" y="2456"/>
                </a:cubicBezTo>
                <a:cubicBezTo>
                  <a:pt x="8136" y="2472"/>
                  <a:pt x="8136" y="2489"/>
                  <a:pt x="8136" y="2505"/>
                </a:cubicBezTo>
                <a:cubicBezTo>
                  <a:pt x="8289" y="2593"/>
                  <a:pt x="8318" y="2538"/>
                  <a:pt x="8384" y="2406"/>
                </a:cubicBezTo>
              </a:path>
              <a:path w="7716" h="6946">
                <a:moveTo>
                  <a:pt x="8359" y="2084"/>
                </a:moveTo>
                <a:cubicBezTo>
                  <a:pt x="8359" y="2268"/>
                  <a:pt x="8323" y="2446"/>
                  <a:pt x="8310" y="2629"/>
                </a:cubicBezTo>
                <a:cubicBezTo>
                  <a:pt x="8310" y="2670"/>
                  <a:pt x="8310" y="2712"/>
                  <a:pt x="8310" y="2753"/>
                </a:cubicBezTo>
              </a:path>
              <a:path w="7716" h="6946">
                <a:moveTo>
                  <a:pt x="7764" y="2877"/>
                </a:moveTo>
                <a:cubicBezTo>
                  <a:pt x="7952" y="2808"/>
                  <a:pt x="8156" y="2773"/>
                  <a:pt x="8359" y="2753"/>
                </a:cubicBezTo>
                <a:cubicBezTo>
                  <a:pt x="8384" y="2753"/>
                  <a:pt x="8409" y="2753"/>
                  <a:pt x="8434" y="2753"/>
                </a:cubicBezTo>
              </a:path>
              <a:path w="7716" h="6946">
                <a:moveTo>
                  <a:pt x="8111" y="2853"/>
                </a:moveTo>
                <a:cubicBezTo>
                  <a:pt x="8028" y="2894"/>
                  <a:pt x="8012" y="2902"/>
                  <a:pt x="7962" y="2927"/>
                </a:cubicBezTo>
                <a:cubicBezTo>
                  <a:pt x="8002" y="2976"/>
                  <a:pt x="8185" y="3095"/>
                  <a:pt x="8136" y="3175"/>
                </a:cubicBezTo>
                <a:cubicBezTo>
                  <a:pt x="8059" y="3227"/>
                  <a:pt x="8031" y="3244"/>
                  <a:pt x="7962" y="3225"/>
                </a:cubicBezTo>
                <a:cubicBezTo>
                  <a:pt x="7951" y="3087"/>
                  <a:pt x="8008" y="3055"/>
                  <a:pt x="8111" y="2952"/>
                </a:cubicBezTo>
                <a:cubicBezTo>
                  <a:pt x="8139" y="2924"/>
                  <a:pt x="8148" y="2910"/>
                  <a:pt x="8136" y="2877"/>
                </a:cubicBezTo>
              </a:path>
              <a:path w="7716" h="6946">
                <a:moveTo>
                  <a:pt x="7938" y="2183"/>
                </a:moveTo>
                <a:cubicBezTo>
                  <a:pt x="7938" y="2414"/>
                  <a:pt x="7966" y="2647"/>
                  <a:pt x="7987" y="2877"/>
                </a:cubicBezTo>
                <a:cubicBezTo>
                  <a:pt x="8000" y="3020"/>
                  <a:pt x="8028" y="3171"/>
                  <a:pt x="8062" y="3274"/>
                </a:cubicBezTo>
              </a:path>
              <a:path w="7716" h="6946">
                <a:moveTo>
                  <a:pt x="5085" y="5333"/>
                </a:moveTo>
                <a:cubicBezTo>
                  <a:pt x="5152" y="5316"/>
                  <a:pt x="5205" y="5290"/>
                  <a:pt x="5283" y="5283"/>
                </a:cubicBezTo>
              </a:path>
              <a:path w="7716" h="6946">
                <a:moveTo>
                  <a:pt x="5085" y="5457"/>
                </a:moveTo>
                <a:cubicBezTo>
                  <a:pt x="5200" y="5434"/>
                  <a:pt x="5232" y="5425"/>
                  <a:pt x="5308" y="5432"/>
                </a:cubicBezTo>
              </a:path>
              <a:path w="7716" h="6946">
                <a:moveTo>
                  <a:pt x="3497" y="5184"/>
                </a:moveTo>
                <a:cubicBezTo>
                  <a:pt x="3512" y="5319"/>
                  <a:pt x="3551" y="5448"/>
                  <a:pt x="3572" y="5581"/>
                </a:cubicBezTo>
              </a:path>
              <a:path w="7716" h="6946">
                <a:moveTo>
                  <a:pt x="4242" y="5457"/>
                </a:moveTo>
                <a:lnTo>
                  <a:pt x="4242" y="5457"/>
                </a:lnTo>
                <a:lnTo>
                  <a:pt x="4242" y="5457"/>
                </a:lnTo>
              </a:path>
              <a:path w="7716" h="6946">
                <a:moveTo>
                  <a:pt x="4242" y="5457"/>
                </a:moveTo>
                <a:lnTo>
                  <a:pt x="4242" y="5457"/>
                </a:lnTo>
              </a:path>
              <a:path w="7716" h="6946">
                <a:moveTo>
                  <a:pt x="3150" y="4812"/>
                </a:moveTo>
                <a:cubicBezTo>
                  <a:pt x="3206" y="4972"/>
                  <a:pt x="3283" y="5254"/>
                  <a:pt x="3299" y="5457"/>
                </a:cubicBezTo>
                <a:cubicBezTo>
                  <a:pt x="3310" y="5587"/>
                  <a:pt x="3238" y="5821"/>
                  <a:pt x="3274" y="5953"/>
                </a:cubicBezTo>
                <a:cubicBezTo>
                  <a:pt x="3282" y="5953"/>
                  <a:pt x="3291" y="5953"/>
                  <a:pt x="3299" y="5953"/>
                </a:cubicBezTo>
                <a:cubicBezTo>
                  <a:pt x="3533" y="5961"/>
                  <a:pt x="3771" y="5923"/>
                  <a:pt x="4018" y="5904"/>
                </a:cubicBezTo>
                <a:cubicBezTo>
                  <a:pt x="4521" y="5865"/>
                  <a:pt x="5033" y="5840"/>
                  <a:pt x="5531" y="5755"/>
                </a:cubicBezTo>
                <a:cubicBezTo>
                  <a:pt x="5663" y="5732"/>
                  <a:pt x="5821" y="5670"/>
                  <a:pt x="5953" y="5655"/>
                </a:cubicBezTo>
                <a:cubicBezTo>
                  <a:pt x="6039" y="5645"/>
                  <a:pt x="6110" y="5691"/>
                  <a:pt x="6127" y="5606"/>
                </a:cubicBezTo>
                <a:cubicBezTo>
                  <a:pt x="6162" y="5424"/>
                  <a:pt x="6100" y="5191"/>
                  <a:pt x="6077" y="5011"/>
                </a:cubicBezTo>
                <a:cubicBezTo>
                  <a:pt x="6070" y="4953"/>
                  <a:pt x="6073" y="4552"/>
                  <a:pt x="6028" y="4539"/>
                </a:cubicBezTo>
                <a:cubicBezTo>
                  <a:pt x="5850" y="4489"/>
                  <a:pt x="5560" y="4571"/>
                  <a:pt x="5383" y="4589"/>
                </a:cubicBezTo>
                <a:cubicBezTo>
                  <a:pt x="5073" y="4621"/>
                  <a:pt x="4789" y="4700"/>
                  <a:pt x="4490" y="4762"/>
                </a:cubicBezTo>
                <a:cubicBezTo>
                  <a:pt x="4241" y="4814"/>
                  <a:pt x="3972" y="4822"/>
                  <a:pt x="3721" y="4837"/>
                </a:cubicBezTo>
                <a:cubicBezTo>
                  <a:pt x="3567" y="4846"/>
                  <a:pt x="3426" y="4830"/>
                  <a:pt x="3274" y="4862"/>
                </a:cubicBezTo>
                <a:cubicBezTo>
                  <a:pt x="3213" y="4875"/>
                  <a:pt x="3204" y="4881"/>
                  <a:pt x="3150" y="4911"/>
                </a:cubicBezTo>
              </a:path>
              <a:path w="7716" h="6946">
                <a:moveTo>
                  <a:pt x="719" y="8508"/>
                </a:moveTo>
                <a:cubicBezTo>
                  <a:pt x="719" y="8533"/>
                  <a:pt x="719" y="8541"/>
                  <a:pt x="744" y="8533"/>
                </a:cubicBezTo>
              </a:path>
              <a:path w="7716" h="6946">
                <a:moveTo>
                  <a:pt x="893" y="9029"/>
                </a:moveTo>
                <a:cubicBezTo>
                  <a:pt x="901" y="9029"/>
                  <a:pt x="910" y="9029"/>
                  <a:pt x="918" y="9029"/>
                </a:cubicBezTo>
              </a:path>
              <a:path w="7716" h="6946">
                <a:moveTo>
                  <a:pt x="918" y="9029"/>
                </a:moveTo>
                <a:lnTo>
                  <a:pt x="918" y="9029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1000" y="2751120"/>
            <a:ext cx="1062000" cy="579600"/>
          </a:xfrm>
          <a:custGeom>
            <a:avLst/>
            <a:gdLst/>
            <a:ahLst/>
            <a:rect l="l" t="t" r="r" b="b"/>
            <a:pathLst>
              <a:path w="2953" h="1613">
                <a:moveTo>
                  <a:pt x="3001" y="7764"/>
                </a:moveTo>
                <a:cubicBezTo>
                  <a:pt x="3051" y="7863"/>
                  <a:pt x="3130" y="7965"/>
                  <a:pt x="3175" y="8062"/>
                </a:cubicBezTo>
                <a:cubicBezTo>
                  <a:pt x="3175" y="8070"/>
                  <a:pt x="3175" y="8078"/>
                  <a:pt x="3175" y="8086"/>
                </a:cubicBezTo>
              </a:path>
              <a:path w="2953" h="1613">
                <a:moveTo>
                  <a:pt x="3175" y="7640"/>
                </a:moveTo>
                <a:cubicBezTo>
                  <a:pt x="3090" y="7803"/>
                  <a:pt x="3038" y="7975"/>
                  <a:pt x="2952" y="8136"/>
                </a:cubicBezTo>
              </a:path>
              <a:path w="2953" h="1613">
                <a:moveTo>
                  <a:pt x="2059" y="8434"/>
                </a:moveTo>
                <a:cubicBezTo>
                  <a:pt x="2122" y="8371"/>
                  <a:pt x="2095" y="8393"/>
                  <a:pt x="2208" y="8384"/>
                </a:cubicBezTo>
                <a:cubicBezTo>
                  <a:pt x="2282" y="8558"/>
                  <a:pt x="2260" y="8669"/>
                  <a:pt x="2084" y="8781"/>
                </a:cubicBezTo>
                <a:cubicBezTo>
                  <a:pt x="2059" y="8789"/>
                  <a:pt x="2034" y="8798"/>
                  <a:pt x="2009" y="8806"/>
                </a:cubicBezTo>
                <a:cubicBezTo>
                  <a:pt x="2024" y="8708"/>
                  <a:pt x="2044" y="8516"/>
                  <a:pt x="2183" y="8582"/>
                </a:cubicBezTo>
                <a:cubicBezTo>
                  <a:pt x="2229" y="8629"/>
                  <a:pt x="2243" y="8641"/>
                  <a:pt x="2257" y="8682"/>
                </a:cubicBezTo>
              </a:path>
              <a:path w="2953" h="1613">
                <a:moveTo>
                  <a:pt x="819" y="8136"/>
                </a:moveTo>
                <a:cubicBezTo>
                  <a:pt x="823" y="8168"/>
                  <a:pt x="826" y="8272"/>
                  <a:pt x="868" y="8285"/>
                </a:cubicBezTo>
                <a:cubicBezTo>
                  <a:pt x="941" y="8308"/>
                  <a:pt x="962" y="8233"/>
                  <a:pt x="992" y="8186"/>
                </a:cubicBezTo>
              </a:path>
              <a:path w="2953" h="1613">
                <a:moveTo>
                  <a:pt x="992" y="8062"/>
                </a:moveTo>
                <a:cubicBezTo>
                  <a:pt x="1005" y="8187"/>
                  <a:pt x="1038" y="8311"/>
                  <a:pt x="1067" y="8434"/>
                </a:cubicBezTo>
              </a:path>
              <a:path w="2953" h="1613">
                <a:moveTo>
                  <a:pt x="1215" y="8161"/>
                </a:moveTo>
                <a:cubicBezTo>
                  <a:pt x="1242" y="8241"/>
                  <a:pt x="1424" y="8419"/>
                  <a:pt x="1364" y="8359"/>
                </a:cubicBezTo>
                <a:cubicBezTo>
                  <a:pt x="1348" y="8343"/>
                  <a:pt x="1331" y="8326"/>
                  <a:pt x="1315" y="8310"/>
                </a:cubicBezTo>
              </a:path>
              <a:path w="2953" h="1613">
                <a:moveTo>
                  <a:pt x="1240" y="8111"/>
                </a:moveTo>
                <a:cubicBezTo>
                  <a:pt x="1240" y="8224"/>
                  <a:pt x="1247" y="8324"/>
                  <a:pt x="1265" y="8434"/>
                </a:cubicBezTo>
              </a:path>
              <a:path w="2953" h="1613">
                <a:moveTo>
                  <a:pt x="223" y="8781"/>
                </a:moveTo>
                <a:cubicBezTo>
                  <a:pt x="513" y="8652"/>
                  <a:pt x="811" y="8550"/>
                  <a:pt x="1116" y="8458"/>
                </a:cubicBezTo>
                <a:cubicBezTo>
                  <a:pt x="1157" y="8446"/>
                  <a:pt x="1395" y="8409"/>
                  <a:pt x="1265" y="8409"/>
                </a:cubicBezTo>
                <a:cubicBezTo>
                  <a:pt x="1257" y="8409"/>
                  <a:pt x="1248" y="8409"/>
                  <a:pt x="1240" y="8409"/>
                </a:cubicBezTo>
              </a:path>
              <a:path w="2953" h="1613">
                <a:moveTo>
                  <a:pt x="372" y="8979"/>
                </a:moveTo>
                <a:cubicBezTo>
                  <a:pt x="442" y="8918"/>
                  <a:pt x="570" y="8790"/>
                  <a:pt x="620" y="8954"/>
                </a:cubicBezTo>
                <a:cubicBezTo>
                  <a:pt x="672" y="9122"/>
                  <a:pt x="572" y="9189"/>
                  <a:pt x="446" y="9252"/>
                </a:cubicBezTo>
                <a:cubicBezTo>
                  <a:pt x="459" y="9140"/>
                  <a:pt x="530" y="9032"/>
                  <a:pt x="670" y="9054"/>
                </a:cubicBezTo>
                <a:cubicBezTo>
                  <a:pt x="734" y="9064"/>
                  <a:pt x="773" y="9171"/>
                  <a:pt x="794" y="9128"/>
                </a:cubicBezTo>
              </a:path>
              <a:path w="2953" h="1613">
                <a:moveTo>
                  <a:pt x="918" y="8731"/>
                </a:moveTo>
                <a:cubicBezTo>
                  <a:pt x="918" y="8790"/>
                  <a:pt x="909" y="8834"/>
                  <a:pt x="967" y="8855"/>
                </a:cubicBezTo>
                <a:cubicBezTo>
                  <a:pt x="1098" y="8903"/>
                  <a:pt x="1102" y="8830"/>
                  <a:pt x="1166" y="8731"/>
                </a:cubicBezTo>
              </a:path>
              <a:path w="2953" h="1613">
                <a:moveTo>
                  <a:pt x="1141" y="8632"/>
                </a:moveTo>
                <a:cubicBezTo>
                  <a:pt x="1141" y="8739"/>
                  <a:pt x="1152" y="8853"/>
                  <a:pt x="1191" y="8954"/>
                </a:cubicBezTo>
                <a:cubicBezTo>
                  <a:pt x="1220" y="8984"/>
                  <a:pt x="1225" y="8986"/>
                  <a:pt x="1191" y="8930"/>
                </a:cubicBezTo>
              </a:path>
              <a:path w="2953" h="1613">
                <a:moveTo>
                  <a:pt x="645" y="8161"/>
                </a:moveTo>
                <a:cubicBezTo>
                  <a:pt x="676" y="8376"/>
                  <a:pt x="785" y="8631"/>
                  <a:pt x="868" y="8830"/>
                </a:cubicBezTo>
                <a:cubicBezTo>
                  <a:pt x="912" y="8936"/>
                  <a:pt x="974" y="9059"/>
                  <a:pt x="1042" y="91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28800" y="1170000"/>
            <a:ext cx="115920" cy="160200"/>
          </a:xfrm>
          <a:custGeom>
            <a:avLst/>
            <a:gdLst/>
            <a:ahLst/>
            <a:rect l="l" t="t" r="r" b="b"/>
            <a:pathLst>
              <a:path w="323" h="448">
                <a:moveTo>
                  <a:pt x="2654" y="3398"/>
                </a:moveTo>
                <a:cubicBezTo>
                  <a:pt x="2692" y="3498"/>
                  <a:pt x="2750" y="3596"/>
                  <a:pt x="2778" y="3696"/>
                </a:cubicBezTo>
              </a:path>
              <a:path w="323" h="448">
                <a:moveTo>
                  <a:pt x="2902" y="3249"/>
                </a:moveTo>
                <a:cubicBezTo>
                  <a:pt x="2809" y="3365"/>
                  <a:pt x="2725" y="3487"/>
                  <a:pt x="2629" y="3597"/>
                </a:cubicBezTo>
                <a:cubicBezTo>
                  <a:pt x="2604" y="3621"/>
                  <a:pt x="2596" y="3629"/>
                  <a:pt x="2580" y="36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0960" y="1143000"/>
            <a:ext cx="115920" cy="206280"/>
          </a:xfrm>
          <a:custGeom>
            <a:avLst/>
            <a:gdLst/>
            <a:ahLst/>
            <a:rect l="l" t="t" r="r" b="b"/>
            <a:pathLst>
              <a:path w="323" h="572">
                <a:moveTo>
                  <a:pt x="2332" y="3175"/>
                </a:moveTo>
                <a:cubicBezTo>
                  <a:pt x="2238" y="3222"/>
                  <a:pt x="2171" y="3305"/>
                  <a:pt x="2084" y="3349"/>
                </a:cubicBezTo>
                <a:cubicBezTo>
                  <a:pt x="2162" y="3419"/>
                  <a:pt x="2351" y="3533"/>
                  <a:pt x="2282" y="3671"/>
                </a:cubicBezTo>
                <a:cubicBezTo>
                  <a:pt x="2223" y="3711"/>
                  <a:pt x="2211" y="3715"/>
                  <a:pt x="2183" y="3746"/>
                </a:cubicBezTo>
                <a:cubicBezTo>
                  <a:pt x="2156" y="3574"/>
                  <a:pt x="2220" y="3543"/>
                  <a:pt x="2307" y="3398"/>
                </a:cubicBezTo>
                <a:cubicBezTo>
                  <a:pt x="2327" y="3364"/>
                  <a:pt x="2415" y="3227"/>
                  <a:pt x="2381" y="3225"/>
                </a:cubicBezTo>
                <a:cubicBezTo>
                  <a:pt x="2356" y="3225"/>
                  <a:pt x="2332" y="3225"/>
                  <a:pt x="2307" y="32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874960" y="768240"/>
            <a:ext cx="1098720" cy="4205520"/>
          </a:xfrm>
          <a:custGeom>
            <a:avLst/>
            <a:gdLst/>
            <a:ahLst/>
            <a:rect l="l" t="t" r="r" b="b"/>
            <a:pathLst>
              <a:path w="3052" h="11684">
                <a:moveTo>
                  <a:pt x="10269" y="2133"/>
                </a:moveTo>
                <a:cubicBezTo>
                  <a:pt x="10269" y="2141"/>
                  <a:pt x="10269" y="2150"/>
                  <a:pt x="10269" y="2158"/>
                </a:cubicBezTo>
              </a:path>
              <a:path w="3052" h="11684">
                <a:moveTo>
                  <a:pt x="10269" y="2158"/>
                </a:moveTo>
                <a:lnTo>
                  <a:pt x="10269" y="2158"/>
                </a:lnTo>
              </a:path>
              <a:path w="3052" h="11684">
                <a:moveTo>
                  <a:pt x="9624" y="3026"/>
                </a:moveTo>
                <a:cubicBezTo>
                  <a:pt x="9987" y="2952"/>
                  <a:pt x="10349" y="2903"/>
                  <a:pt x="10716" y="2853"/>
                </a:cubicBezTo>
                <a:cubicBezTo>
                  <a:pt x="10765" y="2845"/>
                  <a:pt x="10815" y="2836"/>
                  <a:pt x="10864" y="2828"/>
                </a:cubicBezTo>
              </a:path>
              <a:path w="3052" h="11684">
                <a:moveTo>
                  <a:pt x="9773" y="7268"/>
                </a:moveTo>
                <a:lnTo>
                  <a:pt x="9773" y="7268"/>
                </a:lnTo>
              </a:path>
              <a:path w="3052" h="11684">
                <a:moveTo>
                  <a:pt x="9773" y="7268"/>
                </a:moveTo>
                <a:lnTo>
                  <a:pt x="9773" y="7268"/>
                </a:lnTo>
              </a:path>
              <a:path w="3052" h="11684">
                <a:moveTo>
                  <a:pt x="9872" y="6821"/>
                </a:moveTo>
                <a:cubicBezTo>
                  <a:pt x="9841" y="6996"/>
                  <a:pt x="9801" y="7133"/>
                  <a:pt x="10046" y="7094"/>
                </a:cubicBezTo>
                <a:cubicBezTo>
                  <a:pt x="10191" y="7046"/>
                  <a:pt x="10237" y="7032"/>
                  <a:pt x="10319" y="6970"/>
                </a:cubicBezTo>
              </a:path>
              <a:path w="3052" h="11684">
                <a:moveTo>
                  <a:pt x="9277" y="7764"/>
                </a:moveTo>
                <a:cubicBezTo>
                  <a:pt x="9243" y="7904"/>
                  <a:pt x="9177" y="8173"/>
                  <a:pt x="9227" y="8037"/>
                </a:cubicBezTo>
              </a:path>
              <a:path w="3052" h="11684">
                <a:moveTo>
                  <a:pt x="10269" y="8235"/>
                </a:moveTo>
                <a:cubicBezTo>
                  <a:pt x="10235" y="8336"/>
                  <a:pt x="10209" y="8429"/>
                  <a:pt x="10195" y="8533"/>
                </a:cubicBezTo>
                <a:cubicBezTo>
                  <a:pt x="10364" y="8542"/>
                  <a:pt x="10437" y="8511"/>
                  <a:pt x="10592" y="8434"/>
                </a:cubicBezTo>
              </a:path>
              <a:path w="3052" h="11684">
                <a:moveTo>
                  <a:pt x="11013" y="6747"/>
                </a:moveTo>
                <a:cubicBezTo>
                  <a:pt x="11033" y="6887"/>
                  <a:pt x="11042" y="6911"/>
                  <a:pt x="11038" y="6995"/>
                </a:cubicBezTo>
              </a:path>
              <a:path w="3052" h="11684">
                <a:moveTo>
                  <a:pt x="10418" y="11559"/>
                </a:moveTo>
                <a:cubicBezTo>
                  <a:pt x="10388" y="11669"/>
                  <a:pt x="10346" y="11796"/>
                  <a:pt x="10319" y="11906"/>
                </a:cubicBezTo>
              </a:path>
              <a:path w="3052" h="11684">
                <a:moveTo>
                  <a:pt x="7987" y="13816"/>
                </a:moveTo>
                <a:cubicBezTo>
                  <a:pt x="8081" y="13746"/>
                  <a:pt x="8357" y="13604"/>
                  <a:pt x="8334" y="134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5280" y="2963880"/>
            <a:ext cx="106560" cy="152280"/>
          </a:xfrm>
          <a:custGeom>
            <a:avLst/>
            <a:gdLst/>
            <a:ahLst/>
            <a:rect l="l" t="t" r="r" b="b"/>
            <a:pathLst>
              <a:path w="299" h="423">
                <a:moveTo>
                  <a:pt x="347" y="8260"/>
                </a:moveTo>
                <a:cubicBezTo>
                  <a:pt x="493" y="8260"/>
                  <a:pt x="645" y="8328"/>
                  <a:pt x="571" y="8533"/>
                </a:cubicBezTo>
                <a:cubicBezTo>
                  <a:pt x="523" y="8664"/>
                  <a:pt x="446" y="8652"/>
                  <a:pt x="347" y="8632"/>
                </a:cubicBezTo>
                <a:cubicBezTo>
                  <a:pt x="347" y="8512"/>
                  <a:pt x="388" y="8490"/>
                  <a:pt x="521" y="8508"/>
                </a:cubicBezTo>
                <a:cubicBezTo>
                  <a:pt x="603" y="8519"/>
                  <a:pt x="593" y="8557"/>
                  <a:pt x="645" y="85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50920" y="4010040"/>
            <a:ext cx="901440" cy="1106640"/>
          </a:xfrm>
          <a:custGeom>
            <a:avLst/>
            <a:gdLst/>
            <a:ahLst/>
            <a:rect l="l" t="t" r="r" b="b"/>
            <a:pathLst>
              <a:path w="2506" h="3077">
                <a:moveTo>
                  <a:pt x="3200" y="12402"/>
                </a:moveTo>
                <a:cubicBezTo>
                  <a:pt x="3147" y="12540"/>
                  <a:pt x="3086" y="12683"/>
                  <a:pt x="3051" y="12824"/>
                </a:cubicBezTo>
              </a:path>
              <a:path w="2506" h="3077">
                <a:moveTo>
                  <a:pt x="2183" y="11534"/>
                </a:moveTo>
                <a:cubicBezTo>
                  <a:pt x="2201" y="11446"/>
                  <a:pt x="2256" y="11427"/>
                  <a:pt x="2332" y="11385"/>
                </a:cubicBezTo>
                <a:cubicBezTo>
                  <a:pt x="2346" y="11480"/>
                  <a:pt x="2344" y="11516"/>
                  <a:pt x="2307" y="11609"/>
                </a:cubicBezTo>
                <a:cubicBezTo>
                  <a:pt x="2355" y="11511"/>
                  <a:pt x="2424" y="11602"/>
                  <a:pt x="2406" y="11708"/>
                </a:cubicBezTo>
                <a:cubicBezTo>
                  <a:pt x="2373" y="11902"/>
                  <a:pt x="2225" y="11889"/>
                  <a:pt x="2108" y="11807"/>
                </a:cubicBezTo>
              </a:path>
              <a:path w="2506" h="3077">
                <a:moveTo>
                  <a:pt x="2977" y="11137"/>
                </a:moveTo>
                <a:cubicBezTo>
                  <a:pt x="2952" y="11154"/>
                  <a:pt x="2927" y="11170"/>
                  <a:pt x="2902" y="11187"/>
                </a:cubicBezTo>
                <a:cubicBezTo>
                  <a:pt x="2943" y="11221"/>
                  <a:pt x="3173" y="11282"/>
                  <a:pt x="3150" y="11410"/>
                </a:cubicBezTo>
                <a:cubicBezTo>
                  <a:pt x="3094" y="11467"/>
                  <a:pt x="3068" y="11484"/>
                  <a:pt x="3001" y="11460"/>
                </a:cubicBezTo>
              </a:path>
              <a:path w="2506" h="3077">
                <a:moveTo>
                  <a:pt x="2307" y="11931"/>
                </a:moveTo>
                <a:cubicBezTo>
                  <a:pt x="2478" y="11874"/>
                  <a:pt x="2662" y="11737"/>
                  <a:pt x="2828" y="11658"/>
                </a:cubicBezTo>
                <a:cubicBezTo>
                  <a:pt x="2915" y="11617"/>
                  <a:pt x="3050" y="11507"/>
                  <a:pt x="3101" y="11584"/>
                </a:cubicBezTo>
              </a:path>
              <a:path w="2506" h="3077">
                <a:moveTo>
                  <a:pt x="2778" y="11931"/>
                </a:moveTo>
                <a:cubicBezTo>
                  <a:pt x="2738" y="12050"/>
                  <a:pt x="2737" y="12216"/>
                  <a:pt x="2729" y="12353"/>
                </a:cubicBezTo>
              </a:path>
              <a:path w="2506" h="3077">
                <a:moveTo>
                  <a:pt x="794" y="13469"/>
                </a:moveTo>
                <a:cubicBezTo>
                  <a:pt x="731" y="13469"/>
                  <a:pt x="886" y="13446"/>
                  <a:pt x="893" y="13444"/>
                </a:cubicBezTo>
                <a:cubicBezTo>
                  <a:pt x="935" y="13639"/>
                  <a:pt x="892" y="13712"/>
                  <a:pt x="769" y="13866"/>
                </a:cubicBezTo>
                <a:cubicBezTo>
                  <a:pt x="921" y="13747"/>
                  <a:pt x="975" y="13823"/>
                  <a:pt x="967" y="14015"/>
                </a:cubicBezTo>
                <a:cubicBezTo>
                  <a:pt x="957" y="14263"/>
                  <a:pt x="800" y="14227"/>
                  <a:pt x="695" y="14089"/>
                </a:cubicBezTo>
              </a:path>
              <a:path w="2506" h="3077">
                <a:moveTo>
                  <a:pt x="1885" y="13543"/>
                </a:moveTo>
                <a:cubicBezTo>
                  <a:pt x="1907" y="13675"/>
                  <a:pt x="1915" y="13707"/>
                  <a:pt x="1910" y="13791"/>
                </a:cubicBezTo>
                <a:cubicBezTo>
                  <a:pt x="1884" y="13663"/>
                  <a:pt x="1866" y="13529"/>
                  <a:pt x="1910" y="13395"/>
                </a:cubicBezTo>
                <a:cubicBezTo>
                  <a:pt x="1927" y="13370"/>
                  <a:pt x="1943" y="13345"/>
                  <a:pt x="1960" y="13320"/>
                </a:cubicBezTo>
                <a:cubicBezTo>
                  <a:pt x="2152" y="13462"/>
                  <a:pt x="2177" y="13595"/>
                  <a:pt x="2084" y="138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892080" y="3241800"/>
            <a:ext cx="1743120" cy="1349280"/>
          </a:xfrm>
          <a:custGeom>
            <a:avLst/>
            <a:gdLst/>
            <a:ahLst/>
            <a:rect l="l" t="t" r="r" b="b"/>
            <a:pathLst>
              <a:path w="4838" h="3747">
                <a:moveTo>
                  <a:pt x="4539" y="9550"/>
                </a:moveTo>
                <a:cubicBezTo>
                  <a:pt x="4639" y="9666"/>
                  <a:pt x="4713" y="9786"/>
                  <a:pt x="4787" y="9922"/>
                </a:cubicBezTo>
              </a:path>
              <a:path w="4838" h="3747">
                <a:moveTo>
                  <a:pt x="4738" y="9475"/>
                </a:moveTo>
                <a:cubicBezTo>
                  <a:pt x="4680" y="9642"/>
                  <a:pt x="4643" y="9877"/>
                  <a:pt x="4539" y="10021"/>
                </a:cubicBezTo>
                <a:cubicBezTo>
                  <a:pt x="4539" y="10013"/>
                  <a:pt x="4539" y="10004"/>
                  <a:pt x="4539" y="9996"/>
                </a:cubicBezTo>
              </a:path>
              <a:path w="4838" h="3747">
                <a:moveTo>
                  <a:pt x="5035" y="9475"/>
                </a:moveTo>
                <a:cubicBezTo>
                  <a:pt x="5133" y="9475"/>
                  <a:pt x="5358" y="9448"/>
                  <a:pt x="5358" y="9500"/>
                </a:cubicBezTo>
              </a:path>
              <a:path w="4838" h="3747">
                <a:moveTo>
                  <a:pt x="5184" y="9649"/>
                </a:moveTo>
                <a:cubicBezTo>
                  <a:pt x="5325" y="9602"/>
                  <a:pt x="5368" y="9588"/>
                  <a:pt x="5457" y="9550"/>
                </a:cubicBezTo>
              </a:path>
              <a:path w="4838" h="3747">
                <a:moveTo>
                  <a:pt x="5556" y="9426"/>
                </a:moveTo>
                <a:cubicBezTo>
                  <a:pt x="5634" y="9600"/>
                  <a:pt x="5599" y="9808"/>
                  <a:pt x="5556" y="9996"/>
                </a:cubicBezTo>
                <a:cubicBezTo>
                  <a:pt x="5536" y="10037"/>
                  <a:pt x="5527" y="10064"/>
                  <a:pt x="5531" y="10021"/>
                </a:cubicBezTo>
              </a:path>
              <a:path w="4838" h="3747">
                <a:moveTo>
                  <a:pt x="5779" y="9624"/>
                </a:moveTo>
                <a:cubicBezTo>
                  <a:pt x="5730" y="9773"/>
                  <a:pt x="5710" y="9706"/>
                  <a:pt x="5829" y="9723"/>
                </a:cubicBezTo>
                <a:cubicBezTo>
                  <a:pt x="5974" y="9744"/>
                  <a:pt x="6017" y="9860"/>
                  <a:pt x="6077" y="9723"/>
                </a:cubicBezTo>
              </a:path>
              <a:path w="4838" h="3747">
                <a:moveTo>
                  <a:pt x="6028" y="9351"/>
                </a:moveTo>
                <a:cubicBezTo>
                  <a:pt x="6055" y="9582"/>
                  <a:pt x="6052" y="9812"/>
                  <a:pt x="6052" y="10046"/>
                </a:cubicBezTo>
              </a:path>
              <a:path w="4838" h="3747">
                <a:moveTo>
                  <a:pt x="6300" y="9947"/>
                </a:moveTo>
                <a:cubicBezTo>
                  <a:pt x="6300" y="10013"/>
                  <a:pt x="6292" y="10038"/>
                  <a:pt x="6350" y="10021"/>
                </a:cubicBezTo>
                <a:cubicBezTo>
                  <a:pt x="6385" y="9941"/>
                  <a:pt x="6374" y="9929"/>
                  <a:pt x="6300" y="9971"/>
                </a:cubicBezTo>
              </a:path>
              <a:path w="4838" h="3747">
                <a:moveTo>
                  <a:pt x="6623" y="9475"/>
                </a:moveTo>
                <a:cubicBezTo>
                  <a:pt x="6601" y="9561"/>
                  <a:pt x="6581" y="9642"/>
                  <a:pt x="6548" y="9723"/>
                </a:cubicBezTo>
                <a:cubicBezTo>
                  <a:pt x="6636" y="9695"/>
                  <a:pt x="6635" y="9627"/>
                  <a:pt x="6772" y="9649"/>
                </a:cubicBezTo>
                <a:cubicBezTo>
                  <a:pt x="6884" y="9667"/>
                  <a:pt x="6816" y="9711"/>
                  <a:pt x="6871" y="9674"/>
                </a:cubicBezTo>
              </a:path>
              <a:path w="4838" h="3747">
                <a:moveTo>
                  <a:pt x="6871" y="9227"/>
                </a:moveTo>
                <a:cubicBezTo>
                  <a:pt x="6882" y="9455"/>
                  <a:pt x="6885" y="9669"/>
                  <a:pt x="6871" y="9897"/>
                </a:cubicBezTo>
                <a:cubicBezTo>
                  <a:pt x="6871" y="9889"/>
                  <a:pt x="6871" y="9880"/>
                  <a:pt x="6871" y="9872"/>
                </a:cubicBezTo>
              </a:path>
              <a:path w="4838" h="3747">
                <a:moveTo>
                  <a:pt x="4043" y="9277"/>
                </a:moveTo>
                <a:cubicBezTo>
                  <a:pt x="4133" y="9612"/>
                  <a:pt x="4161" y="9890"/>
                  <a:pt x="4167" y="10244"/>
                </a:cubicBezTo>
                <a:cubicBezTo>
                  <a:pt x="4167" y="10459"/>
                  <a:pt x="4167" y="10492"/>
                  <a:pt x="4167" y="10616"/>
                </a:cubicBezTo>
                <a:cubicBezTo>
                  <a:pt x="4647" y="10465"/>
                  <a:pt x="5107" y="10386"/>
                  <a:pt x="5606" y="10319"/>
                </a:cubicBezTo>
                <a:cubicBezTo>
                  <a:pt x="6048" y="10259"/>
                  <a:pt x="6454" y="10218"/>
                  <a:pt x="6896" y="10269"/>
                </a:cubicBezTo>
                <a:cubicBezTo>
                  <a:pt x="6992" y="10280"/>
                  <a:pt x="6986" y="10294"/>
                  <a:pt x="7119" y="10269"/>
                </a:cubicBezTo>
                <a:cubicBezTo>
                  <a:pt x="7197" y="10255"/>
                  <a:pt x="7242" y="10249"/>
                  <a:pt x="7317" y="10244"/>
                </a:cubicBezTo>
                <a:cubicBezTo>
                  <a:pt x="7227" y="9991"/>
                  <a:pt x="7182" y="9778"/>
                  <a:pt x="7169" y="9500"/>
                </a:cubicBezTo>
                <a:cubicBezTo>
                  <a:pt x="7162" y="9336"/>
                  <a:pt x="7169" y="9169"/>
                  <a:pt x="7169" y="9004"/>
                </a:cubicBezTo>
                <a:cubicBezTo>
                  <a:pt x="7058" y="9036"/>
                  <a:pt x="6939" y="9066"/>
                  <a:pt x="6821" y="9079"/>
                </a:cubicBezTo>
                <a:cubicBezTo>
                  <a:pt x="6340" y="9134"/>
                  <a:pt x="5854" y="9136"/>
                  <a:pt x="5383" y="9252"/>
                </a:cubicBezTo>
                <a:cubicBezTo>
                  <a:pt x="5163" y="9306"/>
                  <a:pt x="4941" y="9384"/>
                  <a:pt x="4713" y="9401"/>
                </a:cubicBezTo>
                <a:cubicBezTo>
                  <a:pt x="4488" y="9418"/>
                  <a:pt x="4268" y="9311"/>
                  <a:pt x="4043" y="9351"/>
                </a:cubicBezTo>
                <a:cubicBezTo>
                  <a:pt x="4009" y="9385"/>
                  <a:pt x="4014" y="9394"/>
                  <a:pt x="4093" y="9376"/>
                </a:cubicBezTo>
              </a:path>
              <a:path w="4838" h="3747">
                <a:moveTo>
                  <a:pt x="3101" y="12427"/>
                </a:moveTo>
                <a:cubicBezTo>
                  <a:pt x="3120" y="12526"/>
                  <a:pt x="3201" y="12637"/>
                  <a:pt x="3249" y="12725"/>
                </a:cubicBezTo>
                <a:cubicBezTo>
                  <a:pt x="3272" y="12748"/>
                  <a:pt x="3280" y="12759"/>
                  <a:pt x="3274" y="12725"/>
                </a:cubicBezTo>
              </a:path>
              <a:path w="4838" h="3747">
                <a:moveTo>
                  <a:pt x="2480" y="11683"/>
                </a:moveTo>
                <a:cubicBezTo>
                  <a:pt x="2505" y="11683"/>
                  <a:pt x="2513" y="11683"/>
                  <a:pt x="2505" y="11658"/>
                </a:cubicBezTo>
              </a:path>
              <a:path w="4838" h="3747">
                <a:moveTo>
                  <a:pt x="2778" y="11633"/>
                </a:moveTo>
                <a:lnTo>
                  <a:pt x="2778" y="11633"/>
                </a:lnTo>
              </a:path>
              <a:path w="4838" h="3747">
                <a:moveTo>
                  <a:pt x="2977" y="11013"/>
                </a:moveTo>
                <a:cubicBezTo>
                  <a:pt x="3162" y="10959"/>
                  <a:pt x="3146" y="10928"/>
                  <a:pt x="3101" y="111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089840" y="1652760"/>
            <a:ext cx="411120" cy="793440"/>
          </a:xfrm>
          <a:custGeom>
            <a:avLst/>
            <a:gdLst/>
            <a:ahLst/>
            <a:rect l="l" t="t" r="r" b="b"/>
            <a:pathLst>
              <a:path w="1142" h="2208">
                <a:moveTo>
                  <a:pt x="19993" y="5209"/>
                </a:moveTo>
                <a:cubicBezTo>
                  <a:pt x="19904" y="5239"/>
                  <a:pt x="20046" y="5190"/>
                  <a:pt x="20067" y="5184"/>
                </a:cubicBezTo>
                <a:cubicBezTo>
                  <a:pt x="20075" y="5184"/>
                  <a:pt x="20084" y="5184"/>
                  <a:pt x="20092" y="5184"/>
                </a:cubicBezTo>
                <a:cubicBezTo>
                  <a:pt x="20103" y="5341"/>
                  <a:pt x="20027" y="5501"/>
                  <a:pt x="19918" y="5631"/>
                </a:cubicBezTo>
                <a:cubicBezTo>
                  <a:pt x="19883" y="5631"/>
                  <a:pt x="19866" y="5626"/>
                  <a:pt x="19844" y="5606"/>
                </a:cubicBezTo>
                <a:cubicBezTo>
                  <a:pt x="19844" y="5487"/>
                  <a:pt x="19910" y="5501"/>
                  <a:pt x="20017" y="5531"/>
                </a:cubicBezTo>
                <a:cubicBezTo>
                  <a:pt x="20104" y="5555"/>
                  <a:pt x="20092" y="5665"/>
                  <a:pt x="20092" y="5531"/>
                </a:cubicBezTo>
              </a:path>
              <a:path w="1142" h="2208">
                <a:moveTo>
                  <a:pt x="20340" y="5135"/>
                </a:moveTo>
                <a:cubicBezTo>
                  <a:pt x="20340" y="5170"/>
                  <a:pt x="20323" y="5423"/>
                  <a:pt x="20464" y="5333"/>
                </a:cubicBezTo>
                <a:cubicBezTo>
                  <a:pt x="20497" y="5292"/>
                  <a:pt x="20530" y="5250"/>
                  <a:pt x="20563" y="5209"/>
                </a:cubicBezTo>
              </a:path>
              <a:path w="1142" h="2208">
                <a:moveTo>
                  <a:pt x="20563" y="4986"/>
                </a:moveTo>
                <a:cubicBezTo>
                  <a:pt x="20526" y="5204"/>
                  <a:pt x="20488" y="5416"/>
                  <a:pt x="20439" y="5631"/>
                </a:cubicBezTo>
              </a:path>
              <a:path w="1142" h="2208">
                <a:moveTo>
                  <a:pt x="20439" y="5755"/>
                </a:moveTo>
                <a:cubicBezTo>
                  <a:pt x="20424" y="5791"/>
                  <a:pt x="20266" y="6170"/>
                  <a:pt x="20389" y="6127"/>
                </a:cubicBezTo>
                <a:cubicBezTo>
                  <a:pt x="20489" y="6052"/>
                  <a:pt x="20522" y="6028"/>
                  <a:pt x="20563" y="5953"/>
                </a:cubicBezTo>
                <a:cubicBezTo>
                  <a:pt x="20465" y="6051"/>
                  <a:pt x="20451" y="6031"/>
                  <a:pt x="20414" y="6176"/>
                </a:cubicBezTo>
              </a:path>
              <a:path w="1142" h="2208">
                <a:moveTo>
                  <a:pt x="19745" y="6548"/>
                </a:moveTo>
                <a:cubicBezTo>
                  <a:pt x="19859" y="6508"/>
                  <a:pt x="20804" y="6118"/>
                  <a:pt x="20836" y="6176"/>
                </a:cubicBezTo>
                <a:cubicBezTo>
                  <a:pt x="20811" y="6201"/>
                  <a:pt x="20787" y="6226"/>
                  <a:pt x="20762" y="6251"/>
                </a:cubicBezTo>
              </a:path>
              <a:path w="1142" h="2208">
                <a:moveTo>
                  <a:pt x="20464" y="6573"/>
                </a:moveTo>
                <a:cubicBezTo>
                  <a:pt x="20440" y="6652"/>
                  <a:pt x="20408" y="6713"/>
                  <a:pt x="20389" y="6796"/>
                </a:cubicBezTo>
                <a:cubicBezTo>
                  <a:pt x="20604" y="6763"/>
                  <a:pt x="20581" y="6740"/>
                  <a:pt x="20737" y="6598"/>
                </a:cubicBezTo>
              </a:path>
              <a:path w="1142" h="2208">
                <a:moveTo>
                  <a:pt x="19869" y="4638"/>
                </a:moveTo>
                <a:cubicBezTo>
                  <a:pt x="19869" y="4646"/>
                  <a:pt x="19869" y="4655"/>
                  <a:pt x="19869" y="4663"/>
                </a:cubicBezTo>
                <a:cubicBezTo>
                  <a:pt x="19964" y="4504"/>
                  <a:pt x="20061" y="4668"/>
                  <a:pt x="20042" y="4812"/>
                </a:cubicBezTo>
                <a:cubicBezTo>
                  <a:pt x="20012" y="5044"/>
                  <a:pt x="19862" y="5267"/>
                  <a:pt x="19695" y="5085"/>
                </a:cubicBezTo>
                <a:cubicBezTo>
                  <a:pt x="19867" y="5023"/>
                  <a:pt x="19934" y="5083"/>
                  <a:pt x="20092" y="51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089080" y="5160960"/>
            <a:ext cx="142920" cy="54000"/>
          </a:xfrm>
          <a:custGeom>
            <a:avLst/>
            <a:gdLst/>
            <a:ahLst/>
            <a:rect l="l" t="t" r="r" b="b"/>
            <a:pathLst>
              <a:path w="398" h="150">
                <a:moveTo>
                  <a:pt x="5804" y="14486"/>
                </a:moveTo>
                <a:cubicBezTo>
                  <a:pt x="5943" y="14442"/>
                  <a:pt x="6073" y="14401"/>
                  <a:pt x="6201" y="143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633760" y="4286160"/>
            <a:ext cx="554040" cy="339840"/>
          </a:xfrm>
          <a:custGeom>
            <a:avLst/>
            <a:gdLst/>
            <a:ahLst/>
            <a:rect l="l" t="t" r="r" b="b"/>
            <a:pathLst>
              <a:path w="1539" h="944">
                <a:moveTo>
                  <a:pt x="7466" y="12254"/>
                </a:moveTo>
                <a:cubicBezTo>
                  <a:pt x="7530" y="12211"/>
                  <a:pt x="7563" y="12210"/>
                  <a:pt x="7640" y="12204"/>
                </a:cubicBezTo>
                <a:cubicBezTo>
                  <a:pt x="7670" y="12368"/>
                  <a:pt x="7608" y="12411"/>
                  <a:pt x="7491" y="12526"/>
                </a:cubicBezTo>
                <a:cubicBezTo>
                  <a:pt x="7567" y="12496"/>
                  <a:pt x="7682" y="12458"/>
                  <a:pt x="7665" y="12626"/>
                </a:cubicBezTo>
                <a:cubicBezTo>
                  <a:pt x="7653" y="12744"/>
                  <a:pt x="7323" y="12928"/>
                  <a:pt x="7317" y="12824"/>
                </a:cubicBezTo>
                <a:cubicBezTo>
                  <a:pt x="7334" y="12799"/>
                  <a:pt x="7350" y="12775"/>
                  <a:pt x="7367" y="12750"/>
                </a:cubicBezTo>
              </a:path>
              <a:path w="1539" h="944">
                <a:moveTo>
                  <a:pt x="7888" y="12576"/>
                </a:moveTo>
                <a:cubicBezTo>
                  <a:pt x="7888" y="12601"/>
                  <a:pt x="7888" y="12609"/>
                  <a:pt x="7888" y="12576"/>
                </a:cubicBezTo>
              </a:path>
              <a:path w="1539" h="944">
                <a:moveTo>
                  <a:pt x="7987" y="12229"/>
                </a:moveTo>
                <a:cubicBezTo>
                  <a:pt x="7987" y="12320"/>
                  <a:pt x="7987" y="12344"/>
                  <a:pt x="7987" y="12402"/>
                </a:cubicBezTo>
                <a:cubicBezTo>
                  <a:pt x="8181" y="12402"/>
                  <a:pt x="8239" y="12378"/>
                  <a:pt x="8384" y="12254"/>
                </a:cubicBezTo>
              </a:path>
              <a:path w="1539" h="944">
                <a:moveTo>
                  <a:pt x="8310" y="11981"/>
                </a:moveTo>
                <a:cubicBezTo>
                  <a:pt x="8278" y="12181"/>
                  <a:pt x="8187" y="12430"/>
                  <a:pt x="8186" y="12626"/>
                </a:cubicBezTo>
                <a:cubicBezTo>
                  <a:pt x="8194" y="12618"/>
                  <a:pt x="8202" y="12609"/>
                  <a:pt x="8210" y="12601"/>
                </a:cubicBezTo>
              </a:path>
              <a:path w="1539" h="944">
                <a:moveTo>
                  <a:pt x="8756" y="11906"/>
                </a:moveTo>
                <a:cubicBezTo>
                  <a:pt x="8690" y="11912"/>
                  <a:pt x="8549" y="11904"/>
                  <a:pt x="8533" y="11956"/>
                </a:cubicBezTo>
                <a:cubicBezTo>
                  <a:pt x="8511" y="12028"/>
                  <a:pt x="8494" y="12105"/>
                  <a:pt x="8483" y="12179"/>
                </a:cubicBezTo>
                <a:cubicBezTo>
                  <a:pt x="8598" y="12162"/>
                  <a:pt x="8776" y="12059"/>
                  <a:pt x="8855" y="12204"/>
                </a:cubicBezTo>
                <a:cubicBezTo>
                  <a:pt x="9037" y="12539"/>
                  <a:pt x="8493" y="12412"/>
                  <a:pt x="8409" y="123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01800" y="4037040"/>
            <a:ext cx="108000" cy="150840"/>
          </a:xfrm>
          <a:custGeom>
            <a:avLst/>
            <a:gdLst/>
            <a:ahLst/>
            <a:rect l="l" t="t" r="r" b="b"/>
            <a:pathLst>
              <a:path w="299" h="422">
                <a:moveTo>
                  <a:pt x="2505" y="11286"/>
                </a:moveTo>
                <a:cubicBezTo>
                  <a:pt x="2531" y="11354"/>
                  <a:pt x="2558" y="11418"/>
                  <a:pt x="2580" y="11485"/>
                </a:cubicBezTo>
                <a:cubicBezTo>
                  <a:pt x="2701" y="11428"/>
                  <a:pt x="2729" y="11396"/>
                  <a:pt x="2803" y="11286"/>
                </a:cubicBezTo>
              </a:path>
              <a:path w="299" h="422">
                <a:moveTo>
                  <a:pt x="2753" y="11212"/>
                </a:moveTo>
                <a:cubicBezTo>
                  <a:pt x="2753" y="11358"/>
                  <a:pt x="2751" y="11492"/>
                  <a:pt x="2778" y="116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41200" y="4759200"/>
            <a:ext cx="2455920" cy="563760"/>
          </a:xfrm>
          <a:custGeom>
            <a:avLst/>
            <a:gdLst/>
            <a:ahLst/>
            <a:rect l="l" t="t" r="r" b="b"/>
            <a:pathLst>
              <a:path w="6822" h="1564">
                <a:moveTo>
                  <a:pt x="1191" y="13891"/>
                </a:moveTo>
                <a:cubicBezTo>
                  <a:pt x="1199" y="13883"/>
                  <a:pt x="1207" y="13874"/>
                  <a:pt x="1215" y="13866"/>
                </a:cubicBezTo>
              </a:path>
              <a:path w="6822" h="1564">
                <a:moveTo>
                  <a:pt x="1215" y="13866"/>
                </a:moveTo>
                <a:lnTo>
                  <a:pt x="1215" y="13866"/>
                </a:lnTo>
              </a:path>
              <a:path w="6822" h="1564">
                <a:moveTo>
                  <a:pt x="1389" y="13295"/>
                </a:moveTo>
                <a:cubicBezTo>
                  <a:pt x="1368" y="13486"/>
                  <a:pt x="1360" y="13675"/>
                  <a:pt x="1339" y="13866"/>
                </a:cubicBezTo>
              </a:path>
              <a:path w="6822" h="1564">
                <a:moveTo>
                  <a:pt x="1414" y="13345"/>
                </a:moveTo>
                <a:cubicBezTo>
                  <a:pt x="1524" y="13274"/>
                  <a:pt x="1583" y="13239"/>
                  <a:pt x="1712" y="13221"/>
                </a:cubicBezTo>
              </a:path>
              <a:path w="6822" h="1564">
                <a:moveTo>
                  <a:pt x="1712" y="13221"/>
                </a:moveTo>
                <a:lnTo>
                  <a:pt x="1712" y="13221"/>
                </a:lnTo>
              </a:path>
              <a:path w="6822" h="1564">
                <a:moveTo>
                  <a:pt x="670" y="14585"/>
                </a:moveTo>
                <a:cubicBezTo>
                  <a:pt x="977" y="14310"/>
                  <a:pt x="1401" y="14176"/>
                  <a:pt x="1786" y="14015"/>
                </a:cubicBezTo>
                <a:cubicBezTo>
                  <a:pt x="2016" y="13919"/>
                  <a:pt x="2044" y="13896"/>
                  <a:pt x="2183" y="13866"/>
                </a:cubicBezTo>
              </a:path>
              <a:path w="6822" h="1564">
                <a:moveTo>
                  <a:pt x="1315" y="14784"/>
                </a:moveTo>
                <a:cubicBezTo>
                  <a:pt x="1307" y="14784"/>
                  <a:pt x="1298" y="14784"/>
                  <a:pt x="1290" y="14784"/>
                </a:cubicBezTo>
              </a:path>
              <a:path w="6822" h="1564">
                <a:moveTo>
                  <a:pt x="1290" y="14784"/>
                </a:moveTo>
                <a:lnTo>
                  <a:pt x="1290" y="14784"/>
                </a:lnTo>
              </a:path>
              <a:path w="6822" h="1564">
                <a:moveTo>
                  <a:pt x="1662" y="14362"/>
                </a:moveTo>
                <a:cubicBezTo>
                  <a:pt x="1673" y="14368"/>
                  <a:pt x="2022" y="14584"/>
                  <a:pt x="1885" y="14610"/>
                </a:cubicBezTo>
                <a:cubicBezTo>
                  <a:pt x="1852" y="14602"/>
                  <a:pt x="1819" y="14593"/>
                  <a:pt x="1786" y="14585"/>
                </a:cubicBezTo>
              </a:path>
              <a:path w="6822" h="1564">
                <a:moveTo>
                  <a:pt x="1712" y="14238"/>
                </a:moveTo>
                <a:cubicBezTo>
                  <a:pt x="1771" y="14198"/>
                  <a:pt x="1783" y="14194"/>
                  <a:pt x="1811" y="14163"/>
                </a:cubicBezTo>
              </a:path>
              <a:path w="6822" h="1564">
                <a:moveTo>
                  <a:pt x="1811" y="14163"/>
                </a:moveTo>
                <a:lnTo>
                  <a:pt x="1811" y="14163"/>
                </a:lnTo>
              </a:path>
              <a:path w="6822" h="1564">
                <a:moveTo>
                  <a:pt x="5854" y="14337"/>
                </a:moveTo>
                <a:cubicBezTo>
                  <a:pt x="5891" y="14324"/>
                  <a:pt x="6227" y="14194"/>
                  <a:pt x="6102" y="14288"/>
                </a:cubicBezTo>
              </a:path>
              <a:path w="6822" h="1564">
                <a:moveTo>
                  <a:pt x="7466" y="14436"/>
                </a:moveTo>
                <a:cubicBezTo>
                  <a:pt x="7466" y="14479"/>
                  <a:pt x="7472" y="14470"/>
                  <a:pt x="7491" y="143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12840" y="4732200"/>
            <a:ext cx="312480" cy="716040"/>
          </a:xfrm>
          <a:custGeom>
            <a:avLst/>
            <a:gdLst/>
            <a:ahLst/>
            <a:rect l="l" t="t" r="r" b="b"/>
            <a:pathLst>
              <a:path w="869" h="1986">
                <a:moveTo>
                  <a:pt x="1191" y="13419"/>
                </a:moveTo>
                <a:cubicBezTo>
                  <a:pt x="1213" y="13494"/>
                  <a:pt x="1240" y="13564"/>
                  <a:pt x="1240" y="13643"/>
                </a:cubicBezTo>
                <a:cubicBezTo>
                  <a:pt x="1346" y="13616"/>
                  <a:pt x="1384" y="13602"/>
                  <a:pt x="1414" y="13519"/>
                </a:cubicBezTo>
              </a:path>
              <a:path w="869" h="1986">
                <a:moveTo>
                  <a:pt x="1488" y="13345"/>
                </a:moveTo>
                <a:cubicBezTo>
                  <a:pt x="1453" y="13537"/>
                  <a:pt x="1599" y="13459"/>
                  <a:pt x="1712" y="13593"/>
                </a:cubicBezTo>
                <a:cubicBezTo>
                  <a:pt x="1879" y="13790"/>
                  <a:pt x="1567" y="13728"/>
                  <a:pt x="1463" y="13618"/>
                </a:cubicBezTo>
              </a:path>
              <a:path w="869" h="1986">
                <a:moveTo>
                  <a:pt x="918" y="14585"/>
                </a:moveTo>
                <a:cubicBezTo>
                  <a:pt x="1008" y="14494"/>
                  <a:pt x="1063" y="14474"/>
                  <a:pt x="1191" y="14436"/>
                </a:cubicBezTo>
                <a:cubicBezTo>
                  <a:pt x="1170" y="14553"/>
                  <a:pt x="1110" y="14632"/>
                  <a:pt x="1067" y="14734"/>
                </a:cubicBezTo>
                <a:cubicBezTo>
                  <a:pt x="1292" y="14769"/>
                  <a:pt x="1266" y="14883"/>
                  <a:pt x="1116" y="15056"/>
                </a:cubicBezTo>
                <a:cubicBezTo>
                  <a:pt x="981" y="15212"/>
                  <a:pt x="871" y="15145"/>
                  <a:pt x="918" y="14982"/>
                </a:cubicBezTo>
              </a:path>
              <a:path w="869" h="1986">
                <a:moveTo>
                  <a:pt x="1315" y="14436"/>
                </a:moveTo>
                <a:cubicBezTo>
                  <a:pt x="1315" y="14516"/>
                  <a:pt x="1308" y="14570"/>
                  <a:pt x="1339" y="14635"/>
                </a:cubicBezTo>
                <a:cubicBezTo>
                  <a:pt x="1524" y="14579"/>
                  <a:pt x="1549" y="14499"/>
                  <a:pt x="1538" y="14312"/>
                </a:cubicBezTo>
                <a:cubicBezTo>
                  <a:pt x="1538" y="14480"/>
                  <a:pt x="1552" y="14641"/>
                  <a:pt x="1563" y="14808"/>
                </a:cubicBezTo>
              </a:path>
              <a:path w="869" h="1986">
                <a:moveTo>
                  <a:pt x="1166" y="13146"/>
                </a:moveTo>
                <a:cubicBezTo>
                  <a:pt x="1232" y="13585"/>
                  <a:pt x="1387" y="14026"/>
                  <a:pt x="1488" y="14461"/>
                </a:cubicBezTo>
                <a:cubicBezTo>
                  <a:pt x="1528" y="14633"/>
                  <a:pt x="1568" y="14864"/>
                  <a:pt x="1612" y="150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803240" y="5126040"/>
            <a:ext cx="162000" cy="204840"/>
          </a:xfrm>
          <a:custGeom>
            <a:avLst/>
            <a:gdLst/>
            <a:ahLst/>
            <a:rect l="l" t="t" r="r" b="b"/>
            <a:pathLst>
              <a:path w="447" h="571">
                <a:moveTo>
                  <a:pt x="5011" y="14412"/>
                </a:moveTo>
                <a:cubicBezTo>
                  <a:pt x="5032" y="14546"/>
                  <a:pt x="5052" y="14677"/>
                  <a:pt x="5085" y="14808"/>
                </a:cubicBezTo>
                <a:cubicBezTo>
                  <a:pt x="5048" y="14664"/>
                  <a:pt x="5025" y="14550"/>
                  <a:pt x="5060" y="14387"/>
                </a:cubicBezTo>
                <a:cubicBezTo>
                  <a:pt x="5077" y="14346"/>
                  <a:pt x="5093" y="14304"/>
                  <a:pt x="5110" y="14263"/>
                </a:cubicBezTo>
                <a:cubicBezTo>
                  <a:pt x="5334" y="14274"/>
                  <a:pt x="5410" y="14388"/>
                  <a:pt x="5457" y="14635"/>
                </a:cubicBezTo>
                <a:cubicBezTo>
                  <a:pt x="5457" y="14693"/>
                  <a:pt x="5457" y="14734"/>
                  <a:pt x="5457" y="146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438280" y="5062680"/>
            <a:ext cx="115920" cy="241200"/>
          </a:xfrm>
          <a:custGeom>
            <a:avLst/>
            <a:gdLst/>
            <a:ahLst/>
            <a:rect l="l" t="t" r="r" b="b"/>
            <a:pathLst>
              <a:path w="323" h="671">
                <a:moveTo>
                  <a:pt x="6772" y="14114"/>
                </a:moveTo>
                <a:cubicBezTo>
                  <a:pt x="6772" y="14210"/>
                  <a:pt x="6772" y="14985"/>
                  <a:pt x="6772" y="14585"/>
                </a:cubicBezTo>
              </a:path>
              <a:path w="323" h="671">
                <a:moveTo>
                  <a:pt x="6945" y="14064"/>
                </a:moveTo>
                <a:cubicBezTo>
                  <a:pt x="6907" y="14270"/>
                  <a:pt x="6849" y="14450"/>
                  <a:pt x="6970" y="14585"/>
                </a:cubicBezTo>
                <a:cubicBezTo>
                  <a:pt x="7096" y="14449"/>
                  <a:pt x="7160" y="14274"/>
                  <a:pt x="6995" y="14114"/>
                </a:cubicBezTo>
                <a:cubicBezTo>
                  <a:pt x="6917" y="14088"/>
                  <a:pt x="6891" y="14083"/>
                  <a:pt x="6871" y="141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32040" y="4991040"/>
            <a:ext cx="241200" cy="223920"/>
          </a:xfrm>
          <a:custGeom>
            <a:avLst/>
            <a:gdLst/>
            <a:ahLst/>
            <a:rect l="l" t="t" r="r" b="b"/>
            <a:pathLst>
              <a:path w="671" h="621">
                <a:moveTo>
                  <a:pt x="7640" y="13965"/>
                </a:moveTo>
                <a:cubicBezTo>
                  <a:pt x="7592" y="13917"/>
                  <a:pt x="7734" y="13820"/>
                  <a:pt x="7764" y="13891"/>
                </a:cubicBezTo>
                <a:cubicBezTo>
                  <a:pt x="7764" y="14002"/>
                  <a:pt x="7760" y="14045"/>
                  <a:pt x="7714" y="14114"/>
                </a:cubicBezTo>
                <a:cubicBezTo>
                  <a:pt x="7650" y="14157"/>
                  <a:pt x="7755" y="14038"/>
                  <a:pt x="7838" y="14114"/>
                </a:cubicBezTo>
                <a:cubicBezTo>
                  <a:pt x="7944" y="14211"/>
                  <a:pt x="7823" y="14565"/>
                  <a:pt x="7665" y="14486"/>
                </a:cubicBezTo>
                <a:cubicBezTo>
                  <a:pt x="7640" y="14453"/>
                  <a:pt x="7615" y="14420"/>
                  <a:pt x="7590" y="14387"/>
                </a:cubicBezTo>
              </a:path>
              <a:path w="671" h="621">
                <a:moveTo>
                  <a:pt x="8012" y="13866"/>
                </a:moveTo>
                <a:cubicBezTo>
                  <a:pt x="7995" y="13874"/>
                  <a:pt x="7979" y="13883"/>
                  <a:pt x="7962" y="13891"/>
                </a:cubicBezTo>
                <a:cubicBezTo>
                  <a:pt x="7989" y="14023"/>
                  <a:pt x="8112" y="13965"/>
                  <a:pt x="8210" y="14039"/>
                </a:cubicBezTo>
                <a:cubicBezTo>
                  <a:pt x="8345" y="14142"/>
                  <a:pt x="8156" y="14454"/>
                  <a:pt x="8062" y="14337"/>
                </a:cubicBezTo>
                <a:cubicBezTo>
                  <a:pt x="8029" y="14254"/>
                  <a:pt x="7995" y="14172"/>
                  <a:pt x="7962" y="140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116840" y="3840120"/>
            <a:ext cx="608040" cy="401760"/>
          </a:xfrm>
          <a:custGeom>
            <a:avLst/>
            <a:gdLst/>
            <a:ahLst/>
            <a:rect l="l" t="t" r="r" b="b"/>
            <a:pathLst>
              <a:path w="1688" h="1117">
                <a:moveTo>
                  <a:pt x="20861" y="10716"/>
                </a:moveTo>
                <a:cubicBezTo>
                  <a:pt x="20921" y="10696"/>
                  <a:pt x="21019" y="10610"/>
                  <a:pt x="21059" y="10691"/>
                </a:cubicBezTo>
                <a:cubicBezTo>
                  <a:pt x="21084" y="10741"/>
                  <a:pt x="20987" y="10810"/>
                  <a:pt x="20960" y="10840"/>
                </a:cubicBezTo>
                <a:cubicBezTo>
                  <a:pt x="21003" y="10840"/>
                  <a:pt x="21174" y="10833"/>
                  <a:pt x="21109" y="10939"/>
                </a:cubicBezTo>
                <a:cubicBezTo>
                  <a:pt x="21053" y="11030"/>
                  <a:pt x="20988" y="11035"/>
                  <a:pt x="20910" y="11013"/>
                </a:cubicBezTo>
              </a:path>
              <a:path w="1688" h="1117">
                <a:moveTo>
                  <a:pt x="19769" y="11311"/>
                </a:moveTo>
                <a:cubicBezTo>
                  <a:pt x="20304" y="11214"/>
                  <a:pt x="20840" y="11112"/>
                  <a:pt x="21382" y="11063"/>
                </a:cubicBezTo>
                <a:cubicBezTo>
                  <a:pt x="21440" y="11063"/>
                  <a:pt x="21464" y="11047"/>
                  <a:pt x="21456" y="11088"/>
                </a:cubicBezTo>
              </a:path>
              <a:path w="1688" h="1117">
                <a:moveTo>
                  <a:pt x="21208" y="11336"/>
                </a:moveTo>
                <a:cubicBezTo>
                  <a:pt x="21114" y="11348"/>
                  <a:pt x="21112" y="11344"/>
                  <a:pt x="21084" y="11410"/>
                </a:cubicBezTo>
                <a:cubicBezTo>
                  <a:pt x="21043" y="11491"/>
                  <a:pt x="21026" y="11504"/>
                  <a:pt x="21034" y="11559"/>
                </a:cubicBezTo>
                <a:cubicBezTo>
                  <a:pt x="21114" y="11548"/>
                  <a:pt x="21257" y="11480"/>
                  <a:pt x="21307" y="11584"/>
                </a:cubicBezTo>
                <a:cubicBezTo>
                  <a:pt x="21391" y="11761"/>
                  <a:pt x="21051" y="11854"/>
                  <a:pt x="20960" y="11708"/>
                </a:cubicBezTo>
                <a:cubicBezTo>
                  <a:pt x="20943" y="11634"/>
                  <a:pt x="20927" y="11559"/>
                  <a:pt x="20910" y="114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571920" y="625320"/>
            <a:ext cx="9360" cy="223920"/>
          </a:xfrm>
          <a:custGeom>
            <a:avLst/>
            <a:gdLst/>
            <a:ahLst/>
            <a:rect l="l" t="t" r="r" b="b"/>
            <a:pathLst>
              <a:path w="26" h="621">
                <a:moveTo>
                  <a:pt x="9922" y="1736"/>
                </a:moveTo>
                <a:cubicBezTo>
                  <a:pt x="9932" y="1927"/>
                  <a:pt x="9947" y="2115"/>
                  <a:pt x="9947" y="2307"/>
                </a:cubicBezTo>
                <a:cubicBezTo>
                  <a:pt x="9947" y="2323"/>
                  <a:pt x="9947" y="2340"/>
                  <a:pt x="9947" y="23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795840" y="642960"/>
            <a:ext cx="88920" cy="179280"/>
          </a:xfrm>
          <a:custGeom>
            <a:avLst/>
            <a:gdLst/>
            <a:ahLst/>
            <a:rect l="l" t="t" r="r" b="b"/>
            <a:pathLst>
              <a:path w="249" h="497">
                <a:moveTo>
                  <a:pt x="10616" y="1786"/>
                </a:moveTo>
                <a:cubicBezTo>
                  <a:pt x="10580" y="1923"/>
                  <a:pt x="10510" y="2114"/>
                  <a:pt x="10542" y="2257"/>
                </a:cubicBezTo>
                <a:cubicBezTo>
                  <a:pt x="10550" y="2257"/>
                  <a:pt x="10559" y="2257"/>
                  <a:pt x="10567" y="2257"/>
                </a:cubicBezTo>
                <a:cubicBezTo>
                  <a:pt x="10705" y="2268"/>
                  <a:pt x="10747" y="2259"/>
                  <a:pt x="10790" y="2108"/>
                </a:cubicBezTo>
                <a:cubicBezTo>
                  <a:pt x="10701" y="2056"/>
                  <a:pt x="10639" y="2120"/>
                  <a:pt x="10592" y="2208"/>
                </a:cubicBezTo>
                <a:cubicBezTo>
                  <a:pt x="10584" y="2233"/>
                  <a:pt x="10575" y="2257"/>
                  <a:pt x="10567" y="22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776760" y="884160"/>
            <a:ext cx="73080" cy="125640"/>
          </a:xfrm>
          <a:custGeom>
            <a:avLst/>
            <a:gdLst/>
            <a:ahLst/>
            <a:rect l="l" t="t" r="r" b="b"/>
            <a:pathLst>
              <a:path w="200" h="348">
                <a:moveTo>
                  <a:pt x="10691" y="2456"/>
                </a:moveTo>
                <a:cubicBezTo>
                  <a:pt x="10610" y="2469"/>
                  <a:pt x="10563" y="2512"/>
                  <a:pt x="10492" y="2530"/>
                </a:cubicBezTo>
                <a:cubicBezTo>
                  <a:pt x="10540" y="2573"/>
                  <a:pt x="10727" y="2672"/>
                  <a:pt x="10691" y="2753"/>
                </a:cubicBezTo>
                <a:cubicBezTo>
                  <a:pt x="10651" y="2842"/>
                  <a:pt x="10578" y="2799"/>
                  <a:pt x="10517" y="2778"/>
                </a:cubicBezTo>
                <a:cubicBezTo>
                  <a:pt x="10533" y="2617"/>
                  <a:pt x="10614" y="2609"/>
                  <a:pt x="10691" y="2480"/>
                </a:cubicBezTo>
                <a:cubicBezTo>
                  <a:pt x="10691" y="2472"/>
                  <a:pt x="10691" y="2464"/>
                  <a:pt x="10691" y="24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776760" y="1098720"/>
            <a:ext cx="98280" cy="160200"/>
          </a:xfrm>
          <a:custGeom>
            <a:avLst/>
            <a:gdLst/>
            <a:ahLst/>
            <a:rect l="l" t="t" r="r" b="b"/>
            <a:pathLst>
              <a:path w="274" h="447">
                <a:moveTo>
                  <a:pt x="10691" y="3051"/>
                </a:moveTo>
                <a:cubicBezTo>
                  <a:pt x="10628" y="3084"/>
                  <a:pt x="10556" y="3129"/>
                  <a:pt x="10492" y="3150"/>
                </a:cubicBezTo>
                <a:cubicBezTo>
                  <a:pt x="10588" y="3231"/>
                  <a:pt x="10765" y="3295"/>
                  <a:pt x="10691" y="3448"/>
                </a:cubicBezTo>
                <a:cubicBezTo>
                  <a:pt x="10652" y="3486"/>
                  <a:pt x="10650" y="3503"/>
                  <a:pt x="10616" y="3497"/>
                </a:cubicBezTo>
                <a:cubicBezTo>
                  <a:pt x="10638" y="3364"/>
                  <a:pt x="10745" y="3259"/>
                  <a:pt x="10765" y="3150"/>
                </a:cubicBezTo>
                <a:cubicBezTo>
                  <a:pt x="10765" y="3134"/>
                  <a:pt x="10765" y="3117"/>
                  <a:pt x="10765" y="31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456000" y="561960"/>
            <a:ext cx="54000" cy="36360"/>
          </a:xfrm>
          <a:custGeom>
            <a:avLst/>
            <a:gdLst/>
            <a:ahLst/>
            <a:rect l="l" t="t" r="r" b="b"/>
            <a:pathLst>
              <a:path w="150" h="100">
                <a:moveTo>
                  <a:pt x="9649" y="1563"/>
                </a:moveTo>
                <a:cubicBezTo>
                  <a:pt x="9635" y="1598"/>
                  <a:pt x="9613" y="1627"/>
                  <a:pt x="9599" y="1662"/>
                </a:cubicBezTo>
                <a:cubicBezTo>
                  <a:pt x="9641" y="1662"/>
                  <a:pt x="9724" y="1685"/>
                  <a:pt x="9748" y="1637"/>
                </a:cubicBezTo>
                <a:cubicBezTo>
                  <a:pt x="9748" y="1629"/>
                  <a:pt x="9748" y="1620"/>
                  <a:pt x="9748" y="16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500280" y="527040"/>
            <a:ext cx="1800" cy="142920"/>
          </a:xfrm>
          <a:custGeom>
            <a:avLst/>
            <a:gdLst/>
            <a:ahLst/>
            <a:rect l="l" t="t" r="r" b="b"/>
            <a:pathLst>
              <a:path w="1" h="398">
                <a:moveTo>
                  <a:pt x="9723" y="1463"/>
                </a:moveTo>
                <a:cubicBezTo>
                  <a:pt x="9723" y="1595"/>
                  <a:pt x="9723" y="1728"/>
                  <a:pt x="9723" y="18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483000" y="1125360"/>
            <a:ext cx="17280" cy="152640"/>
          </a:xfrm>
          <a:custGeom>
            <a:avLst/>
            <a:gdLst/>
            <a:ahLst/>
            <a:rect l="l" t="t" r="r" b="b"/>
            <a:pathLst>
              <a:path w="50" h="423">
                <a:moveTo>
                  <a:pt x="9674" y="3125"/>
                </a:moveTo>
                <a:cubicBezTo>
                  <a:pt x="9679" y="3225"/>
                  <a:pt x="9651" y="3467"/>
                  <a:pt x="9699" y="3547"/>
                </a:cubicBezTo>
                <a:cubicBezTo>
                  <a:pt x="9707" y="3547"/>
                  <a:pt x="9715" y="3547"/>
                  <a:pt x="9723" y="35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571920" y="1133640"/>
            <a:ext cx="142920" cy="134640"/>
          </a:xfrm>
          <a:custGeom>
            <a:avLst/>
            <a:gdLst/>
            <a:ahLst/>
            <a:rect l="l" t="t" r="r" b="b"/>
            <a:pathLst>
              <a:path w="398" h="373">
                <a:moveTo>
                  <a:pt x="9922" y="3200"/>
                </a:moveTo>
                <a:cubicBezTo>
                  <a:pt x="9973" y="3166"/>
                  <a:pt x="10089" y="3103"/>
                  <a:pt x="10145" y="3175"/>
                </a:cubicBezTo>
                <a:cubicBezTo>
                  <a:pt x="10236" y="3292"/>
                  <a:pt x="10034" y="3441"/>
                  <a:pt x="9971" y="3522"/>
                </a:cubicBezTo>
                <a:cubicBezTo>
                  <a:pt x="10080" y="3506"/>
                  <a:pt x="10186" y="3471"/>
                  <a:pt x="10294" y="3448"/>
                </a:cubicBezTo>
                <a:cubicBezTo>
                  <a:pt x="10302" y="3448"/>
                  <a:pt x="10311" y="3448"/>
                  <a:pt x="10319" y="34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010040" y="554040"/>
            <a:ext cx="214200" cy="268200"/>
          </a:xfrm>
          <a:custGeom>
            <a:avLst/>
            <a:gdLst/>
            <a:ahLst/>
            <a:rect l="l" t="t" r="r" b="b"/>
            <a:pathLst>
              <a:path w="597" h="745">
                <a:moveTo>
                  <a:pt x="11137" y="2158"/>
                </a:moveTo>
                <a:cubicBezTo>
                  <a:pt x="11253" y="2191"/>
                  <a:pt x="11356" y="2273"/>
                  <a:pt x="11485" y="2208"/>
                </a:cubicBezTo>
                <a:cubicBezTo>
                  <a:pt x="11670" y="2115"/>
                  <a:pt x="11834" y="1809"/>
                  <a:pt x="11658" y="1637"/>
                </a:cubicBezTo>
                <a:cubicBezTo>
                  <a:pt x="11415" y="1399"/>
                  <a:pt x="11169" y="1598"/>
                  <a:pt x="11137" y="1885"/>
                </a:cubicBezTo>
                <a:cubicBezTo>
                  <a:pt x="11159" y="2106"/>
                  <a:pt x="11155" y="2164"/>
                  <a:pt x="11237" y="22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751200" y="1224000"/>
            <a:ext cx="17640" cy="17280"/>
          </a:xfrm>
          <a:custGeom>
            <a:avLst/>
            <a:gdLst/>
            <a:ahLst/>
            <a:rect l="l" t="t" r="r" b="b"/>
            <a:pathLst>
              <a:path w="51" h="51">
                <a:moveTo>
                  <a:pt x="10468" y="3448"/>
                </a:moveTo>
                <a:cubicBezTo>
                  <a:pt x="10398" y="3448"/>
                  <a:pt x="10556" y="3392"/>
                  <a:pt x="10443" y="3448"/>
                </a:cubicBezTo>
                <a:cubicBezTo>
                  <a:pt x="10406" y="3466"/>
                  <a:pt x="10436" y="3443"/>
                  <a:pt x="10443" y="34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483080" y="704880"/>
            <a:ext cx="411120" cy="5626080"/>
          </a:xfrm>
          <a:custGeom>
            <a:avLst/>
            <a:gdLst/>
            <a:ahLst/>
            <a:rect l="l" t="t" r="r" b="b"/>
            <a:pathLst>
              <a:path w="1142" h="15628">
                <a:moveTo>
                  <a:pt x="12700" y="2034"/>
                </a:moveTo>
                <a:cubicBezTo>
                  <a:pt x="12703" y="2070"/>
                  <a:pt x="12723" y="1948"/>
                  <a:pt x="12725" y="1984"/>
                </a:cubicBezTo>
                <a:cubicBezTo>
                  <a:pt x="12745" y="2301"/>
                  <a:pt x="12670" y="2614"/>
                  <a:pt x="12626" y="2927"/>
                </a:cubicBezTo>
                <a:cubicBezTo>
                  <a:pt x="12543" y="3519"/>
                  <a:pt x="12483" y="4115"/>
                  <a:pt x="12477" y="4713"/>
                </a:cubicBezTo>
                <a:cubicBezTo>
                  <a:pt x="12473" y="5152"/>
                  <a:pt x="12434" y="5589"/>
                  <a:pt x="12452" y="6028"/>
                </a:cubicBezTo>
                <a:cubicBezTo>
                  <a:pt x="12468" y="6416"/>
                  <a:pt x="12479" y="6806"/>
                  <a:pt x="12502" y="7193"/>
                </a:cubicBezTo>
                <a:cubicBezTo>
                  <a:pt x="12524" y="7573"/>
                  <a:pt x="12530" y="7954"/>
                  <a:pt x="12551" y="8334"/>
                </a:cubicBezTo>
                <a:cubicBezTo>
                  <a:pt x="12598" y="9170"/>
                  <a:pt x="12733" y="9988"/>
                  <a:pt x="12849" y="10815"/>
                </a:cubicBezTo>
                <a:cubicBezTo>
                  <a:pt x="12938" y="11449"/>
                  <a:pt x="13019" y="12087"/>
                  <a:pt x="13072" y="12725"/>
                </a:cubicBezTo>
                <a:cubicBezTo>
                  <a:pt x="13107" y="13153"/>
                  <a:pt x="13118" y="13586"/>
                  <a:pt x="13122" y="14015"/>
                </a:cubicBezTo>
                <a:cubicBezTo>
                  <a:pt x="13125" y="14372"/>
                  <a:pt x="13148" y="14726"/>
                  <a:pt x="13171" y="15081"/>
                </a:cubicBezTo>
                <a:cubicBezTo>
                  <a:pt x="13186" y="15306"/>
                  <a:pt x="13194" y="15527"/>
                  <a:pt x="13221" y="15751"/>
                </a:cubicBezTo>
                <a:cubicBezTo>
                  <a:pt x="13261" y="16086"/>
                  <a:pt x="13333" y="16412"/>
                  <a:pt x="13395" y="16743"/>
                </a:cubicBezTo>
                <a:cubicBezTo>
                  <a:pt x="13425" y="16906"/>
                  <a:pt x="13483" y="17059"/>
                  <a:pt x="13519" y="17214"/>
                </a:cubicBezTo>
                <a:cubicBezTo>
                  <a:pt x="13532" y="17272"/>
                  <a:pt x="13554" y="17346"/>
                  <a:pt x="13568" y="17413"/>
                </a:cubicBezTo>
                <a:cubicBezTo>
                  <a:pt x="13582" y="17479"/>
                  <a:pt x="13577" y="17496"/>
                  <a:pt x="13593" y="175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633680" y="4795920"/>
            <a:ext cx="1528560" cy="714240"/>
          </a:xfrm>
          <a:custGeom>
            <a:avLst/>
            <a:gdLst/>
            <a:ahLst/>
            <a:rect l="l" t="t" r="r" b="b"/>
            <a:pathLst>
              <a:path w="4243" h="1985">
                <a:moveTo>
                  <a:pt x="4713" y="14089"/>
                </a:moveTo>
                <a:cubicBezTo>
                  <a:pt x="4765" y="14382"/>
                  <a:pt x="4807" y="14660"/>
                  <a:pt x="4837" y="14957"/>
                </a:cubicBezTo>
                <a:cubicBezTo>
                  <a:pt x="4857" y="15155"/>
                  <a:pt x="4865" y="15188"/>
                  <a:pt x="4862" y="15304"/>
                </a:cubicBezTo>
                <a:cubicBezTo>
                  <a:pt x="5184" y="15275"/>
                  <a:pt x="5459" y="15182"/>
                  <a:pt x="5779" y="15106"/>
                </a:cubicBezTo>
                <a:cubicBezTo>
                  <a:pt x="6377" y="14964"/>
                  <a:pt x="7000" y="14817"/>
                  <a:pt x="7615" y="14784"/>
                </a:cubicBezTo>
                <a:cubicBezTo>
                  <a:pt x="7786" y="14775"/>
                  <a:pt x="7991" y="14797"/>
                  <a:pt x="8161" y="14759"/>
                </a:cubicBezTo>
                <a:cubicBezTo>
                  <a:pt x="8242" y="14741"/>
                  <a:pt x="8326" y="14705"/>
                  <a:pt x="8409" y="14684"/>
                </a:cubicBezTo>
                <a:cubicBezTo>
                  <a:pt x="8544" y="14651"/>
                  <a:pt x="8628" y="14650"/>
                  <a:pt x="8756" y="14660"/>
                </a:cubicBezTo>
                <a:cubicBezTo>
                  <a:pt x="8764" y="14660"/>
                  <a:pt x="8773" y="14660"/>
                  <a:pt x="8781" y="14660"/>
                </a:cubicBezTo>
                <a:cubicBezTo>
                  <a:pt x="8745" y="14496"/>
                  <a:pt x="8705" y="14331"/>
                  <a:pt x="8682" y="14163"/>
                </a:cubicBezTo>
                <a:cubicBezTo>
                  <a:pt x="8646" y="13898"/>
                  <a:pt x="8632" y="13637"/>
                  <a:pt x="8632" y="13370"/>
                </a:cubicBezTo>
                <a:cubicBezTo>
                  <a:pt x="8632" y="13353"/>
                  <a:pt x="8632" y="13337"/>
                  <a:pt x="8632" y="13320"/>
                </a:cubicBezTo>
                <a:cubicBezTo>
                  <a:pt x="8431" y="13338"/>
                  <a:pt x="8240" y="13384"/>
                  <a:pt x="8037" y="13419"/>
                </a:cubicBezTo>
                <a:cubicBezTo>
                  <a:pt x="7613" y="13493"/>
                  <a:pt x="7158" y="13534"/>
                  <a:pt x="6747" y="13667"/>
                </a:cubicBezTo>
                <a:cubicBezTo>
                  <a:pt x="6532" y="13737"/>
                  <a:pt x="6342" y="13793"/>
                  <a:pt x="6127" y="13841"/>
                </a:cubicBezTo>
                <a:cubicBezTo>
                  <a:pt x="5945" y="13882"/>
                  <a:pt x="5761" y="13904"/>
                  <a:pt x="5581" y="13940"/>
                </a:cubicBezTo>
                <a:cubicBezTo>
                  <a:pt x="5320" y="13992"/>
                  <a:pt x="4977" y="13934"/>
                  <a:pt x="4738" y="14015"/>
                </a:cubicBezTo>
                <a:cubicBezTo>
                  <a:pt x="4660" y="14042"/>
                  <a:pt x="4637" y="14074"/>
                  <a:pt x="4564" y="141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685800" y="304560"/>
            <a:ext cx="7391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Word Problem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1.) Five friends share a stack of notebook paper. Each receives 11 pieces of paper. Write and solve a division equation to find the total amount of notebook paper.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"/>
          <p:cNvSpPr/>
          <p:nvPr/>
        </p:nvSpPr>
        <p:spPr>
          <a:xfrm>
            <a:off x="3483000" y="3197160"/>
            <a:ext cx="204840" cy="268200"/>
          </a:xfrm>
          <a:custGeom>
            <a:avLst/>
            <a:gdLst/>
            <a:ahLst/>
            <a:rect l="l" t="t" r="r" b="b"/>
            <a:pathLst>
              <a:path w="571" h="745">
                <a:moveTo>
                  <a:pt x="10145" y="8880"/>
                </a:moveTo>
                <a:cubicBezTo>
                  <a:pt x="10084" y="8884"/>
                  <a:pt x="9854" y="8877"/>
                  <a:pt x="9847" y="8930"/>
                </a:cubicBezTo>
                <a:cubicBezTo>
                  <a:pt x="9835" y="9018"/>
                  <a:pt x="9847" y="9114"/>
                  <a:pt x="9847" y="9203"/>
                </a:cubicBezTo>
                <a:cubicBezTo>
                  <a:pt x="9923" y="9165"/>
                  <a:pt x="10016" y="9017"/>
                  <a:pt x="10145" y="9128"/>
                </a:cubicBezTo>
                <a:cubicBezTo>
                  <a:pt x="10384" y="9334"/>
                  <a:pt x="10100" y="9755"/>
                  <a:pt x="9823" y="9624"/>
                </a:cubicBezTo>
                <a:cubicBezTo>
                  <a:pt x="9773" y="9566"/>
                  <a:pt x="9724" y="9509"/>
                  <a:pt x="9674" y="94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143240" y="3081240"/>
            <a:ext cx="258840" cy="241560"/>
          </a:xfrm>
          <a:custGeom>
            <a:avLst/>
            <a:gdLst/>
            <a:ahLst/>
            <a:rect l="l" t="t" r="r" b="b"/>
            <a:pathLst>
              <a:path w="721" h="670">
                <a:moveTo>
                  <a:pt x="11509" y="8657"/>
                </a:moveTo>
                <a:cubicBezTo>
                  <a:pt x="11533" y="8824"/>
                  <a:pt x="11588" y="9009"/>
                  <a:pt x="11584" y="9178"/>
                </a:cubicBezTo>
                <a:cubicBezTo>
                  <a:pt x="11576" y="9194"/>
                  <a:pt x="11567" y="9211"/>
                  <a:pt x="11559" y="9227"/>
                </a:cubicBezTo>
                <a:cubicBezTo>
                  <a:pt x="11559" y="9070"/>
                  <a:pt x="11551" y="8934"/>
                  <a:pt x="11609" y="8781"/>
                </a:cubicBezTo>
                <a:cubicBezTo>
                  <a:pt x="11717" y="8499"/>
                  <a:pt x="11959" y="8507"/>
                  <a:pt x="12129" y="8731"/>
                </a:cubicBezTo>
                <a:cubicBezTo>
                  <a:pt x="12263" y="8906"/>
                  <a:pt x="12233" y="9032"/>
                  <a:pt x="12204" y="92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633840" y="3330720"/>
            <a:ext cx="1251000" cy="492120"/>
          </a:xfrm>
          <a:custGeom>
            <a:avLst/>
            <a:gdLst/>
            <a:ahLst/>
            <a:rect l="l" t="t" r="r" b="b"/>
            <a:pathLst>
              <a:path w="3473" h="1365">
                <a:moveTo>
                  <a:pt x="11509" y="9475"/>
                </a:moveTo>
                <a:cubicBezTo>
                  <a:pt x="11858" y="9407"/>
                  <a:pt x="12196" y="9341"/>
                  <a:pt x="12551" y="9327"/>
                </a:cubicBezTo>
              </a:path>
              <a:path w="3473" h="1365">
                <a:moveTo>
                  <a:pt x="13568" y="9475"/>
                </a:moveTo>
                <a:lnTo>
                  <a:pt x="13568" y="9475"/>
                </a:lnTo>
              </a:path>
              <a:path w="3473" h="1365">
                <a:moveTo>
                  <a:pt x="11063" y="9252"/>
                </a:moveTo>
                <a:cubicBezTo>
                  <a:pt x="11003" y="9383"/>
                  <a:pt x="10901" y="9846"/>
                  <a:pt x="10790" y="9624"/>
                </a:cubicBezTo>
              </a:path>
              <a:path w="3473" h="1365">
                <a:moveTo>
                  <a:pt x="10195" y="10120"/>
                </a:moveTo>
                <a:cubicBezTo>
                  <a:pt x="10170" y="10294"/>
                  <a:pt x="10145" y="10447"/>
                  <a:pt x="10096" y="106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456000" y="3544920"/>
            <a:ext cx="276120" cy="71280"/>
          </a:xfrm>
          <a:custGeom>
            <a:avLst/>
            <a:gdLst/>
            <a:ahLst/>
            <a:rect l="l" t="t" r="r" b="b"/>
            <a:pathLst>
              <a:path w="770" h="200">
                <a:moveTo>
                  <a:pt x="9599" y="10046"/>
                </a:moveTo>
                <a:cubicBezTo>
                  <a:pt x="9823" y="9996"/>
                  <a:pt x="10032" y="9847"/>
                  <a:pt x="10269" y="9847"/>
                </a:cubicBezTo>
                <a:cubicBezTo>
                  <a:pt x="10302" y="9864"/>
                  <a:pt x="10335" y="9880"/>
                  <a:pt x="10368" y="98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902040" y="3340080"/>
            <a:ext cx="571680" cy="384120"/>
          </a:xfrm>
          <a:custGeom>
            <a:avLst/>
            <a:gdLst/>
            <a:ahLst/>
            <a:rect l="l" t="t" r="r" b="b"/>
            <a:pathLst>
              <a:path w="1588" h="1068">
                <a:moveTo>
                  <a:pt x="12179" y="9624"/>
                </a:moveTo>
                <a:cubicBezTo>
                  <a:pt x="12109" y="9630"/>
                  <a:pt x="11949" y="9624"/>
                  <a:pt x="11931" y="9699"/>
                </a:cubicBezTo>
                <a:cubicBezTo>
                  <a:pt x="11909" y="9792"/>
                  <a:pt x="11893" y="9901"/>
                  <a:pt x="11881" y="9996"/>
                </a:cubicBezTo>
                <a:cubicBezTo>
                  <a:pt x="12024" y="9956"/>
                  <a:pt x="12197" y="9867"/>
                  <a:pt x="12353" y="9947"/>
                </a:cubicBezTo>
                <a:cubicBezTo>
                  <a:pt x="12378" y="9980"/>
                  <a:pt x="12402" y="10013"/>
                  <a:pt x="12427" y="10046"/>
                </a:cubicBezTo>
                <a:cubicBezTo>
                  <a:pt x="12319" y="10263"/>
                  <a:pt x="12142" y="10438"/>
                  <a:pt x="11857" y="10319"/>
                </a:cubicBezTo>
                <a:cubicBezTo>
                  <a:pt x="11751" y="10214"/>
                  <a:pt x="11721" y="10173"/>
                  <a:pt x="11832" y="10071"/>
                </a:cubicBezTo>
              </a:path>
              <a:path w="1588" h="1068">
                <a:moveTo>
                  <a:pt x="10840" y="9277"/>
                </a:moveTo>
                <a:cubicBezTo>
                  <a:pt x="10941" y="9408"/>
                  <a:pt x="11039" y="9541"/>
                  <a:pt x="11137" y="96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705200" y="3125880"/>
            <a:ext cx="1206720" cy="366480"/>
          </a:xfrm>
          <a:custGeom>
            <a:avLst/>
            <a:gdLst/>
            <a:ahLst/>
            <a:rect l="l" t="t" r="r" b="b"/>
            <a:pathLst>
              <a:path w="3350" h="1018">
                <a:moveTo>
                  <a:pt x="13097" y="9302"/>
                </a:moveTo>
                <a:cubicBezTo>
                  <a:pt x="13222" y="9284"/>
                  <a:pt x="13368" y="9222"/>
                  <a:pt x="13494" y="9227"/>
                </a:cubicBezTo>
                <a:cubicBezTo>
                  <a:pt x="13544" y="9277"/>
                  <a:pt x="13527" y="9310"/>
                  <a:pt x="13419" y="9351"/>
                </a:cubicBezTo>
              </a:path>
              <a:path w="3350" h="1018">
                <a:moveTo>
                  <a:pt x="13072" y="9575"/>
                </a:moveTo>
                <a:cubicBezTo>
                  <a:pt x="13240" y="9546"/>
                  <a:pt x="13402" y="9515"/>
                  <a:pt x="13568" y="9475"/>
                </a:cubicBezTo>
              </a:path>
              <a:path w="3350" h="1018">
                <a:moveTo>
                  <a:pt x="14064" y="9029"/>
                </a:moveTo>
                <a:cubicBezTo>
                  <a:pt x="14064" y="9237"/>
                  <a:pt x="14080" y="9442"/>
                  <a:pt x="14089" y="9649"/>
                </a:cubicBezTo>
              </a:path>
              <a:path w="3350" h="1018">
                <a:moveTo>
                  <a:pt x="14560" y="8979"/>
                </a:moveTo>
                <a:cubicBezTo>
                  <a:pt x="14593" y="9220"/>
                  <a:pt x="14576" y="9455"/>
                  <a:pt x="14560" y="9699"/>
                </a:cubicBezTo>
                <a:cubicBezTo>
                  <a:pt x="14560" y="9682"/>
                  <a:pt x="14560" y="9666"/>
                  <a:pt x="14560" y="9649"/>
                </a:cubicBezTo>
              </a:path>
              <a:path w="3350" h="1018">
                <a:moveTo>
                  <a:pt x="15156" y="9079"/>
                </a:moveTo>
                <a:cubicBezTo>
                  <a:pt x="15242" y="9180"/>
                  <a:pt x="15284" y="9494"/>
                  <a:pt x="15379" y="9401"/>
                </a:cubicBezTo>
                <a:cubicBezTo>
                  <a:pt x="15387" y="9376"/>
                  <a:pt x="15396" y="9352"/>
                  <a:pt x="15404" y="9327"/>
                </a:cubicBezTo>
              </a:path>
              <a:path w="3350" h="1018">
                <a:moveTo>
                  <a:pt x="15379" y="9029"/>
                </a:moveTo>
                <a:cubicBezTo>
                  <a:pt x="15274" y="9191"/>
                  <a:pt x="15019" y="9583"/>
                  <a:pt x="15131" y="9426"/>
                </a:cubicBezTo>
                <a:cubicBezTo>
                  <a:pt x="15197" y="9335"/>
                  <a:pt x="15263" y="9244"/>
                  <a:pt x="15329" y="9153"/>
                </a:cubicBezTo>
              </a:path>
              <a:path w="3350" h="1018">
                <a:moveTo>
                  <a:pt x="16173" y="8682"/>
                </a:moveTo>
                <a:cubicBezTo>
                  <a:pt x="16132" y="8686"/>
                  <a:pt x="16023" y="8687"/>
                  <a:pt x="15999" y="8731"/>
                </a:cubicBezTo>
                <a:cubicBezTo>
                  <a:pt x="15957" y="8809"/>
                  <a:pt x="15921" y="8920"/>
                  <a:pt x="15900" y="9004"/>
                </a:cubicBezTo>
                <a:cubicBezTo>
                  <a:pt x="16077" y="8960"/>
                  <a:pt x="16269" y="8819"/>
                  <a:pt x="16396" y="9054"/>
                </a:cubicBezTo>
                <a:cubicBezTo>
                  <a:pt x="16671" y="9562"/>
                  <a:pt x="15818" y="9248"/>
                  <a:pt x="15751" y="92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741920" y="4062240"/>
            <a:ext cx="731880" cy="349560"/>
          </a:xfrm>
          <a:custGeom>
            <a:avLst/>
            <a:gdLst/>
            <a:ahLst/>
            <a:rect l="l" t="t" r="r" b="b"/>
            <a:pathLst>
              <a:path w="2035" h="969">
                <a:moveTo>
                  <a:pt x="13171" y="12254"/>
                </a:moveTo>
                <a:cubicBezTo>
                  <a:pt x="13314" y="12230"/>
                  <a:pt x="13359" y="12224"/>
                  <a:pt x="13444" y="12179"/>
                </a:cubicBezTo>
              </a:path>
              <a:path w="2035" h="969">
                <a:moveTo>
                  <a:pt x="13444" y="12179"/>
                </a:moveTo>
                <a:lnTo>
                  <a:pt x="13444" y="12179"/>
                </a:lnTo>
              </a:path>
              <a:path w="2035" h="969">
                <a:moveTo>
                  <a:pt x="14858" y="11336"/>
                </a:moveTo>
                <a:cubicBezTo>
                  <a:pt x="15054" y="11296"/>
                  <a:pt x="15119" y="11231"/>
                  <a:pt x="15205" y="113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125960" y="3919680"/>
            <a:ext cx="1643040" cy="849240"/>
          </a:xfrm>
          <a:custGeom>
            <a:avLst/>
            <a:gdLst/>
            <a:ahLst/>
            <a:rect l="l" t="t" r="r" b="b"/>
            <a:pathLst>
              <a:path w="4565" h="2358">
                <a:moveTo>
                  <a:pt x="12402" y="12179"/>
                </a:moveTo>
                <a:cubicBezTo>
                  <a:pt x="12396" y="12304"/>
                  <a:pt x="12385" y="12426"/>
                  <a:pt x="12378" y="12551"/>
                </a:cubicBezTo>
                <a:cubicBezTo>
                  <a:pt x="12348" y="12432"/>
                  <a:pt x="12363" y="12228"/>
                  <a:pt x="12427" y="12105"/>
                </a:cubicBezTo>
                <a:cubicBezTo>
                  <a:pt x="12597" y="11774"/>
                  <a:pt x="12857" y="12135"/>
                  <a:pt x="12898" y="12328"/>
                </a:cubicBezTo>
                <a:cubicBezTo>
                  <a:pt x="12910" y="12386"/>
                  <a:pt x="12856" y="12576"/>
                  <a:pt x="12898" y="12402"/>
                </a:cubicBezTo>
              </a:path>
              <a:path w="4565" h="2358">
                <a:moveTo>
                  <a:pt x="13196" y="12005"/>
                </a:moveTo>
                <a:cubicBezTo>
                  <a:pt x="13282" y="11993"/>
                  <a:pt x="13356" y="11981"/>
                  <a:pt x="13444" y="11981"/>
                </a:cubicBezTo>
              </a:path>
              <a:path w="4565" h="2358">
                <a:moveTo>
                  <a:pt x="14064" y="11658"/>
                </a:moveTo>
                <a:cubicBezTo>
                  <a:pt x="14021" y="11721"/>
                  <a:pt x="13968" y="11792"/>
                  <a:pt x="13940" y="11857"/>
                </a:cubicBezTo>
                <a:cubicBezTo>
                  <a:pt x="14098" y="11876"/>
                  <a:pt x="14189" y="11914"/>
                  <a:pt x="14312" y="12005"/>
                </a:cubicBezTo>
                <a:cubicBezTo>
                  <a:pt x="14138" y="12305"/>
                  <a:pt x="14049" y="12343"/>
                  <a:pt x="13940" y="12005"/>
                </a:cubicBezTo>
              </a:path>
              <a:path w="4565" h="2358">
                <a:moveTo>
                  <a:pt x="14188" y="11584"/>
                </a:moveTo>
                <a:cubicBezTo>
                  <a:pt x="14333" y="11530"/>
                  <a:pt x="14544" y="11428"/>
                  <a:pt x="14709" y="11485"/>
                </a:cubicBezTo>
                <a:cubicBezTo>
                  <a:pt x="14744" y="11497"/>
                  <a:pt x="14617" y="11764"/>
                  <a:pt x="14610" y="11782"/>
                </a:cubicBezTo>
                <a:cubicBezTo>
                  <a:pt x="14602" y="11790"/>
                  <a:pt x="14593" y="11799"/>
                  <a:pt x="14585" y="11807"/>
                </a:cubicBezTo>
                <a:cubicBezTo>
                  <a:pt x="14697" y="11760"/>
                  <a:pt x="15089" y="11594"/>
                  <a:pt x="15032" y="11906"/>
                </a:cubicBezTo>
                <a:cubicBezTo>
                  <a:pt x="14981" y="12186"/>
                  <a:pt x="14794" y="12064"/>
                  <a:pt x="14660" y="12005"/>
                </a:cubicBezTo>
              </a:path>
              <a:path w="4565" h="2358">
                <a:moveTo>
                  <a:pt x="12477" y="12799"/>
                </a:moveTo>
                <a:cubicBezTo>
                  <a:pt x="13148" y="12880"/>
                  <a:pt x="13906" y="12792"/>
                  <a:pt x="14560" y="12601"/>
                </a:cubicBezTo>
                <a:cubicBezTo>
                  <a:pt x="15182" y="12419"/>
                  <a:pt x="15564" y="12147"/>
                  <a:pt x="16024" y="11733"/>
                </a:cubicBezTo>
                <a:cubicBezTo>
                  <a:pt x="15589" y="11037"/>
                  <a:pt x="14620" y="10786"/>
                  <a:pt x="13767" y="10889"/>
                </a:cubicBezTo>
                <a:cubicBezTo>
                  <a:pt x="12427" y="11051"/>
                  <a:pt x="11736" y="12103"/>
                  <a:pt x="11460" y="13246"/>
                </a:cubicBezTo>
                <a:cubicBezTo>
                  <a:pt x="12322" y="13216"/>
                  <a:pt x="12701" y="13174"/>
                  <a:pt x="13295" y="129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mework: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W 165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# 5,6,13-18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4T17:59:31Z</dcterms:created>
  <dc:creator>ccps</dc:creator>
  <dc:description/>
  <dc:language>en-US</dc:language>
  <cp:lastModifiedBy>deanne elizabeth mcgrath</cp:lastModifiedBy>
  <dcterms:modified xsi:type="dcterms:W3CDTF">2011-12-12T20:25:06Z</dcterms:modified>
  <cp:revision>25</cp:revision>
  <dc:subject/>
  <dc:title>Chapter 2 Integer Operations</dc:title>
</cp:coreProperties>
</file>